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109.xml" ContentType="application/vnd.openxmlformats-officedocument.theme+xml"/>
  <Override PartName="/ppt/theme/theme51.xml" ContentType="application/vnd.openxmlformats-officedocument.theme+xml"/>
  <Override PartName="/ppt/theme/theme108.xml" ContentType="application/vnd.openxmlformats-officedocument.theme+xml"/>
  <Override PartName="/ppt/theme/theme50.xml" ContentType="application/vnd.openxmlformats-officedocument.theme+xml"/>
  <Override PartName="/ppt/theme/theme107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70.xml" ContentType="application/vnd.openxmlformats-officedocument.theme+xml"/>
  <Override PartName="/ppt/theme/theme69.xml" ContentType="application/vnd.openxmlformats-officedocument.theme+xml"/>
  <Override PartName="/ppt/theme/theme71.xml" ContentType="application/vnd.openxmlformats-officedocument.theme+xml"/>
  <Override PartName="/ppt/theme/theme72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88.xml" ContentType="application/vnd.openxmlformats-officedocument.theme+xml"/>
  <Override PartName="/ppt/theme/theme87.xml" ContentType="application/vnd.openxmlformats-officedocument.theme+xml"/>
  <Override PartName="/ppt/theme/theme106.xml" ContentType="application/vnd.openxmlformats-officedocument.theme+xml"/>
  <Override PartName="/ppt/theme/theme86.xml" ContentType="application/vnd.openxmlformats-officedocument.theme+xml"/>
  <Override PartName="/ppt/theme/theme105.xml" ContentType="application/vnd.openxmlformats-officedocument.theme+xml"/>
  <Override PartName="/ppt/theme/theme85.xml" ContentType="application/vnd.openxmlformats-officedocument.theme+xml"/>
  <Override PartName="/ppt/theme/theme10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0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2.xml" ContentType="application/vnd.openxmlformats-officedocument.theme+xml"/>
  <Override PartName="/ppt/theme/theme102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98.xml" ContentType="application/vnd.openxmlformats-officedocument.theme+xml"/>
  <Override PartName="/ppt/theme/theme61.xml" ContentType="application/vnd.openxmlformats-officedocument.theme+xml"/>
  <Override PartName="/ppt/theme/theme101.xml" ContentType="application/vnd.openxmlformats-officedocument.theme+xml"/>
  <Override PartName="/ppt/theme/theme97.xml" ContentType="application/vnd.openxmlformats-officedocument.theme+xml"/>
  <Override PartName="/ppt/theme/theme60.xml" ContentType="application/vnd.openxmlformats-officedocument.theme+xml"/>
  <Override PartName="/ppt/theme/theme99.xml" ContentType="application/vnd.openxmlformats-officedocument.theme+xml"/>
  <Override PartName="/ppt/theme/theme110.xml" ContentType="application/vnd.openxmlformats-officedocument.theme+xml"/>
  <Override PartName="/ppt/theme/theme65.xml" ContentType="application/vnd.openxmlformats-officedocument.theme+xml"/>
  <Override PartName="/ppt/theme/theme96.xml" ContentType="application/vnd.openxmlformats-officedocument.theme+xml"/>
  <Override PartName="/ppt/theme/theme79.xml" ContentType="application/vnd.openxmlformats-officedocument.theme+xml"/>
  <Override PartName="/ppt/theme/theme89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68.xml" ContentType="application/vnd.openxmlformats-officedocument.theme+xml"/>
  <Override PartName="/ppt/theme/theme67.xml" ContentType="application/vnd.openxmlformats-officedocument.theme+xml"/>
  <Override PartName="/ppt/theme/theme66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29.xml" ContentType="application/vnd.openxmlformats-officedocument.theme+xml"/>
  <Override PartName="/ppt/theme/theme94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</p:sldMasterIdLst>
  <p:notesMasterIdLst>
    <p:notesMasterId r:id="rId111"/>
  </p:notesMasterIdLst>
  <p:sldIdLst>
    <p:sldId id="256" r:id="rId112"/>
    <p:sldId id="257" r:id="rId113"/>
    <p:sldId id="258" r:id="rId114"/>
    <p:sldId id="259" r:id="rId115"/>
    <p:sldId id="260" r:id="rId116"/>
    <p:sldId id="261" r:id="rId117"/>
    <p:sldId id="262" r:id="rId118"/>
    <p:sldId id="263" r:id="rId119"/>
    <p:sldId id="264" r:id="rId120"/>
    <p:sldId id="265" r:id="rId121"/>
    <p:sldId id="266" r:id="rId122"/>
    <p:sldId id="267" r:id="rId123"/>
    <p:sldId id="268" r:id="rId124"/>
    <p:sldId id="269" r:id="rId125"/>
    <p:sldId id="270" r:id="rId126"/>
    <p:sldId id="271" r:id="rId127"/>
    <p:sldId id="272" r:id="rId128"/>
    <p:sldId id="273" r:id="rId129"/>
    <p:sldId id="274" r:id="rId130"/>
    <p:sldId id="275" r:id="rId131"/>
    <p:sldId id="276" r:id="rId132"/>
    <p:sldId id="277" r:id="rId133"/>
    <p:sldId id="278" r:id="rId134"/>
    <p:sldId id="279" r:id="rId135"/>
    <p:sldId id="280" r:id="rId136"/>
    <p:sldId id="281" r:id="rId137"/>
    <p:sldId id="282" r:id="rId138"/>
    <p:sldId id="283" r:id="rId139"/>
    <p:sldId id="284" r:id="rId140"/>
    <p:sldId id="285" r:id="rId141"/>
    <p:sldId id="286" r:id="rId142"/>
    <p:sldId id="287" r:id="rId143"/>
    <p:sldId id="288" r:id="rId144"/>
    <p:sldId id="289" r:id="rId145"/>
    <p:sldId id="290" r:id="rId146"/>
    <p:sldId id="291" r:id="rId147"/>
    <p:sldId id="292" r:id="rId148"/>
    <p:sldId id="293" r:id="rId149"/>
    <p:sldId id="294" r:id="rId150"/>
    <p:sldId id="295" r:id="rId151"/>
    <p:sldId id="296" r:id="rId152"/>
    <p:sldId id="297" r:id="rId153"/>
    <p:sldId id="298" r:id="rId154"/>
    <p:sldId id="299" r:id="rId1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notesMaster" Target="notesMasters/notesMaster1.xml"/><Relationship Id="rId112" Type="http://schemas.openxmlformats.org/officeDocument/2006/relationships/slide" Target="slides/slide1.xml"/><Relationship Id="rId113" Type="http://schemas.openxmlformats.org/officeDocument/2006/relationships/slide" Target="slides/slide2.xml"/><Relationship Id="rId114" Type="http://schemas.openxmlformats.org/officeDocument/2006/relationships/slide" Target="slides/slide3.xml"/><Relationship Id="rId115" Type="http://schemas.openxmlformats.org/officeDocument/2006/relationships/slide" Target="slides/slide4.xml"/><Relationship Id="rId116" Type="http://schemas.openxmlformats.org/officeDocument/2006/relationships/slide" Target="slides/slide5.xml"/><Relationship Id="rId117" Type="http://schemas.openxmlformats.org/officeDocument/2006/relationships/slide" Target="slides/slide6.xml"/><Relationship Id="rId118" Type="http://schemas.openxmlformats.org/officeDocument/2006/relationships/slide" Target="slides/slide7.xml"/><Relationship Id="rId119" Type="http://schemas.openxmlformats.org/officeDocument/2006/relationships/slide" Target="slides/slide8.xml"/><Relationship Id="rId120" Type="http://schemas.openxmlformats.org/officeDocument/2006/relationships/slide" Target="slides/slide9.xml"/><Relationship Id="rId121" Type="http://schemas.openxmlformats.org/officeDocument/2006/relationships/slide" Target="slides/slide10.xml"/><Relationship Id="rId122" Type="http://schemas.openxmlformats.org/officeDocument/2006/relationships/slide" Target="slides/slide11.xml"/><Relationship Id="rId123" Type="http://schemas.openxmlformats.org/officeDocument/2006/relationships/slide" Target="slides/slide12.xml"/><Relationship Id="rId124" Type="http://schemas.openxmlformats.org/officeDocument/2006/relationships/slide" Target="slides/slide13.xml"/><Relationship Id="rId125" Type="http://schemas.openxmlformats.org/officeDocument/2006/relationships/slide" Target="slides/slide14.xml"/><Relationship Id="rId126" Type="http://schemas.openxmlformats.org/officeDocument/2006/relationships/slide" Target="slides/slide15.xml"/><Relationship Id="rId127" Type="http://schemas.openxmlformats.org/officeDocument/2006/relationships/slide" Target="slides/slide16.xml"/><Relationship Id="rId128" Type="http://schemas.openxmlformats.org/officeDocument/2006/relationships/slide" Target="slides/slide17.xml"/><Relationship Id="rId129" Type="http://schemas.openxmlformats.org/officeDocument/2006/relationships/slide" Target="slides/slide18.xml"/><Relationship Id="rId130" Type="http://schemas.openxmlformats.org/officeDocument/2006/relationships/slide" Target="slides/slide19.xml"/><Relationship Id="rId131" Type="http://schemas.openxmlformats.org/officeDocument/2006/relationships/slide" Target="slides/slide20.xml"/><Relationship Id="rId132" Type="http://schemas.openxmlformats.org/officeDocument/2006/relationships/slide" Target="slides/slide21.xml"/><Relationship Id="rId133" Type="http://schemas.openxmlformats.org/officeDocument/2006/relationships/slide" Target="slides/slide22.xml"/><Relationship Id="rId134" Type="http://schemas.openxmlformats.org/officeDocument/2006/relationships/slide" Target="slides/slide23.xml"/><Relationship Id="rId135" Type="http://schemas.openxmlformats.org/officeDocument/2006/relationships/slide" Target="slides/slide24.xml"/><Relationship Id="rId136" Type="http://schemas.openxmlformats.org/officeDocument/2006/relationships/slide" Target="slides/slide25.xml"/><Relationship Id="rId137" Type="http://schemas.openxmlformats.org/officeDocument/2006/relationships/slide" Target="slides/slide26.xml"/><Relationship Id="rId138" Type="http://schemas.openxmlformats.org/officeDocument/2006/relationships/slide" Target="slides/slide27.xml"/><Relationship Id="rId139" Type="http://schemas.openxmlformats.org/officeDocument/2006/relationships/slide" Target="slides/slide28.xml"/><Relationship Id="rId140" Type="http://schemas.openxmlformats.org/officeDocument/2006/relationships/slide" Target="slides/slide29.xml"/><Relationship Id="rId141" Type="http://schemas.openxmlformats.org/officeDocument/2006/relationships/slide" Target="slides/slide30.xml"/><Relationship Id="rId142" Type="http://schemas.openxmlformats.org/officeDocument/2006/relationships/slide" Target="slides/slide31.xml"/><Relationship Id="rId143" Type="http://schemas.openxmlformats.org/officeDocument/2006/relationships/slide" Target="slides/slide32.xml"/><Relationship Id="rId144" Type="http://schemas.openxmlformats.org/officeDocument/2006/relationships/slide" Target="slides/slide33.xml"/><Relationship Id="rId145" Type="http://schemas.openxmlformats.org/officeDocument/2006/relationships/slide" Target="slides/slide34.xml"/><Relationship Id="rId146" Type="http://schemas.openxmlformats.org/officeDocument/2006/relationships/slide" Target="slides/slide35.xml"/><Relationship Id="rId147" Type="http://schemas.openxmlformats.org/officeDocument/2006/relationships/slide" Target="slides/slide36.xml"/><Relationship Id="rId148" Type="http://schemas.openxmlformats.org/officeDocument/2006/relationships/slide" Target="slides/slide37.xml"/><Relationship Id="rId149" Type="http://schemas.openxmlformats.org/officeDocument/2006/relationships/slide" Target="slides/slide38.xml"/><Relationship Id="rId150" Type="http://schemas.openxmlformats.org/officeDocument/2006/relationships/slide" Target="slides/slide39.xml"/><Relationship Id="rId151" Type="http://schemas.openxmlformats.org/officeDocument/2006/relationships/slide" Target="slides/slide40.xml"/><Relationship Id="rId152" Type="http://schemas.openxmlformats.org/officeDocument/2006/relationships/slide" Target="slides/slide41.xml"/><Relationship Id="rId153" Type="http://schemas.openxmlformats.org/officeDocument/2006/relationships/slide" Target="slides/slide42.xml"/><Relationship Id="rId154" Type="http://schemas.openxmlformats.org/officeDocument/2006/relationships/slide" Target="slides/slide43.xml"/><Relationship Id="rId155" Type="http://schemas.openxmlformats.org/officeDocument/2006/relationships/slide" Target="slides/slide44.xml"/><Relationship Id="rId1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2" name="PlaceHolder 2"/>
          <p:cNvSpPr>
            <a:spLocks noGrp="1"/>
          </p:cNvSpPr>
          <p:nvPr>
            <p:ph type="dt" idx="2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3EA5-A320-4304-98AD-168C1E5F98F2}" type="datetime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5" name="PlaceHolder 5"/>
          <p:cNvSpPr>
            <a:spLocks noGrp="1"/>
          </p:cNvSpPr>
          <p:nvPr>
            <p:ph type="ftr" idx="2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6" name="PlaceHolder 6"/>
          <p:cNvSpPr>
            <a:spLocks noGrp="1"/>
          </p:cNvSpPr>
          <p:nvPr>
            <p:ph type="sldNum" idx="2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1726-3DB6-4C6E-B0A1-3EE8D34734F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B225890-4C64-47FB-BC92-082942A5A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1239-E343-4633-A474-9DE1A4A7B9C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9A1F-EC4E-41F6-88D9-FE657C33323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82C7-301A-4992-A0D0-20C1498DCB5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3E32-386E-4216-911A-B5608FF8E87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A306-2017-4AFD-8C85-FE7777773E0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3E9D-8B1F-4554-8704-B8AD3A0CDB1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B242-5ACB-4F0F-BA61-4EDB5C6A3BF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772F-286B-4433-A3DF-B1A386DE753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1CA4-992A-47C4-9CF6-9F252D95347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E9EEE7C-7C93-4F50-9621-6C387BDB22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4B549-CC3D-4885-BD8B-4EA4BEED4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B8ED5-0A7E-4712-89B4-92478F027FB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8B923-08F0-4C17-9011-258BBC71D0F5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42CEFCE-6B7E-4138-B7E3-7530C903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B459622-44A7-4C97-BA6D-2916B900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9282DC7-5000-4630-AEEF-C7931529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382D435-7B54-4FD9-86ED-25C280D7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D7AB2CA-AEFF-4A07-BE0A-85403763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B654801-3D17-4EAC-ABBC-BCEEE4B5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4D6EE08-473F-4C2C-B31D-D80E1509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4A94996-F759-4D16-92C0-629462BF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9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4BFE8D7-A14B-458B-BB2E-97DBE539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BD5F99B6-81C7-4E8B-90C9-FCA3C116B3D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70829-1E83-41DE-B7BB-BDFF0E605843}" type="slidenum">
              <a:t>&lt;#&gt;</a:t>
            </a:fld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0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3D303B51-EAC3-4781-86FB-F5AAF4F5657D}" type="slidenum">
              <a:t>&lt;#&gt;</a:t>
            </a:fld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C6EB424A-8E77-439F-B9EE-21FA31D6A510}" type="slidenum">
              <a:t>&lt;#&gt;</a:t>
            </a:fld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4CD24C3F-1E3F-4600-BC40-953DA6FFC409}" type="slidenum">
              <a:t>&lt;#&gt;</a:t>
            </a:fld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58B9A70F-117F-4B0A-82EF-87F91847A6CA}" type="slidenum">
              <a:t>&lt;#&gt;</a:t>
            </a:fld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59A8D100-6488-48D2-9826-6FE198456F30}" type="slidenum">
              <a:t>&lt;#&gt;</a:t>
            </a:fld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DCC3947C-3AE3-4DE3-98AB-15085D208A56}" type="slidenum">
              <a:t>&lt;#&gt;</a:t>
            </a:fld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DFBD6723-77BD-46AA-89EA-C4135C864BD8}" type="slidenum">
              <a:t>&lt;#&gt;</a:t>
            </a:fld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E57E699C-2622-4A89-9DB4-CB49449D53BD}" type="slidenum">
              <a:t>&lt;#&gt;</a:t>
            </a:fld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CF4F8AB0-8445-472A-AE72-1B7DF164AE30}" type="slidenum">
              <a:t>&lt;#&gt;</a:t>
            </a:fld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5B8FF74E-BC68-4109-B824-E1DDF7E861A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60F83-89C4-4E7C-8A2D-2065DB8E172B}" type="slidenum">
              <a:t>&lt;#&gt;</a:t>
            </a:fld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F7F85C9C-CE9A-4A44-A447-4F62F2137658}" type="slidenum">
              <a:t>&lt;#&gt;</a:t>
            </a:fld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E35A928-55C7-47AB-A1F3-7B6E7A5E0649}" type="slidenum">
              <a:t>&lt;#&gt;</a:t>
            </a:fld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96B1015F-3330-4D1D-AAE2-2F55A19C3BAE}" type="slidenum">
              <a:t>&lt;#&gt;</a:t>
            </a:fld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5489EBBB-EB84-4E75-A831-3565EEA0518C}" type="slidenum">
              <a:t>&lt;#&gt;</a:t>
            </a:fld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2158E85-B6A3-4654-AD56-E17C7A668270}" type="slidenum">
              <a:t>&lt;#&gt;</a:t>
            </a:fld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F543AD1C-C5FD-49D5-9B6B-AEE23DA22C22}" type="slidenum">
              <a:t>&lt;#&gt;</a:t>
            </a:fld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3FB718C-5B06-4230-801D-34AD4AD2419A}" type="slidenum">
              <a:t>&lt;#&gt;</a:t>
            </a:fld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161C45D-0944-4862-AD33-4DAF3EA4F4B9}" type="slidenum">
              <a:t>&lt;#&gt;</a:t>
            </a:fld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6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5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FBF84D7-4257-4FD2-B2E2-44D322A2EFDB}" type="slidenum">
              <a:t>&lt;#&gt;</a:t>
            </a:fld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6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F231A58F-F2ED-4D80-9CFB-7C38A1EB121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7CB09-03A8-4E71-88F1-ED37E71DEC29}" type="slidenum">
              <a:t>&lt;#&gt;</a:t>
            </a:fld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2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E4E30A4-ACD7-4524-A882-F908C9A350B3}" type="slidenum">
              <a:t>&lt;#&gt;</a:t>
            </a:fld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7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7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E175CCC-E3E3-4C4F-9476-53A329F321E9}" type="slidenum">
              <a:t>&lt;#&gt;</a:t>
            </a:fld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7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0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1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2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3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4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0CEC3D5-CD88-47C4-AB30-ECC4C9CCB125}" type="slidenum">
              <a:t>&lt;#&gt;</a:t>
            </a:fld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FFEEC90-E13D-4204-8988-4F54C2B13B84}" type="slidenum">
              <a:t>&lt;#&gt;</a:t>
            </a:fld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9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DDF775B-AD98-4DF7-A6F8-A86D93D48C00}" type="slidenum">
              <a:t>&lt;#&gt;</a:t>
            </a:fld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9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F155AC4-5248-4A77-94A1-C3817C1A0811}" type="slidenum">
              <a:t>&lt;#&gt;</a:t>
            </a:fld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9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320F14E-3A52-4F38-B4B8-B46C46CC052D}" type="slidenum">
              <a:t>&lt;#&gt;</a:t>
            </a:fld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FD2CF42-7BFC-4270-B240-39B91A459165}" type="slidenum">
              <a:t>&lt;#&gt;</a:t>
            </a:fld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37BB1A0-2962-4A28-B8B5-DB7F0251EB2E}" type="slidenum">
              <a:t>&lt;#&gt;</a:t>
            </a:fld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0CDE81D-26F3-45B8-A343-0598206AB35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68E6C-AFD9-4272-A5C0-FF2852ECBCEF}" type="slidenum">
              <a:t>&lt;#&gt;</a:t>
            </a:fld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A79DB38-CE48-43F7-8DC3-D4CB541EEB0B}" type="slidenum">
              <a:t>&lt;#&gt;</a:t>
            </a:fld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1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2420061-3EA2-40A0-9C5C-EA7BDF3ECE76}" type="slidenum">
              <a:t>&lt;#&gt;</a:t>
            </a:fld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98D8A97-F53A-40FD-9C2A-86081E8F739A}" type="slidenum">
              <a:t>&lt;#&gt;</a:t>
            </a:fld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E653350-A54E-47F2-BB1C-756AEA891D29}" type="slidenum">
              <a:t>&lt;#&gt;</a:t>
            </a:fld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2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2D86157-A36A-4771-A297-A81E2F3AC9FA}" type="slidenum">
              <a:t>&lt;#&gt;</a:t>
            </a:fld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091E5A0E-F249-46DB-A22B-A2620ED455CF}" type="slidenum">
              <a:t>&lt;#&gt;</a:t>
            </a:fld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36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70D660F3-806B-4192-82FA-A11E4D7876DD}" type="slidenum">
              <a:t>&lt;#&gt;</a:t>
            </a:fld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39E5E0E7-359E-40D8-9613-F445C8001A49}" type="slidenum">
              <a:t>&lt;#&gt;</a:t>
            </a:fld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86D5032D-2C64-4ACC-B4AC-3016ED3A4D0C}" type="slidenum">
              <a:t>&lt;#&gt;</a:t>
            </a:fld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2F4A97E6-C2E8-4BC2-B30C-8A6AF1D8897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E24BA-336E-4622-AF41-B53F7F38BD3F}" type="slidenum">
              <a:t>&lt;#&gt;</a:t>
            </a:fld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4E95EFD9-BF5E-4438-99C4-6CCDA0549C51}" type="slidenum">
              <a:t>&lt;#&gt;</a:t>
            </a:fld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4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A0E58BAE-8329-4194-A54E-5A8BD8ABC2C8}" type="slidenum">
              <a:t>&lt;#&gt;</a:t>
            </a:fld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1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73345BC2-B38C-4A8C-930F-CCD869E131A0}" type="slidenum">
              <a:t>&lt;#&gt;</a:t>
            </a:fld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D3F00D03-6975-4064-A292-52CBC46B6017}" type="slidenum">
              <a:t>&lt;#&gt;</a:t>
            </a:fld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5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8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AC87509B-CEEF-4C25-82CC-71195C478F4C}" type="slidenum">
              <a:t>&lt;#&gt;</a:t>
            </a:fld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3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D43553B9-4B6D-4CA0-9064-1A2661E1EF4F}" type="slidenum">
              <a:t>&lt;#&gt;</a:t>
            </a:fld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6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7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8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9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0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23150173-8289-4E4C-BDC2-C1CDCF98DE9E}" type="slidenum">
              <a:t>&lt;#&gt;</a:t>
            </a:fld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382CB7B-6363-417E-9092-AE6AA50AD23D}" type="slidenum">
              <a:t>&lt;#&gt;</a:t>
            </a:fld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7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CF0D102F-A61F-4660-90C2-7AFFA2457A68}" type="slidenum">
              <a:t>&lt;#&gt;</a:t>
            </a:fld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8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16E16B7-1342-43CA-862A-F3AF565315A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15FE2-47EF-41F6-B798-C8F838A78118}" type="slidenum">
              <a:t>&lt;#&gt;</a:t>
            </a:fld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F75DC40-CCF7-470E-A6AF-699F3F5F52C5}" type="slidenum">
              <a:t>&lt;#&gt;</a:t>
            </a:fld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FFFA697A-9CFA-466C-AC35-349F7346197A}" type="slidenum">
              <a:t>&lt;#&gt;</a:t>
            </a:fld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91CCBDC4-0111-4D87-A303-5A604D32FFFF}" type="slidenum">
              <a:t>&lt;#&gt;</a:t>
            </a:fld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8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B4BDFDD0-511D-4C6C-B855-79BB717A1B75}" type="slidenum">
              <a:t>&lt;#&gt;</a:t>
            </a:fld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9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D589827-48BF-4333-82BF-0BF17C7D1F21}" type="slidenum">
              <a:t>&lt;#&gt;</a:t>
            </a:fld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874C955-86CC-444A-AC47-0FA0D21FA11F}" type="slidenum">
              <a:t>&lt;#&gt;</a:t>
            </a:fld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90F51C2-BD6F-486B-94B3-A31715150D11}" type="slidenum">
              <a:t>&lt;#&gt;</a:t>
            </a:fld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0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BF23574-8871-4B51-91AF-165200FC7A78}" type="slidenum">
              <a:t>&lt;#&gt;</a:t>
            </a:fld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46755472-098E-4F8E-946C-740A0476B654}" type="slidenum">
              <a:t>&lt;#&gt;</a:t>
            </a:fld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0C3D39A-3497-48B4-818B-B3D489FC474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52513-72D7-4C60-BA46-8F5222F1C1AC}" type="slidenum">
              <a:t>&lt;#&gt;</a:t>
            </a:fld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22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B9858B6-30CC-4DA2-AC98-93B5F8EA3623}" type="slidenum">
              <a:t>&lt;#&gt;</a:t>
            </a:fld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671BB10-BD76-4B6B-BD11-AF3F031E657C}" type="slidenum">
              <a:t>&lt;#&gt;</a:t>
            </a:fld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2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61EA498-0AD1-44B2-BEA9-DBFA75490EED}" type="slidenum">
              <a:t>&lt;#&gt;</a:t>
            </a:fld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97FFEE5-2BD3-4C1C-B488-20B22FDDCAA5}" type="slidenum">
              <a:t>&lt;#&gt;</a:t>
            </a:fld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328C43D-85A0-4B94-984E-F771017FA34F}" type="slidenum">
              <a:t>&lt;#&gt;</a:t>
            </a:fld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3CAE263-4248-4FE9-9F6E-8F041C6BD7D8}" type="slidenum">
              <a:t>&lt;#&gt;</a:t>
            </a:fld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3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7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0A50733-9044-4329-BA50-06752D523694}" type="slidenum">
              <a:t>&lt;#&gt;</a:t>
            </a:fld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4AB273D-6D50-4D73-AA82-D17BC533E6EA}" type="slidenum">
              <a:t>&lt;#&gt;</a:t>
            </a:fld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4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89E8A7C-DD87-4B9F-A62E-C0BEC106D4BF}" type="slidenum">
              <a:t>&lt;#&gt;</a:t>
            </a:fld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4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9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3503E21-CD3D-4C42-82FD-B20B3926FC6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1AD0D-4102-41D3-A77E-A18D43B75CF7}" type="slidenum">
              <a:t>&lt;#&gt;</a:t>
            </a:fld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2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3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4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5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6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0F5FAE5-BB2E-4F41-95B6-E2CE2A4FB8C9}" type="slidenum">
              <a:t>&lt;#&gt;</a:t>
            </a:fld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B40645E8-BC23-4109-BBEF-72FB6D6A0E33}" type="slidenum">
              <a:t>&lt;#&gt;</a:t>
            </a:fld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65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7D6C76CA-3A35-4C0B-B92B-01B53B8DE2BB}" type="slidenum">
              <a:t>&lt;#&gt;</a:t>
            </a:fld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6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09168A9F-A1F8-415C-B790-387D785FAE65}" type="slidenum">
              <a:t>&lt;#&gt;</a:t>
            </a:fld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6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783C4DEE-249D-44A2-A7FF-F2BCAAD19918}" type="slidenum">
              <a:t>&lt;#&gt;</a:t>
            </a:fld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4155CABD-F94E-4E88-8868-85FF4EDB9A0E}" type="slidenum">
              <a:t>&lt;#&gt;</a:t>
            </a:fld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0191ABB4-0EE0-4586-AF94-FE770A403715}" type="slidenum">
              <a:t>&lt;#&gt;</a:t>
            </a:fld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3AA159A5-5245-49BB-80B1-3D90B4CF5888}" type="slidenum">
              <a:t>&lt;#&gt;</a:t>
            </a:fld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0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CFC12873-A5A8-4B19-993B-100D252C7CC6}" type="slidenum">
              <a:t>&lt;#&gt;</a:t>
            </a:fld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995B4F71-3BD3-4ADD-BE3D-5D0B67BE82C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A52408-7BC4-4633-A794-74B43C56E677}" type="slidenum">
              <a:t>&lt;#&gt;</a:t>
            </a:fld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7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B8040BFB-5B48-4229-9039-56F1A624C556}" type="slidenum">
              <a:t>&lt;#&gt;</a:t>
            </a:fld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2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162B2F36-9663-4F95-A62E-7AC74F695D19}" type="slidenum">
              <a:t>&lt;#&gt;</a:t>
            </a:fld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5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6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7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8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9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13242B4C-DE73-4A88-80E9-B67E11C451C3}" type="slidenum">
              <a:t>&lt;#&gt;</a:t>
            </a:fld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7723AD8-ADF8-4753-B93E-A9D7A73A26E7}" type="slidenum">
              <a:t>&lt;#&gt;</a:t>
            </a:fld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8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67FAADE2-137F-414F-9952-1C9A4D640A4E}" type="slidenum">
              <a:t>&lt;#&gt;</a:t>
            </a:fld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1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28C8099-FA13-450C-AAAE-6DE2D701D3FA}" type="slidenum">
              <a:t>&lt;#&gt;</a:t>
            </a:fld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1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EDE8C867-A785-4FE8-8095-F3F3AFCD3D35}" type="slidenum">
              <a:t>&lt;#&gt;</a:t>
            </a:fld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60CFBC5-82C8-408C-ACF0-ED3E6742757D}" type="slidenum">
              <a:t>&lt;#&gt;</a:t>
            </a:fld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EB79FB4-AEF1-4290-A4E1-6963EA8C427C}" type="slidenum">
              <a:t>&lt;#&gt;</a:t>
            </a:fld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1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5456BB0-F213-42A1-94EC-C72A54CA9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FEAB2-1780-4FDB-81F9-89609EEC171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052DF1-3B22-45DB-B9DC-BF580EF0F665}" type="slidenum">
              <a:t>&lt;#&gt;</a:t>
            </a:fld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3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3C8E48D-E80A-4396-AEAC-611D75A8C8EB}" type="slidenum">
              <a:t>&lt;#&gt;</a:t>
            </a:fld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900AD976-668A-4CF1-8810-7AB07EB8149B}" type="slidenum">
              <a:t>&lt;#&gt;</a:t>
            </a:fld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0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2B110B52-485C-41CC-88AF-1A414B96B70B}" type="slidenum">
              <a:t>&lt;#&gt;</a:t>
            </a:fld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3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5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4A81656-5E98-497B-B0BF-3207557E3AA9}" type="slidenum">
              <a:t>&lt;#&gt;</a:t>
            </a:fld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9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0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1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2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9B8ABBA-8C7F-4930-88C5-A2267A5A984E}" type="slidenum">
              <a:t>&lt;#&gt;</a:t>
            </a:fld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4D8BB00-F754-4775-B956-E0EABB562172}" type="slidenum">
              <a:t>&lt;#&gt;</a:t>
            </a:fld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5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09E1960-0B7F-45F3-8623-48489BBE33F1}" type="slidenum">
              <a:t>&lt;#&gt;</a:t>
            </a:fld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28C684C-C32C-45C3-A028-B98E178D2EB4}" type="slidenum">
              <a:t>&lt;#&gt;</a:t>
            </a:fld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C929DC1-7DA7-4EAC-AD92-0AA74116F41B}" type="slidenum">
              <a:t>&lt;#&gt;</a:t>
            </a:fld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94B9D92-605B-46BB-8FC5-795497C5FA3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ACA7E0-451D-469E-9B28-A988EFB9A6F7}" type="slidenum">
              <a:t>&lt;#&gt;</a:t>
            </a:fld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CD66257-633C-495B-A3BF-31BE31CBC8A2}" type="slidenum">
              <a:t>&lt;#&gt;</a:t>
            </a:fld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96DCC31-F23C-4964-89A9-B655CD2BCF47}" type="slidenum">
              <a:t>&lt;#&gt;</a:t>
            </a:fld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BB635F0-B86F-4EE4-9E5A-DB07716A50A1}" type="slidenum">
              <a:t>&lt;#&gt;</a:t>
            </a:fld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48B4886-2769-4370-868C-AA9C70748886}" type="slidenum">
              <a:t>&lt;#&gt;</a:t>
            </a:fld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7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883E946-7A8C-4C9C-AB1D-3A699BA65D1B}" type="slidenum">
              <a:t>&lt;#&gt;</a:t>
            </a:fld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7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BCD7416-F396-4A9E-AE6A-3C11A3244A97}" type="slidenum">
              <a:t>&lt;#&gt;</a:t>
            </a:fld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8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8829163-9A4E-4353-8D5A-0AB82CF00205}" type="slidenum">
              <a:t>&lt;#&gt;</a:t>
            </a:fld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7A6E524E-E440-4C6B-A9F0-924FE314A562}" type="slidenum">
              <a:t>&lt;#&gt;</a:t>
            </a:fld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3C72A21E-E62B-459F-9DD2-05CAFFFAFA14}" type="slidenum">
              <a:t>&lt;#&gt;</a:t>
            </a:fld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8E8F886B-ADA8-4353-8653-40693BF94B5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291B02-1AF2-4D1E-8E73-74769423264F}" type="slidenum">
              <a:t>&lt;#&gt;</a:t>
            </a:fld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94CA7653-CDE3-444E-BE95-58F9AB5FF7D3}" type="slidenum">
              <a:t>&lt;#&gt;</a:t>
            </a:fld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F349F724-8EC8-48A7-933F-C39ED430B996}" type="slidenum">
              <a:t>&lt;#&gt;</a:t>
            </a:fld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B01608B6-567C-4472-85D5-83B7FEE1B53C}" type="slidenum">
              <a:t>&lt;#&gt;</a:t>
            </a:fld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0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1370C083-1324-407E-9595-12D35EFD03B8}" type="slidenum">
              <a:t>&lt;#&gt;</a:t>
            </a:fld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0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89F38183-8745-42E5-ADF6-B047BA735079}" type="slidenum">
              <a:t>&lt;#&gt;</a:t>
            </a:fld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2EBE72CA-1768-4A6C-8516-99BE5BBB2B92}" type="slidenum">
              <a:t>&lt;#&gt;</a:t>
            </a:fld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1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C3594092-1C3B-4881-BEF5-B285F9211A87}" type="slidenum">
              <a:t>&lt;#&gt;</a:t>
            </a:fld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1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FD08D8BC-069F-4DE4-A0B0-F79738F9CB43}" type="slidenum">
              <a:t>&lt;#&gt;</a:t>
            </a:fld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2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FC8B4231-576F-4DA3-837F-C7659C663C95}" type="slidenum">
              <a:t>&lt;#&gt;</a:t>
            </a:fld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D97BA8D7-1D2C-460D-921E-61B2B16FB07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FCFC0D-2C36-444C-9CCF-BF0E1C38D74A}" type="slidenum">
              <a:t>&lt;#&gt;</a:t>
            </a:fld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B587FECF-8128-4F08-A479-52BCDE0CCECA}" type="slidenum">
              <a:t>&lt;#&gt;</a:t>
            </a:fld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BDCF8249-7187-4E7B-B256-A661E59B3906}" type="slidenum">
              <a:t>&lt;#&gt;</a:t>
            </a:fld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2BB19CA2-7A9B-4DD0-BE6A-82E212E29A41}" type="slidenum">
              <a:t>&lt;#&gt;</a:t>
            </a:fld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A5B72C0C-8E6A-4783-B608-CAFCAC8054D2}" type="slidenum">
              <a:t>&lt;#&gt;</a:t>
            </a:fld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E012DAA0-7FF0-4801-B6E7-38FCA96EDA3F}" type="slidenum">
              <a:t>&lt;#&gt;</a:t>
            </a:fld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4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0408459D-64EC-42FB-8F7F-2974A0BAA2CD}" type="slidenum">
              <a:t>&lt;#&gt;</a:t>
            </a:fld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5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B9C42CE0-D2B1-4F33-B971-2F3F703FA376}" type="slidenum">
              <a:t>&lt;#&gt;</a:t>
            </a:fld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5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94E34BA5-F265-4465-924A-57C28A856955}" type="slidenum">
              <a:t>&lt;#&gt;</a:t>
            </a:fld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5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DB9F8F22-D49B-4209-AB91-CC498AC64829}" type="slidenum">
              <a:t>&lt;#&gt;</a:t>
            </a:fld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6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87D9741B-0B88-44D4-8907-F1A10A54854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833002-718C-45B9-837E-40BB24B3C1BA}" type="slidenum">
              <a:t>&lt;#&gt;</a:t>
            </a:fld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6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9A3D006E-1984-472C-ADD4-8C7C4552BA99}" type="slidenum">
              <a:t>&lt;#&gt;</a:t>
            </a:fld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B58439CD-725E-40C2-AD2E-568EFFDC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8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681C5B4A-EF9D-4ADA-9030-3F6EF325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ED959D77-4F28-494E-86C9-F7714417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8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BC206016-A7D7-47A2-9300-2A12BAE3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29428DCC-E9C8-47D3-8772-6964269F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207997A8-2F85-442E-B21E-3FB116BB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9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3AA89610-5F3A-4A04-8B4F-3755FD06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9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5AEAC77B-A114-49A7-88C8-03FE5665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9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A7118F55-AE49-48D6-A33C-AC810E71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EC4865-322D-4FFD-BCF2-E3B3999A18A5}" type="slidenum">
              <a:t>&lt;#&gt;</a:t>
            </a:fld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0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F8C18AA0-6942-4FB1-858E-304572F7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0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9696475F-3335-47BD-8B63-AA6EA196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ED0B10D8-21AF-43B3-A7C1-17BB73D3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35AE773-7327-4C6D-BC0A-6B0E7B0B342E}" type="slidenum">
              <a:t>&lt;#&gt;</a:t>
            </a:fld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2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C8F7C81-4D04-48AC-A0B9-46CEE0E0E33F}" type="slidenum">
              <a:t>&lt;#&gt;</a:t>
            </a:fld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2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7A44E46-8C40-4526-8E49-DE4A29E809C2}" type="slidenum">
              <a:t>&lt;#&gt;</a:t>
            </a:fld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CE43D80-8439-4F1A-AF8F-DAAABF6B9E12}" type="slidenum">
              <a:t>&lt;#&gt;</a:t>
            </a:fld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2564FD1-8FD5-42C2-A098-2AAF3CE7B5F7}" type="slidenum">
              <a:t>&lt;#&gt;</a:t>
            </a:fld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7753594-02B3-4D41-B938-1781E03077DA}" type="slidenum">
              <a:t>&lt;#&gt;</a:t>
            </a:fld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3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4437FBD-BBC5-454D-9AD0-0CC8D274D4F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DE2F45-49A3-4AB4-B0E8-F9D0F6D8039D}" type="slidenum">
              <a:t>&lt;#&gt;</a:t>
            </a:fld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0FDB41A-8116-4030-AB3E-90A3C5D9A5F7}" type="slidenum">
              <a:t>&lt;#&gt;</a:t>
            </a:fld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4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F71E2ED-0530-444C-A38C-5B11A93DDEC4}" type="slidenum">
              <a:t>&lt;#&gt;</a:t>
            </a:fld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4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6AD5C16-7303-49C2-9711-8254ED26E525}" type="slidenum">
              <a:t>&lt;#&gt;</a:t>
            </a:fld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5FAD9F7-1098-49D0-8518-BAD236EF081D}" type="slidenum">
              <a:t>&lt;#&gt;</a:t>
            </a:fld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3B8DA50-FC0A-4E75-BCA6-D0588C94EA0B}" type="slidenum">
              <a:t>&lt;#&gt;</a:t>
            </a:fld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70647D32-EDEE-4322-9A66-15A00FAE3084}" type="slidenum">
              <a:t>&lt;#&gt;</a:t>
            </a:fld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02D0CACB-0046-444E-A70A-7730031CBDC3}" type="slidenum">
              <a:t>&lt;#&gt;</a:t>
            </a:fld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20114EF6-D42F-400A-AC4C-6C5A4733F283}" type="slidenum">
              <a:t>&lt;#&gt;</a:t>
            </a:fld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18657563-BE3D-434A-87B9-F3FFA71A1D63}" type="slidenum">
              <a:t>&lt;#&gt;</a:t>
            </a:fld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46172752-256B-4A60-B84A-4B9DFB10DCD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4FA093-C1FD-4078-A5CF-A089FFD310A1}" type="slidenum">
              <a:t>&lt;#&gt;</a:t>
            </a:fld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AF1DBEB1-0659-4DCD-B023-FFD7D8B12F0E}" type="slidenum">
              <a:t>&lt;#&gt;</a:t>
            </a:fld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59B55A44-0CDA-44FF-A93E-EEFB5C2BB7A3}" type="slidenum">
              <a:t>&lt;#&gt;</a:t>
            </a:fld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8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8FA286E8-F520-442D-808F-0F890FD134EB}" type="slidenum">
              <a:t>&lt;#&gt;</a:t>
            </a:fld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8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40D77DC0-2435-45A4-B663-9D2AE8032D52}" type="slidenum">
              <a:t>&lt;#&gt;</a:t>
            </a:fld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D3102DDB-8AA9-483C-AB47-2C000385EB02}" type="slidenum">
              <a:t>&lt;#&gt;</a:t>
            </a:fld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9BF3FA3D-6C9F-49FA-A2CD-67E14EF22574}" type="slidenum">
              <a:t>&lt;#&gt;</a:t>
            </a:fld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B0D0D1A5-E5B6-4D7A-8D68-7F72E5EE12D0}" type="slidenum">
              <a:t>&lt;#&gt;</a:t>
            </a:fld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C32A5579-0B3B-48F1-BCF8-F920679A1E5B}" type="slidenum">
              <a:t>&lt;#&gt;</a:t>
            </a:fld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10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10C101E3-6496-4DA0-BDE9-4B26C2477903}" type="slidenum">
              <a:t>&lt;#&gt;</a:t>
            </a:fld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1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47809D2A-F759-4CD8-86B1-2FC34C878BC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6D41D1-4B89-4C59-831E-0126AA42F1C1}" type="slidenum">
              <a:t>&lt;#&gt;</a:t>
            </a:fld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1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A12D360E-B817-48C5-A489-78E200EA5590}" type="slidenum">
              <a:t>&lt;#&gt;</a:t>
            </a:fld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197D61AD-703A-4A7A-ACE0-284D2670D43A}" type="slidenum">
              <a:t>&lt;#&gt;</a:t>
            </a:fld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1F9249C4-0F03-4152-ADA2-8865CBD28148}" type="slidenum">
              <a:t>&lt;#&gt;</a:t>
            </a:fld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1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34679A59-716D-4673-82E3-5825AB288333}" type="slidenum">
              <a:t>&lt;#&gt;</a:t>
            </a:fld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2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5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4AB2B02C-CC02-4415-BBE6-EB7707DFA56E}" type="slidenum">
              <a:t>&lt;#&gt;</a:t>
            </a:fld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2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E44C7CBE-125A-4C01-AA7B-E49840AFF6F5}" type="slidenum">
              <a:t>&lt;#&gt;</a:t>
            </a:fld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2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BB6ED434-57BD-4D65-81C4-63E697B2FFAC}" type="slidenum">
              <a:t>&lt;#&gt;</a:t>
            </a:fld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3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7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74A60762-33B5-4A15-BCE0-CDAA3285633E}" type="slidenum">
              <a:t>&lt;#&gt;</a:t>
            </a:fld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3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0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1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2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3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4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4CF47032-2671-4B8C-B08C-84CEB0738D3B}" type="slidenum">
              <a:t>&lt;#&gt;</a:t>
            </a:fld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C1E885E-F73C-4691-AEC7-1B1F6F63C4C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29BAFF-49F9-49AA-AE44-7465C0A9B6B5}" type="slidenum">
              <a:t>&lt;#&gt;</a:t>
            </a:fld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5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ED91231-E1B6-4778-9843-2AFBA353984F}" type="slidenum">
              <a:t>&lt;#&gt;</a:t>
            </a:fld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5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1780D9B-4B65-4BD5-9EC6-FF9ADE0E0D83}" type="slidenum">
              <a:t>&lt;#&gt;</a:t>
            </a:fld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5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8458208-447E-47F6-9D44-6FBCF11E9E83}" type="slidenum">
              <a:t>&lt;#&gt;</a:t>
            </a:fld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9FD54E2-6DF2-4528-B408-5035FA8A55AB}" type="slidenum">
              <a:t>&lt;#&gt;</a:t>
            </a:fld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B7CFADC-7C5D-4ADD-9958-80A0F0A5A9A1}" type="slidenum">
              <a:t>&lt;#&gt;</a:t>
            </a:fld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6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42D791D-82EF-4174-A07D-02655BEB8E43}" type="slidenum">
              <a:t>&lt;#&gt;</a:t>
            </a:fld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6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165F096-F9E0-4194-B091-B86E983E31A0}" type="slidenum">
              <a:t>&lt;#&gt;</a:t>
            </a:fld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0EA225B-CB0C-4F51-A4EC-2D3ED0F84506}" type="slidenum">
              <a:t>&lt;#&gt;</a:t>
            </a:fld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50F905D-7477-4A64-BC98-EA6475C94767}" type="slidenum">
              <a:t>&lt;#&gt;</a:t>
            </a:fld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7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CC1A10B-BFE7-49EA-A322-30A1BF3366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B6554-FC05-4C1F-B0CE-E22C33A93C8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DA2B5F-2A72-44CD-B5B6-FC760DEC213C}" type="slidenum">
              <a:t>&lt;#&gt;</a:t>
            </a:fld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8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411A878-BC2E-46A5-9D6F-58FA56275BB9}" type="slidenum">
              <a:t>&lt;#&gt;</a:t>
            </a:fld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C4A29CA6-BBBD-47C8-BF05-3C67867DF1E7}" type="slidenum">
              <a:t>&lt;#&gt;</a:t>
            </a:fld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96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4551348D-5385-4A8F-B235-226B5799815C}" type="slidenum">
              <a:t>&lt;#&gt;</a:t>
            </a:fld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9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C621E9DA-4184-41E5-81A9-9C83B43DD6A9}" type="slidenum">
              <a:t>&lt;#&gt;</a:t>
            </a:fld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8C35C208-958C-4243-8DE9-CCBFAA4F6CB4}" type="slidenum">
              <a:t>&lt;#&gt;</a:t>
            </a:fld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C9878D32-A840-4E1E-A680-26BCFD80635C}" type="slidenum">
              <a:t>&lt;#&gt;</a:t>
            </a:fld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4A72F8C2-F151-4CE9-BAC7-1A2E07EEF13B}" type="slidenum">
              <a:t>&lt;#&gt;</a:t>
            </a:fld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0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A78EB111-7725-4BFF-8BB2-574EDBBA2212}" type="slidenum">
              <a:t>&lt;#&gt;</a:t>
            </a:fld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0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1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4A1CCD85-8C35-45CD-908E-9C98118E4A77}" type="slidenum">
              <a:t>&lt;#&gt;</a:t>
            </a:fld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1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7F813AA6-4646-45A7-B714-0D4523BE4FD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7F7CE-69D2-499F-943E-49149AE36155}" type="slidenum">
              <a:t>&lt;#&gt;</a:t>
            </a:fld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1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8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631E14C5-9866-4521-85B0-9414EAFAD36D}" type="slidenum">
              <a:t>&lt;#&gt;</a:t>
            </a:fld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3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F6B7C947-375C-4B69-B36B-A0533E256003}" type="slidenum">
              <a:t>&lt;#&gt;</a:t>
            </a:fld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2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6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7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8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9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0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F04D53D1-0A5B-4A95-AA88-F0D3AC5FE2FB}" type="slidenum">
              <a:t>&lt;#&gt;</a:t>
            </a:fld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C3BF2821-C064-4DAC-86C5-D48E9718066A}" type="slidenum">
              <a:t>&lt;#&gt;</a:t>
            </a:fld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3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27AF59CD-4535-4451-8919-E24CDE88C96D}" type="slidenum">
              <a:t>&lt;#&gt;</a:t>
            </a:fld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4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00326006-5A4F-4713-91C8-100950795813}" type="slidenum">
              <a:t>&lt;#&gt;</a:t>
            </a:fld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4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ED98601F-6821-4E27-B7B2-18927F3707D9}" type="slidenum">
              <a:t>&lt;#&gt;</a:t>
            </a:fld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2FFFC5E2-626A-4522-94E5-4458C8083EAC}" type="slidenum">
              <a:t>&lt;#&gt;</a:t>
            </a:fld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589A1585-E295-4265-B2D9-F11F18483AB8}" type="slidenum">
              <a:t>&lt;#&gt;</a:t>
            </a:fld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31DA4407-D62C-40C7-BAE2-003BF107E72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29456-6C2D-440F-B88C-630095B7D556}" type="slidenum">
              <a:t>&lt;#&gt;</a:t>
            </a:fld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1D77979B-7957-4CEE-A6A3-8B176C80630F}" type="slidenum">
              <a:t>&lt;#&gt;</a:t>
            </a:fld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479943DA-AF2D-4862-B5E1-A141E6B6625C}" type="slidenum">
              <a:t>&lt;#&gt;</a:t>
            </a:fld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6A59F8E4-C295-4235-91CB-0DAE78264655}" type="slidenum">
              <a:t>&lt;#&gt;</a:t>
            </a:fld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6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8D66CCA3-93DB-4AAD-8028-F042BE8E19FC}" type="slidenum">
              <a:t>&lt;#&gt;</a:t>
            </a:fld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EA87CC00-37F3-475E-8A46-B702A57BE9FD}" type="slidenum">
              <a:t>&lt;#&gt;</a:t>
            </a:fld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8F148F8-26BD-474E-B3CE-7C02119B47DE}" type="slidenum">
              <a:t>&lt;#&gt;</a:t>
            </a:fld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82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C48674A-1B86-45E0-8EDD-46F07CD81D0B}" type="slidenum">
              <a:t>&lt;#&gt;</a:t>
            </a:fld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8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4A40281-CB51-4FEC-9C69-C77C3FD363AB}" type="slidenum">
              <a:t>&lt;#&gt;</a:t>
            </a:fld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8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B2A574F-1ACF-4D0E-B506-FA7409D65EEE}" type="slidenum">
              <a:t>&lt;#&gt;</a:t>
            </a:fld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BF00CAD-F9BF-48B6-B26E-BF21721FAB3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1BF68-7108-49FE-9C62-EC413A4AACB2}" type="slidenum">
              <a:t>&lt;#&gt;</a:t>
            </a:fld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619C803-0954-4EB7-8811-5DE3D8921125}" type="slidenum">
              <a:t>&lt;#&gt;</a:t>
            </a:fld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192A5C3-2273-4FDB-B1E1-F8BC6A746AA4}" type="slidenum">
              <a:t>&lt;#&gt;</a:t>
            </a:fld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9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7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4461F90-057A-4100-AD40-508A740397FF}" type="slidenum">
              <a:t>&lt;#&gt;</a:t>
            </a:fld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9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3020857-7F8F-4ABF-B2E3-A7A8C0F2D852}" type="slidenum">
              <a:t>&lt;#&gt;</a:t>
            </a:fld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4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A23443B-0889-478C-A968-E3E375AF65DF}" type="slidenum">
              <a:t>&lt;#&gt;</a:t>
            </a:fld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9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5E5DE10-9BDE-435A-8A61-D98AE5E28E89}" type="slidenum">
              <a:t>&lt;#&gt;</a:t>
            </a:fld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2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3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4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5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6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252B2F1-04B7-4267-9878-183CB2E056B7}" type="slidenum">
              <a:t>&lt;#&gt;</a:t>
            </a:fld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CBECC763-0FD4-49D3-A16A-4B631F7DA25B}" type="slidenum">
              <a:t>&lt;#&gt;</a:t>
            </a:fld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25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733F00AE-90B3-46A9-A3F0-710B3F8B94C8}" type="slidenum">
              <a:t>&lt;#&gt;</a:t>
            </a:fld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2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73F67886-80EC-4F2B-A45C-44AB2DDC30D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F5D9E-3FB6-4C90-BABE-C8F1B8B4BF00}" type="slidenum">
              <a:t>&lt;#&gt;</a:t>
            </a:fld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2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E8C167A0-CB75-4E22-802B-7E77B63DE0C9}" type="slidenum">
              <a:t>&lt;#&gt;</a:t>
            </a:fld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A9BCF9BD-09A3-4046-AA08-AB064F084BEC}" type="slidenum">
              <a:t>&lt;#&gt;</a:t>
            </a:fld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7CBECF8A-218E-4A1E-B2C9-79175B1425DA}" type="slidenum">
              <a:t>&lt;#&gt;</a:t>
            </a:fld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3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E937CE89-18FE-403C-ACDB-B8E08B1E139B}" type="slidenum">
              <a:t>&lt;#&gt;</a:t>
            </a:fld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0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A6246369-6E43-4068-BCA5-30693A66302F}" type="slidenum">
              <a:t>&lt;#&gt;</a:t>
            </a:fld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4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79A724B0-30EA-4E47-9E6F-713A68165DAE}" type="slidenum">
              <a:t>&lt;#&gt;</a:t>
            </a:fld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4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7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5B77D4B0-A279-481D-99E2-ECDC78B76720}" type="slidenum">
              <a:t>&lt;#&gt;</a:t>
            </a:fld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2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CB05261E-E063-4B20-8F4F-91FB9A1F6E97}" type="slidenum">
              <a:t>&lt;#&gt;</a:t>
            </a:fld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5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5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6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7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8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9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FFCB4CB1-0CC6-4B3A-ABB2-42B0215DA8C6}" type="slidenum">
              <a:t>&lt;#&gt;</a:t>
            </a:fld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4DCF7524-FB81-4690-BF33-72A4898ECB8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99C3B-E7E9-45A8-A188-1F0617BBBCCE}" type="slidenum">
              <a:t>&lt;#&gt;</a:t>
            </a:fld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68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CC2AE901-484C-4061-ACF8-5970E1789479}" type="slidenum">
              <a:t>&lt;#&gt;</a:t>
            </a:fld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4177C9A0-66BD-40B9-92FC-A0CA1A53E939}" type="slidenum">
              <a:t>&lt;#&gt;</a:t>
            </a:fld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678BB916-FA91-4E40-A7BC-4FB9B246B2A1}" type="slidenum">
              <a:t>&lt;#&gt;</a:t>
            </a:fld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81E2AA55-C209-40D1-A152-245BDDDA3C40}" type="slidenum">
              <a:t>&lt;#&gt;</a:t>
            </a:fld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2268BAEF-0F94-462D-8D22-C91864F5F114}" type="slidenum">
              <a:t>&lt;#&gt;</a:t>
            </a:fld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B08B4651-D325-4023-BAC4-61CD9C787D27}" type="slidenum">
              <a:t>&lt;#&gt;</a:t>
            </a:fld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8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3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3EF14BE0-4EF9-42E3-A5E8-6AF0CFC34619}" type="slidenum">
              <a:t>&lt;#&gt;</a:t>
            </a:fld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8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FBE81DE8-03C4-47E3-A818-B1DFEF395A1E}" type="slidenum">
              <a:t>&lt;#&gt;</a:t>
            </a:fld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8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0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0D3CE4CC-B3EA-45DB-8656-3D2960C025EA}" type="slidenum">
              <a:t>&lt;#&gt;</a:t>
            </a:fld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5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20B13090-C67A-45BE-873C-03273A153E8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C2826-E981-4934-9BA1-025D8EAC1E10}" type="slidenum">
              <a:t>&lt;#&gt;</a:t>
            </a:fld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8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9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0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1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2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7B496129-B283-417E-8E3E-45DA39955E55}" type="slidenum">
              <a:t>&lt;#&gt;</a:t>
            </a:fld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852F561-B481-4591-B2C4-CEF24E457E1A}" type="slidenum">
              <a:t>&lt;#&gt;</a:t>
            </a:fld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DCCAE12-7FEA-44CA-B05C-6DA00D1E6E4F}" type="slidenum">
              <a:t>&lt;#&gt;</a:t>
            </a:fld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C87BF69-EBB5-4283-9D64-2BB7CC564EA7}" type="slidenum">
              <a:t>&lt;#&gt;</a:t>
            </a:fld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CDE7499-78F2-4E62-9240-B9F5BC90F6C3}" type="slidenum">
              <a:t>&lt;#&gt;</a:t>
            </a:fld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C215845-2F79-4021-9477-F94CA474A4D5}" type="slidenum">
              <a:t>&lt;#&gt;</a:t>
            </a:fld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0BB5B6A-1BB0-4C6C-B72F-7FB6C57176AD}" type="slidenum">
              <a:t>&lt;#&gt;</a:t>
            </a:fld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6005C33-E46C-452C-830C-E3016F4FAA5F}" type="slidenum">
              <a:t>&lt;#&gt;</a:t>
            </a:fld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1267588-21FA-4A62-A325-D24FF8F124DA}" type="slidenum">
              <a:t>&lt;#&gt;</a:t>
            </a:fld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73FCDD5-BA7A-4F96-9BF0-79F51486EB6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0B69E-A06C-406C-84FF-1F2DF26CD472}" type="slidenum">
              <a:t>&lt;#&gt;</a:t>
            </a:fld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3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6BDEA33-3092-4479-B917-462E412377B3}" type="slidenum">
              <a:t>&lt;#&gt;</a:t>
            </a:fld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3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E739D75-0775-423C-99B0-FAA578E7F20C}" type="slidenum">
              <a:t>&lt;#&gt;</a:t>
            </a:fld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1182BF0-44CB-454C-95CE-617022356700}" type="slidenum">
              <a:t>&lt;#&gt;</a:t>
            </a:fld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26272BFD-29D0-4C54-AB75-91AF5BD05DCF}" type="slidenum">
              <a:t>&lt;#&gt;</a:t>
            </a:fld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5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BFB94D0F-B12A-4FAA-AB33-AAD076F6EAA8}" type="slidenum">
              <a:t>&lt;#&gt;</a:t>
            </a:fld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94CD41E9-7721-4B94-A293-D7B4F7AA59EC}" type="slidenum">
              <a:t>&lt;#&gt;</a:t>
            </a:fld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5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8E91A738-5C58-4F44-91DE-A9A8D97F6086}" type="slidenum">
              <a:t>&lt;#&gt;</a:t>
            </a:fld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9D27D4DC-5656-4D94-B0CE-CE1F5F824418}" type="slidenum">
              <a:t>&lt;#&gt;</a:t>
            </a:fld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BD2DBA8E-7CCE-481A-ADEA-290E50BA45BF}" type="slidenum">
              <a:t>&lt;#&gt;</a:t>
            </a:fld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5626EEFD-0076-486D-AA85-0FB596989A4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B4C01-3518-4963-9EA4-EAC4D7520AA6}" type="slidenum">
              <a:t>&lt;#&gt;</a:t>
            </a:fld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EC1FD222-FFF7-4D00-9298-AF6B21460FB5}" type="slidenum">
              <a:t>&lt;#&gt;</a:t>
            </a:fld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B90544E5-4D17-4764-A4C8-2A04EE763368}" type="slidenum">
              <a:t>&lt;#&gt;</a:t>
            </a:fld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7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2A7BAA54-940C-4012-B6BB-F452C64E12D7}" type="slidenum">
              <a:t>&lt;#&gt;</a:t>
            </a:fld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7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2AF33F6F-9F0F-4066-93E0-4F0A2539CD40}" type="slidenum">
              <a:t>&lt;#&gt;</a:t>
            </a:fld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1AADF06B-A249-4977-A6DB-4023CA7A776E}" type="slidenum">
              <a:t>&lt;#&gt;</a:t>
            </a:fld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426B1B1-22B6-4783-B43B-67356AE3828F}" type="slidenum">
              <a:t>&lt;#&gt;</a:t>
            </a:fld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9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6662449-EFCF-4F72-97F9-C84FFA70E919}" type="slidenum">
              <a:t>&lt;#&gt;</a:t>
            </a:fld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88C9E95-2302-4CD7-B143-884CA9DD5361}" type="slidenum">
              <a:t>&lt;#&gt;</a:t>
            </a:fld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9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F43F832-89F3-4544-B352-F407FA083A02}" type="slidenum">
              <a:t>&lt;#&gt;</a:t>
            </a:fld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65723E4-71C0-4824-8D74-C009D25FDA9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99E5E-0B5F-4BE0-B51B-1C39CEA79EAC}" type="slidenum">
              <a:t>&lt;#&gt;</a:t>
            </a:fld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9B36412-11EC-482A-AC01-9042D17C5348}" type="slidenum">
              <a:t>&lt;#&gt;</a:t>
            </a:fld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0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9C26C92-65FD-43F9-AD4E-B4E95C267BA2}" type="slidenum">
              <a:t>&lt;#&gt;</a:t>
            </a:fld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0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1A7B4B5-14F9-4711-89C5-83F62F24DEBF}" type="slidenum">
              <a:t>&lt;#&gt;</a:t>
            </a:fld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D5E984D-699F-4DCA-AED5-F829D6714D15}" type="slidenum">
              <a:t>&lt;#&gt;</a:t>
            </a:fld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D38CF3C-65D7-45B2-975E-E054581A5793}" type="slidenum">
              <a:t>&lt;#&gt;</a:t>
            </a:fld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1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B1DD66A-3F4A-409A-8F8F-15B8AE855567}" type="slidenum">
              <a:t>&lt;#&gt;</a:t>
            </a:fld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F05B949-D42A-4DD0-B65A-22D791280F8A}" type="slidenum">
              <a:t>&lt;#&gt;</a:t>
            </a:fld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E35B4106-8027-401B-9F3E-B678E4B9F8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35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68D6ADD0-7E32-4104-B734-2BA8FF91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CBE674B2-4F58-4628-9E48-19309C42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49E62-80F4-4805-8AD8-3B85DCCD2E9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DB433-A87C-4EBA-AFCB-138690347F21}" type="slidenum">
              <a:t>&lt;#&gt;</a:t>
            </a:fld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3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15A37A98-4D09-4A2B-A432-DED7176F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B8A3A20D-57C1-4F51-9F05-87F1CF69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C0BBC851-7654-43A9-831D-3EA119DD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4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4024C65F-FE2F-41E1-93D9-B2A08047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0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6155A046-105B-45CD-9376-203EC8CA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7EF26E30-9BDB-4F2C-8373-3C4DF9E0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7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77AC8990-E9F6-4497-A825-5480D81A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5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2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CD830EDE-8711-4CDD-984B-87237E09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5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6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7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8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9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99ED36B4-30FE-4AE1-96B6-47BFA2C261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6ED8E-6D7F-4104-B5A4-5AE0E3F1AB9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6F311-558A-4ABD-AA16-76860E74553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F4394-01A1-44DF-935F-71BD4269F55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31C827-BC41-4BF6-9198-BFD09A0A53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866BC7-EF0D-4E3C-B9E5-BFAA7E7C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D4E53C-10F5-4C68-B447-57AB03C4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19CFA7-511A-4013-A5F9-FA1E0114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4ECB76-CB85-4B47-8EC0-7E2327B6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BE97A-CD0A-4D63-A44D-91D22A7F60C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9475C7-F329-4855-901C-941F3399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408666-6861-4550-8FA9-8F817F27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2D54C2-4696-476E-8D57-0851F6CF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48AE9A-DF72-4331-A96E-0CF28F62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0F8C76-9A9E-45F6-BA84-DFB7885E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D96D43-DF45-46E0-9081-63EB3D1E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DE1CFE-03CB-4BE1-AC58-E05EF7C8DC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B8E45C-6160-4FD8-BF9D-41A2961B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F2CE91-D707-416D-9709-27DC918D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B89F31-7693-4E10-AB27-F5D6DD33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3D8FF-A38B-479D-9CF4-B72686E6A71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0072AF-E670-487D-BB84-15D04529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E90C14-EEB6-4B9F-A1AC-C5D8040E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7B9584-3CD4-4572-A6C7-2CC56F56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139D6D-E17A-4264-8031-08F65DB6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2C173C-A441-47AA-AF69-1E267D39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75234F-5FA0-4055-A102-4B381D7A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20CDEE-E143-44F2-8E93-C5404EA2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BAB546-BD9D-4B21-BEBC-0EF6D79F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5443B4-CC40-440A-A25E-3FC5EC24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E70C7F-8D11-4836-8283-A39C12E16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5F9B1-2C85-4F89-BEFC-F6A7822C3E6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E7F011-D07E-4843-9C65-B257C004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73321C-2AD4-43CA-AD48-F53EC127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820C56-5667-4971-86EA-AD5AAEEA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C8D298-10DB-4E9C-B6CC-E5E8D0E1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C0DD13-2F70-4637-AE3D-184AD849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A76E42-0738-493B-B3F6-F8507F65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9D0C6C-09A4-45B8-903F-E7730AD5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7C9811-8455-4A93-9C06-E296E4E1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3BED9D-DB29-47A1-97AB-935BFD25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B82D7A-1945-485A-A223-5AAC94C7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0B46C-865D-481C-AB79-BE617FCE97B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8F0DD6-18AB-4C59-853D-00B216A9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EEEC35-C4F9-4990-97BE-AD3C7FE1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064E21-47A7-495B-B274-5570B958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2D4A95-172B-4E1C-AB96-01F891B8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DC3B8A-0F5E-486A-BE5B-747B99FA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21B198-577A-42EA-B4A7-3B593FFE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AE5CC5-9ED6-4A9B-98A9-46D3F91D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8E5178-5E16-4DFC-8618-459D6AA1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83A0EB-F3DC-4DEF-A8E5-999D12CB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867682-8552-40AC-AB6D-06119BCD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EAB01-0F94-45E2-A3EB-F5016C552CE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CC95DF-FAD9-4FEB-9D4C-184E52AC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6AFB04-55E9-4A95-A9EC-5582EA50D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B8E3C8-E5C2-4D08-B462-291C3423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05C9E3-2B1E-44FB-952C-02691B2E683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D6B129-744D-4369-B8F6-E8BCA02CEAC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905F3E-FCFA-4700-95E1-16211783FCB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A81929-9757-4D0B-87A5-966DE7380CE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333C55-D684-4A96-B5CC-427415A6260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281E49-432B-40F4-812C-4E59C076B09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EBCA2E-6C93-44D2-BA2E-BB9D8D6311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F5A6E-37F1-4EC0-98DB-3B051A2CF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10B5D-61AE-4874-BE93-40A6AED119F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A86B3D-96D5-48F6-8E8C-AADAC6647AD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D30D1A-AAD9-4B45-BD4E-8B90970F4E2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B3D33C-9726-4BEA-85DB-F8C0885874F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1063E7-8FD4-4348-AB26-82D34B46730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559F9A-6793-4383-ACEC-FCADB0EA71F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5005A-7ED1-4C8B-9196-02522D46DBA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D7FA1-87AE-4474-A518-08CEC3A71B6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3E862-E0B5-46B0-8525-195B614A3C2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CC8D7-A3B5-426B-8F97-AA59F3D96F0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4D5BD-F36F-430C-A0B7-3BEF1D5C62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AFC38-698B-46F8-9FB7-391AF0F2356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588F8-6E48-4CC7-8CB8-35568F702C3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018F0-2950-41E1-808D-4318D060F60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F8C7C-A154-4C1F-98AA-F70378556CD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61551-CF0B-4B00-9E94-AFBBE6FB6F4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F5EAD-1AC3-4740-9E33-0B1E6BA81EC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D1CBF-EBD6-4723-B681-551ADDA1995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B9843-02D6-420B-809E-D4A573D74FE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21114C-ECE5-4E08-A2CD-73076AB3104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41A891-BF26-4E8B-8DCC-5052CB83A20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17CBF0-EA59-4C9A-A2F1-B41BDB7FA4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AE9F1-CD4A-4712-B63D-0389FB0F035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B894B2-E2D7-47CC-80BD-73788901E12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790B7D-6D5A-4096-A8C7-C329EF37523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1ED069-9606-4FB4-BB06-E1B2F9CFFA0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28A1FA-9972-4185-8DC3-B6F07AF3970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F80EA2-32F2-44C2-9AE4-B88CBA929D2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3F51D9-C729-4BEE-85B0-72E3BD1D5F8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C738B8-7104-4EB1-9577-E49F8011556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0C7344-566D-4F9F-99F3-D8074CC32AA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4387CE-694B-4A4C-917A-03C4A5C1E91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C7F207A-4A0B-4081-9AC8-56F6D4D8E0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16A04-ADAE-4A8E-B5FE-8DE0F8E13C5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3418010-7B1D-4255-A6A6-80A49C743F5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77809A1-7A6A-46AE-A36D-B23F47CCC50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43E3A5E-DF72-4A21-8381-5DA4B41CB15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5BAB8E3-295A-45B5-B175-D1E57EF84CD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8D2B79D-F3CC-4C5D-89CE-F816EB7AF56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4DD18C6-B1BE-4C81-9934-177D83BBF65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70EE0B1-4B72-4AAA-A68D-559032EA21A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7E589FE-4DB2-4E1A-B741-5EB5DE869A3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F3F6C47-F1CE-4BA7-B248-EA8F6466EE7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E1ABA23-6942-45BA-96FB-A5EEE63FCE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62BDF-A77E-47EE-85D5-EB932A57886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1EE303C-2C7C-4A8F-BEE4-9A2DC5AC55C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7215C0-80A7-4740-B58E-FA3FD7BD624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F31A9E-181E-4DF5-A3B3-E930600759F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3D07E0-B7DB-43C1-B29A-7DA8B390C5A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07B6BD-1F29-476D-9434-1FE026F0E84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49BA27-BEFA-4F99-A546-EABBDD68DB6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220B3C-BF82-43D7-8F8A-F001AEE6FDBF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8F1EE3-F450-4BAE-BE0C-C1C1425B5CF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B03775-96FD-4BA1-8C51-F21844075F2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10818F-1BD3-4F8B-8BC5-B3AC83061CA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2AAF-CACA-4FF0-9284-85370D1AB55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AF5C39-C2F3-427F-B167-2897E023B98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2C4E56-46B8-498C-B1FD-B2C2324EFD6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67223B-50C2-4923-A55A-BECEED5A547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B6512CC-4220-4C9C-9E5D-80B54288CAA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24B5B20-B31D-4946-9477-B48E6B1B174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90AB5D3-2F74-430A-B401-1566C7C87FA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B5ED78B-1749-4881-8B3A-349ADFC4AEC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EB9C9EE-6B81-47AB-915C-28DE5C17FD6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B571B27-F053-4398-B8E5-0195BFA0F8A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D1164C-DD32-4222-954C-CE86C88C2C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BC87-D960-4809-83A9-9CA9F827605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758A496-6AE5-4EF5-A817-B95ABCA1378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207C710-561D-40EC-9551-4BD4D1A0A30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9EE140C-603E-4C8C-9C83-9BC338C2BDD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3AEEF7-A02D-429D-8214-45613D2A6B7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163B890-8342-4D58-BEAB-EDFE4A8A00B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1616BD1-215A-464B-B606-0C72CD97DD2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8501AC6-3656-40E4-AA35-0D068BD1DE1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8C58D85-E5A6-49BA-96D4-EB3F102E839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89155F0-7DE5-4705-BBC0-016DC9181FF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D88DF6B-E568-4DE7-9CF6-E095ABB0CF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0CC5-986E-48BA-8233-78D474D5D05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4903861-C1F1-4D8E-8836-F517662BC7B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5556BBC-728A-44E5-BA91-476C00D5495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6DD4935-DA6D-4A1E-90C6-02B7EEE75B0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4421F17-61DF-42E0-BB80-226B958ADC0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6F175F2-F436-4257-A145-513A905707A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D523326-A67F-447A-8ADB-990CDC6F553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37839BB-3489-4BB0-B16B-92FDBE32432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D11CA5-46EA-4BA6-9845-C0E60C5C81C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92A38C-7BA8-4960-A4BD-0F1940014E4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00906C-3B9A-4D4B-92AE-C075F6273D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F1E9-4646-416C-9336-8A1B854E44B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4A3C53-54B6-48B9-AFFD-9B9CBA96334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F70B4C-2A57-4E61-981D-927249B2D0B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189D20-DDD6-40AD-AF22-7D6FBE679C7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B1D4AC-D013-42D9-91D1-7A6C51F76FA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C7BC85-3CDB-4FDD-B0CE-9281B16F709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54E23A-A72C-4DA4-85CE-03430CFBD2B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AB5F40-AB10-4A6D-AF16-0B305F411C0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DEB033-B499-4655-BE77-CD715286861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E4F20B-5188-4DBA-89AD-2B2AAA92FA8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AAD9640-5790-435A-97B6-81DAE61650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6280-A4F4-4C1A-991C-B0EBEFAA15A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FA2C20F-B84D-4776-A9C2-00260B36F4D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AA3E8DF-4A88-4683-93E3-1EA34C08DC1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F166836-3106-41FC-8036-D905FD0BCEE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9D02913-A0E5-4946-853D-0D60C7B19A5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91C535A-F8A3-4EAF-B600-28B1B1338CD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C85688B-0FF0-470E-B712-36CA57E5B47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9B0B4CD-DA51-4242-B3B4-57165F05991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E542A10-4579-4682-AC5F-3D4506E33F2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9384C9F-CD7D-45DC-AE2B-55B9E9A7911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F062076-6534-4A5C-AC0F-28576876C7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0D5F5-84E7-4B5F-A287-0332B878F6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74D2-17BA-4042-985D-B5694F68AB6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DC45555-CF1A-44A1-B7C9-A1834074680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15D4D46-561F-4E9F-A891-9FE4D009BEE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6F4B9E2-84A7-41E2-A5A5-20A7D564679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E8DBB36-FAF3-4E6B-BDD7-E3AE21B11C8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34148CD-CB79-4959-ABA5-2F97FF96C4B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3B2E9D1-F89B-41C2-BDE1-19ED0E45E59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08F1A99-E22B-457B-B801-0EE442A8A4B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4ACBC8D-2400-4106-BEBE-B1BD08E2B90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0EA27D6-EE31-4F11-99FA-0AE6C05C3272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A78EFEC-8982-4F96-BA3D-0BCD0105B8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A98E-D231-44AC-8263-8CE4E4CF5C78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8A70372-D2CE-4F69-AD82-CC2A76C243C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7AD9EEC-F26B-4D0B-8D9B-1BA2D260206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612A8DD-AECE-44C8-BD1C-69B8D65D1611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5B9D39-35F2-4B94-AA9D-97A1CEE62D25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626CCD-5CC2-4FE5-A0EF-C8215E5C6A3E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225C24-DEC7-4490-B47C-529B69A848CF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285757-C539-435C-A580-CC42F0E42DA4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1C449B-B677-47A1-A087-6C1B09045C48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E1B457-B4E1-4BDA-B8CC-8C6BE2F09490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88BEBB-2C2E-41BE-8529-4B03C2D469C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8B03-0A9E-4348-BDE5-AE7C8EB3BFD0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544D1F-0B12-4259-985D-FBD5A77F8640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B87981-6476-42F6-97E1-4DBC130E4D7A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1DC96E-D2D1-4453-9CBC-400320C3BACE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B8C1FD-4EE1-4153-967E-E9D2FBF1BCC8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24D127-7613-496C-9165-1E6BDBEDC395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205947-4310-4040-BD79-CED0E71C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9AE3D3-BA8E-4E92-A703-E4CF9AC9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970F74-20C9-4075-B1B8-31C8B351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D1B98D-0BB0-4A2C-9B85-FBBAA409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69D291-5FAE-48E2-8D31-8FBF997F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DB73-9514-4A7F-AEF3-8AF46D324124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109E0A-E35C-4075-9AE8-92C14A30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92D0A6-B0F5-42F9-A030-F0357970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C2C5CC-E064-42FF-BD06-B3A7C585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E34AE0-D68F-44BF-B88C-24D72B81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21E0F5-9F38-465D-B036-65FDDFDE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BE7154-0CDF-4047-96AD-1B5A8F99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41052F-D31A-4CCE-964D-68200426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9623A2F-FBD4-406C-A36E-D8B40F3FC6B7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F84BC2D-86AB-456B-9B9A-BB5B3256A3A1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5D03FD9-C12B-4B7D-AE04-56B2988B33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D41C-A48C-48C8-92B8-8E25418D51BB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7769AF9-C854-421D-B814-3C1AF223A199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417B4EB-5D2C-4BA6-AFBE-5BA6E79A57CA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5C50DCD-C723-4D73-A62F-1220A82AE558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783969B-4515-473B-87D9-210EEAB9DCE0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76DEC43-A458-4A89-AA44-8637705CA609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D68505A-E7CD-47EC-AEB5-882EB4A5F956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D15BACE-CDAA-481C-89EE-6CA0E2054AA3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3BF2273-290E-4A80-8C5C-CE8311AEC54A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6EDE0ED-3CB7-404A-987D-16FB3E7D5970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3DA6127-A300-44BD-A8C0-483E2BE6EF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6B09-96F2-45DF-90F1-B120A615492B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FA3F871-50E5-41FE-A1ED-11E03FA285A7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06404DD-DCC5-4681-925B-C90DA30B6547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4916957-8CE5-4DB5-9A9E-A910E0180DEE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3948985-C733-419A-9468-8C2D3E697710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7D1EFE2-C429-4E03-B0C3-0436D426112F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98B90B6-1879-4C4B-A9D1-B50474ED03B4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4A375DD-19CA-4C80-9380-0342CF2878F6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C9D400F-08C2-4E2B-BA54-BEC0EA405EB6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A7C2493-BF5F-4267-AE00-103C9F3D9E5D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C3CD111-1D12-4462-90C7-25CF6761A2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16C1-DCA2-480D-8E5F-CEA24942F49F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1503681-513F-4394-A5B9-7056BECDE517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9702B5-41B6-4687-A446-24B36593B5CF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BB5EC9-6E18-458B-B0A5-13207FA62159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6FDA0A-F54D-4E9C-A8F4-24A9C6D14819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7EC16A-6659-46A9-A113-ABB31477C7F3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DFA402-123A-4101-A50D-D09455DE95AC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91F973-33A5-4099-8F82-1359559A4F9D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18BCDD-81AD-423D-9FDC-B1994799F65B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85A689-AA28-4AD1-A95E-F0DB99A63F61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796728-D5FC-46C1-B8DC-6E8E91C6068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4B1EE4-B87D-48B1-920A-F7B323986341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534DD5-393B-41D5-88B6-81FB3D816DED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DD5F43-7E0A-4EEE-9FBF-DD2D86078A36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96300D-5F2C-4FA0-8536-A96E245DC9A6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AE55A59-5C8D-4E66-A2A6-D8F34C9C2AAF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ADD761A-1096-4CFB-A197-0D9CC4E500D8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14015BD-4A15-4BB4-871B-467BC3682840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9500439-673D-40C1-AB45-46F87050F721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D68E6AF-955E-4E5C-A07A-6768AE7FC596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8DBE3AC-785D-4EEB-9BE4-85A71EA7F073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6A048B0-07BD-4E8B-8D74-216C3882EE2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DF75BB-3014-4C17-B60B-079E0E4267DA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0D385C7-EE50-4747-92BA-55AF3073E2B4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94C1186-CF80-457E-813C-021434A37813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E831FB4-F822-4EC9-82F0-B71772BA787E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CB17F64-6082-41A1-9B54-B239F61627C7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FA524E5-19DC-4D8B-B824-0B67F3EC7362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70311E2-3311-494C-8297-D5686A24C122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03FAA09-E85A-435E-ABF9-777ED2D46D02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30939C7-910D-4E3F-A8AB-962CB92CFC47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2ED6BAF-7388-4AE9-9887-999256CBF43D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3D5BDC8-FDD6-4F67-A34D-9831B04FECC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FC23C-8E3B-4DC3-AA59-8D4824FF8DE8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C698CDE-8D05-41D2-8076-EF696813A19F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78D78CC-F7B2-4919-92C6-6238C8CE3448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E0A4F2B-6309-4D1C-AA33-231D3A722F84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D749A17-6AAE-45D9-B872-7C27BDB1D069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E760A08-5A5D-4981-A28D-FFCB4DE4B7C0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E870D4A-F959-41B7-927A-6F66EF136D9A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A913CEE-3255-4837-915D-C3538A44034D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4FBC73-E7B2-4000-95AC-3CBB0A6052F2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4C7A69-4AD1-4464-82E0-748C8A42D4DD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FF7841-B33F-48DF-92A4-46F7828A6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D9AF2-D6CD-49D0-83C4-10C4F0A325E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60B593-FDE0-426C-8449-AA0D8B2F529A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5D6A13-B9D2-4AA9-B24F-2D4C84BF3C26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CEB41B-D8E6-436A-BAA2-C47397504278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5675D5-F770-4AB2-BA2C-808FC2EDE97A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6D7919-BB32-46DC-BD85-0E2E1022F7FE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B2C1E8-5572-4F13-839B-7FC9FCF49E55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AB0D42-D9FE-48AB-9D84-4E4A15E444CE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AFF5D0-03E7-4A2D-A618-D885C360E25F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441985-A4C7-43E8-8C54-7DA4731EBBDF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9E3B4C-0949-4BF8-84A7-AACEF2266F08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C9A02D0-371E-4644-8552-6D271AA20CD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2A4BF-4806-4DF6-BF8B-2541A759319A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3990779-985E-4322-AD08-DA05B6AF2FFC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E559954-853B-4D11-869F-16F3A9A55079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9B9D16C-8BE1-494D-BB65-6DB1E3D63A82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2D8FAAC-EFE3-42F9-958A-A60F71B12D38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6DE3AF2-9429-4B1A-80D7-E47C0E950166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EC9B7D4-3311-494A-A1FC-165C04A03076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4590454-070C-4B8D-A7A9-EBEB0C008D42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82B0422-E60D-44A8-96DA-BCDF70FE33E8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EC1CA80-A480-475A-86DD-5F5A5E55AA42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FC79CA4-578E-41FE-A8A4-2E05616D2AC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F4D621-CF25-4081-85C4-905CE5B4C676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F660871-B32F-42BB-B040-E49E8B1CAAE0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EBE9F9B-A47A-4E7D-A7FD-085B106BDD26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7BB46D7-9D60-4C1D-908D-65526FA1E7ED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5D87B00-3764-48B5-8B08-EDA3DD57F77E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A982075-240C-492A-B93E-F15B0FDC8E5E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12E8860-609D-4B3B-AC77-C924837E6DE9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DA3A5B2-6E6B-4693-800A-934295F485CE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EC21BA7-4A49-4049-8354-1B37223F1746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683A30E-C1F9-412B-8BA5-24491773A9FF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DFF8B6C-BC64-4F92-A94E-64ADC166FC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7D4E7-7924-4970-BA67-A16A0782B9F7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0399AB7-BCE4-4632-A78D-473EA6BEC353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B474072-CEF8-4DC7-AE61-15669E2A18BE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9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C4F7BF0-CB8A-4A80-86BC-AB8A7DAC896C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55F9E0-9ABA-445F-A09C-4C9F24B59E84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4D3ECE-32B0-4E67-AAA4-0022C4CEDFF3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833FCF-AE13-4791-B328-3C2E483B2349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D3D00A-333B-45E0-9816-7BA2EEBCD4B0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080653-D959-4FA1-846C-F5753F908514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7A8956-0580-4A55-989B-F43D4A0ACCEA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9E4210-D79A-4675-8B88-70DED87D510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1A4C3B-CAB2-4596-9F1B-07B4A0A3CE96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90E5CC-0DC3-4B83-9CBB-C8BB2DA6D5AE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1A3281-18FE-4B77-B96B-7B9717543982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9D5ECF-CE3B-4BC7-B507-9B1878B0B8F4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650712-7074-4FD9-97D2-FBC013E7FFAC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1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2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DC9CED-426B-4CA3-83BD-F5F5500A8A9D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2A7C217-F5FD-481A-82A0-2C726C95EF13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AF386ED-030F-40CD-8ECD-14F46F036B7C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AEBA738-900B-4F9A-9116-10C9FFBD8AFB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26C1A96-3319-46EC-915E-975F18133A0D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35089E7-54A4-4E57-A1C2-82902FFB38E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1EECE9-DE02-4DAB-9725-4B91E48F7D4F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F967671-B84C-4CBC-8ACC-E874484589EA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F0633C4-A496-43A9-A409-988314BC1B9C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C9864B7-A9F4-4731-B544-B7A765B64B98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22789B9-A288-497A-A71B-40CCF3F95121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9F54AA9-E486-45E5-ADAF-57497EA3CA11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A9DBF7C-E8CF-40D1-974D-4ED90E5AC0CC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D248CC1-B505-4BFF-9217-29EE083ECCFC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DF56BDC-19D9-4D08-A2C5-FE577880D347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F3076C9-364D-4A9F-9AD0-CAA792931482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70E6E74-E05B-4494-8234-B9228A4BDC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ACF38-0A4C-437E-8389-9FE41F696A48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7660676-EB20-4651-A637-05EEF31BE144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1707468-8047-49DA-B484-8A9A3F088266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A211383-4B1D-4E0D-9517-9AB64CC138FD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9D4E4F1-0765-4AC6-928A-69242DBA30C6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940A8A5-B5BE-40CF-B680-6BD0ADB9AC09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562C058-62BC-41BE-AF91-98F0741BFA83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25C83B5-4468-49E6-81DD-FAE71CD674E7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08ADF60-CE56-4F39-81D5-F0BB4915C2F8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E5C1E0C-A509-4A91-B117-FA2648BC4FD5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74F43E5-C041-401E-BFD8-7BEA3D68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F2466D-4E0B-405B-91D0-0B94DF4F1AB9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43A5291-27F7-4B08-B628-959D8B9E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52ECE07-0741-4685-9DC0-00D4814E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E60EFD2-B454-4629-B723-45E103F8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53961EA-CCAF-4D1C-BAE6-46A8B85D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67DA38C-34A6-4B26-BADD-798FF650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C3537CF-B24C-4273-B8A0-F2D4B183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FBA8979-E053-445A-996A-5E411FA2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8FBDED4-BEA0-4491-A662-E7166F5E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0188B45-E854-4073-B174-F5F5011A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D209946-F9C0-4472-9C8E-C2985A14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7A6FF9-421E-48EE-AD5D-F579174E870D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1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70BD472-3907-430B-A7C1-EF62C88D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33B865-E0EA-449F-A67D-31512BDDFB4A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4DC503-834A-4A6C-902B-645A23078361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6AB840-0793-47C9-9FE2-7D7AAF885944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6FC26D-A78F-4A4F-A121-D3BD5F03882B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935824-5610-4A99-A40D-D7192D983C21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AB8C61-83CD-45BB-B719-2E1590CCCF95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977C67-34B1-4D15-9F19-70108C598D2D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3D63B5-1421-4A01-B888-CBAF7299949C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233EAB-208C-4D0F-A0DA-7492C0BEE88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0A4809-E03A-47C1-AFAD-1D4E55ED5730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55232A-63FD-445F-A454-85FF5FB916C3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18AB43-0C80-4C9A-A576-B792B8C71FEE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299B97-1FA0-442C-915F-FF4AA56612B6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6C1F482-7BAA-413E-AEDD-A472CFB98B73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90648FB-2DF0-4E32-8ADA-A568E00B7729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D6AC73E-6BC3-40B3-91E7-40497F8B678B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14836B7-83D0-41B1-9DE9-4B12051264E6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C71DDDF-E9B4-4D04-ACF2-A791BA3401E5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46AEBD8-CDB9-415C-BE49-C2D35FEE240A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6C16470-33ED-4DEA-8EB0-D5952F118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0E022-C075-4257-8E48-59F61E31DBE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B235CA-F80B-4412-A926-B54B58D8AFCA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88978EB-165A-4206-9FD2-0CC9B3D7E25F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41A0583-346A-40DC-AB0F-42491C42DBF5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B8AEA8A-BDC8-4203-9F0E-C17A18B70BB2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9B2ACA7-0C59-47BF-B2CD-95CCC13CBE3D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DD7E41E-D83B-4428-9698-F49FAF5817A3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75A60B7-E48B-4C85-A95F-EFB9B04A8729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DC629C4-97D0-4688-BC10-6643162CF624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19A50AD-231C-4767-850B-8F1FD5AC6FE4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93A2BF3-0D20-4F1E-ABB0-CC9C6EF83546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B6578BA-BA8F-4C50-BDBF-51BC474E9DE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9A797E-12E7-4616-9729-3E618B505DC6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56E9834-1A25-467B-9870-A8D4CD76CEA9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1D9445C-E01F-4569-A245-0ACFC2DA9544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59D9ECD-8E51-4B13-8A36-ED86964BF375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0241326-8E81-4C2F-B1FE-EC2B33A08B1B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3688F8C-4CC2-475D-B328-B846747C39B2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49C6D0D-B813-47E4-AB16-FD18F20FB4D5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BC4778D-5269-4955-8409-0756F83FA09F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3BFD8C-9C10-4631-8892-1B74F62E57E3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AFED6AF-9DAF-4A63-9AC5-EDF6ECDF7116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202522-B42F-43AB-94A6-D3577A075A9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B4BEDC-0C25-4449-BC15-84DFEAE34F7E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86789B-3365-4267-B4DB-0E645A9D49A5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E50BE7-E0F4-421C-9E9C-176C0584183A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03622A-BAF0-421E-8784-D5C74083B42B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672527-B945-4732-93D8-A59EC1A0420C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9BBE29F-DE43-49B5-BD94-9FCB1E2FCFC4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EE4E3A-7DC9-49FA-A7A7-8FDBF60CDB5D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21428AF-B1D4-4FEF-98E9-E21B94A4A31E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898CD1-931E-4300-9F97-0ABE41F820A8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4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467311-4DFC-4592-B2B7-8344D2924906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2986CEA-87BB-4FED-B40F-23A5FDA5B24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156D75-35EB-4C6D-8D41-9836487FF920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A681EF5-B8A5-4B66-AFDA-A26EFD586049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CA9F745-C4A7-4BDD-A863-BE70FCEAE312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D3E4BC4-7311-4B9D-B577-065E3BFC92A3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C7532DB-213A-4E98-85BF-2435DD3D5DB8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E769AD4-9FD1-477C-9F5F-568A128CA042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CA9E3F2-B853-4D4E-B93B-E9D33181245C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139F389-2751-4D76-9D7B-BEF877ADC0F7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A18FE50-7D8B-43EF-AD02-96560136073C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A4CB334-EEAF-4B73-9666-D2DD77FB5E21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8C33005-8526-4AF6-82A1-8C2749A0197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6C0D49-E472-4DEF-994F-2657664C6EFE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43E8467-06FB-4DFA-8948-031F9C9BC3EF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D19C0C7-D055-4812-8023-46750C4B5289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CF3302C-3534-4A8D-B360-50B68B194640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287FE3F-ECF2-4C2F-8207-0DFEE62C86F9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2E1F995-C7A6-401B-B7DE-39CDE12EC799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21A0183-3E65-42FE-8673-9D4EEB4E071C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69E834E-37D1-42F9-8BA8-49F7C737CF60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B4657F7-2BC7-48C3-94DC-E71CC4E9026D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43E39F7-CEE9-43F3-93CA-EA86712AED35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FC30285-831B-49B3-9E7C-01C2551BEC3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A7AB74-4235-4A74-89D1-0B693DE8B022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798032C-854F-4039-922F-0DCD26FB3457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7F12763-B8E6-4C07-A964-8A776AAE678B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0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D848E2E-6A44-4CF5-BEBD-4BDB4CE6BF82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2B151F6-A3F2-44FD-9F55-A0362F7AF043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EC489B-48B9-4AC4-AC59-CD168B564FFF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1DC652E-0C8F-4709-BDAF-6C75BE80E3FF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0A7E7E3-23C6-4079-B420-52070F771A52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8E50F24-CF0C-450E-BED3-25976D8BE55D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42D3C4F-5015-42E8-AFBD-CECA65713185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A2EEF34-4F5F-4B5E-9B76-1B127A380CA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6719A5-1EC6-4AD4-9315-3E7D6831CAFB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9192A8F-B1AF-45C7-B7C7-0C49D9755464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E241552-1225-42AB-A492-06FF48684B3D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56A3DE5-70D8-423F-83E4-4CF5EA0E8DBD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A9010C4-38BB-4366-BD98-96A9FA55583B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F978338-9CB6-4A23-B6B7-9C70BC657244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5CF56BF-D456-48C1-A76D-75EF209DDEF6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0FDED5A-A481-4E64-BFB6-D51DB9CCDCF5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96E8FA8-488C-4CBE-9393-AB90D4873416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50343F5-8F3E-4351-BA39-311936139F86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720675B-A68D-4259-A769-37272E5CD23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5C1DAE-3541-459D-9415-231DD0CB0CD3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EA5559B-2BF1-46D5-95D7-695BE9199CE2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73713E3-E7B1-4E36-A360-B4C0ED5D559E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2E7BBCC-4214-42EC-A09F-0E65B70A0B4C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63D15E8-8A6B-4697-AD14-D137C38EB9EA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17EB934-56CE-4874-B30A-6E0C287A67A1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E4351E8-B7C2-4866-94CD-5ED7C14FA6DF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17D0483-2F07-42AD-BD23-5012FF7E02A1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31913FC-E413-4EF6-8E5E-256929CD7480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382D515-4382-4237-ABA4-7723B96EE908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12FBA91-4397-47A7-AE98-5261B825E46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BC1E77-4EC8-46DC-97BC-FA915E7BF8B4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1CD9959-83CE-43F4-A52E-473F3EDFB0A4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4C2C732-9FE0-46C0-B294-7D7391340B25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4FFFC4E-A62E-469E-B6E6-4990C95BAB23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16C14EA-F9B5-4A45-9439-CBE851349DB6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0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20F4AF6-B2DB-43A5-98ED-6B7BECBF1F29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C437D40-DEDA-4B3E-8146-4AC7FB83812B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C1A0632-9664-44A5-BB65-EF23AC6F7E51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BC76296-C523-4E2C-A5B4-36684778147A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7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8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9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CB5BA5D-8CBD-4B91-A7A8-5C8A5F981EAB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5D237A6-4E3E-4E38-893B-CAC2B39760F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01C38F-31F6-40C0-9F95-A09EAA8669A5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CB6DC34-5B46-4806-BA1F-432775CAF3A0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674BAF2-ABA8-412C-ACD0-31332FABF0A0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3CF4E38-6B02-49FD-950E-54111DB9F568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F465E84-C8F8-441C-AA5A-8CE3C4BB80AE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406C2E4-050C-4101-BCE0-7146D04DDA5B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24A54D3-27BD-488B-B851-7515C8CBD31A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F9EE632-B40B-49F7-9ABD-08F186D26F7F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C3EC590-BDE5-4FC3-A140-0EAA050115ED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F20A8D2-44A0-46F0-B7F2-090DB8629013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40B69A-2263-4082-BCFD-0BF23612D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89E19-5F87-4CDA-A755-88659D27632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B877C9-E0DE-43EA-BE90-9708B171AFD1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C388379-E7B6-4B64-9549-214DEDE6A569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EB2C40A-9A12-4D93-8C5B-4F342802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51F117B-A6CF-4C67-B9E7-494E6F40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8B5AA48-2D84-4BF3-9CBD-36D2D159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52F3EAE-D2EF-4165-A727-67D0B391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2A56492-C351-4DB1-A899-7EB0FB19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4F6C245-2DF6-4F7B-8A29-7DAF045C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7CB3BB8-940A-46F7-AB42-86EC5969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BE3B92E-173A-4BA3-8415-A9DE4C1B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DCD7EDF-F285-4C13-8951-DD69B754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11FB5-0B7E-4B0B-ADBB-5A2B077D7C0F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BF01ACC-997C-4E64-A6D1-E698FFAA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D50EF48-77A4-4EC1-A75F-EDC437D5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3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4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5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6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08EB1B5-D370-4912-8DD0-DC1AF02D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8D9030F-EA83-4B69-952C-356B9BF08B4D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436DC70-0B82-44DD-8D45-3B99D33AC12E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429B198-545E-44BD-A4D6-BDA8D458C0FF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DF846E7-5416-43E9-8BF1-A2F4DF2A7C69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B43BEB8-AA9A-441E-831A-A0A0AAA4F575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E0BE1D0-BF63-4B04-A961-2B46A870765D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DE983C3-69BF-4861-8435-C03D6B6235C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331AD-8AE4-438B-9A9F-FBEE48A9D63F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A1B3A1B-27A4-46DD-9C8E-25A949C4E15F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116527E-0A20-437B-94B0-FF7FE00A4442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1519DF2-B582-47F7-B856-5ECC1FDAC312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12849DE-1129-432E-995D-49B812C9FACC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F17093E-9F15-41B9-9FBA-79217EA40329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A577EE0-1C0F-402F-B653-3126253E5CB1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D192080-6ACC-4ACF-A21D-545A959BE0CA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1CFD48C-135F-492E-886B-A9F2E72E717B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2FB09ED-60DF-4564-AA03-764F84311383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48A036D-7FBD-4DD5-A6FB-16167AA6BD2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67E03-E554-40EA-A352-791159196D5B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261CED7-7D6E-476B-AE6F-05B4D635ED4C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1DFF552-186C-48FB-8F6F-D096BD5395B8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7E69BEF-57D8-4CB1-9544-83F3A24F38AB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6B6133A-B5BD-4002-9989-81F3E589B2E2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C4F9FC1-6DCB-4873-A05D-6D23B9B6D7B5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5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409E17AE-D5B4-472D-B947-3373FB4252C0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64B153D-0E32-40D2-8A53-016730218E9A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FB4FB47-9AEA-45A1-9828-80C0B097C0BA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7CE5378-EDBC-423C-B763-9D2B5293A8F4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DE29826-8666-43E8-9649-EC69DD76788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AAFA5-6A34-4B75-8D6A-11C01D5C6668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614814A-CBD7-4BCC-8350-D9C4751D5B74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A1BA2FA-C109-4104-8432-436AA925AE87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33F542C-57C0-4843-ADF7-3777DB352AC8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1B040F7-204B-413D-8336-2E8AA734A536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49F36F9-B07D-407A-B439-283C7D35672E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4CF6DFD-95C0-460A-B7B1-9271D29D226B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0914F74-2B13-4827-A2C5-90A54314B932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03AF947-D0AD-4A6D-AAEC-C163EF70F517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C6D9A29-3F1F-425E-8078-D2DA786455D4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2754901-E65D-449B-AFD1-04D23EC2451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F1C13-1689-43EC-BC9F-D4C038EE2FC6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6AD40B5-7038-43C5-9834-92C8D589082F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D0C6EE0-A410-4543-A854-16106D2ACFA9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1B75FFA-20FA-432E-A425-05EF842864A4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9A138E3-94B0-4A6E-B8D4-7762B2A31D01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087CD95-FB96-422C-ABD7-369E9992E764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914E9C7-91CF-4297-9F02-C7C22C932EA6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CDA509A-0BB8-457E-9463-52857C6928EF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1926F31-7DE9-4897-9991-A77045379CFA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24872C6-77A1-499B-BB1B-85B8C26E9040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A0C15CF-6E3B-4F9A-A801-6E3DCEF58D0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2190C-BB1F-464D-ABDF-73C51B67E6CB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9A91C06-2C8C-4EB7-8DA5-98EFE6FD342E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BA005ACE-9618-4910-8E3A-44639758083B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318BFD1D-9F1E-4824-85D2-01D21F7095C1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6B43694B-C1CB-499C-81A8-1C2BCC93D492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B2AD49F-E086-4293-BE29-A1BE570302B8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614D3CF0-5CAA-4FAA-AAA2-CF4773D85AAA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6401B971-8A86-4FBC-A121-4BA33BF69EF8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57CB6ED6-5A3C-4CF8-B5D6-44C6136E2A8E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49E31AF-C874-4861-8C38-91D93BF8070B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D3C97B80-3FC2-450A-9AB3-6771F13C5AE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29051-90BC-45E5-A56A-8CCF70EEB000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53A3EB3C-6A8E-4E5F-9D09-2C7535D4054E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E6297465-9697-45C7-9B83-E41065CE8953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1A1CE9A5-1B6E-4932-AEBB-0271BF5AEFCD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595F608-B1B4-4E3E-B65A-84BD6C71824C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22D7A04-1C3E-4D27-BE6E-EAA949F40BDB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0AFE75A-D50E-40F0-BF4F-AD413E8A8264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83FE950-6B36-426B-8398-03958380A779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0C2E706-F415-47BC-8E04-E1C6C3768F4A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2120D3B-95ED-4267-A0D8-B1FFBE58DE5C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6660D77-C9D5-42F4-B41E-12515F47E95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7E6D8-7F8C-44B4-98FE-DED1D247558C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5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E36719F-F831-4DBE-883C-9D1621220FE5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274BA3D-F628-4561-91DC-23F07D41EEEB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2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845C420-DBE8-410E-A73F-55FF504B44DC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7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E34E8D6-5ECF-4932-8AFF-73A53CB6661E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0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1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2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3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4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5EA1CFF-5E93-46F0-BD33-DEA83A707F2C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7088BA0-8321-4C5E-8F7B-CDA9652E73B4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35CDB2A-F530-4D8B-8AA9-B0A92D511BA9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CC25FD0-6841-446B-B51E-8D4017DFE5B3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BAA37F1-6F2B-48E2-96E6-2722290B131F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FD24B70-AF20-482F-8C6C-75CC18424EB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AFEFA-9B7B-47B0-81FA-08C5CCA96FB0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83C409B-BA6A-493C-B7FC-806DA8DC41F4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7DD0F7C-BEB2-416A-B035-4032F8C11D99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9AB8D19-37DC-4AA5-9716-D04F8F16CDFA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0F162E6-2455-4063-BED5-8BE40F795F58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81747B0-D8D8-4261-A002-97CA05788678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6562E56-659B-4AF1-B8EB-E4358B921303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8A28FF0-6716-487A-9BF9-D458D6F68355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15F50C8E-FEF4-44F3-890F-2B58F5C96C4D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4CAE0642-C19B-4948-96BC-A83A02E25F17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04518443-F5E6-49F2-B41B-E978DE85A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C8178-F405-4545-ADE2-39EE3D7165F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94464-4985-4BA1-9A37-1334B41ECB85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5668EBDC-828F-4BAE-98D9-3734EA2B3DA4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DEB00B94-6179-41F6-B832-7AE9C033834D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CE44B108-8E8E-4A20-ABD6-19724C4D2978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F6C7A0B2-CB57-4EE1-A197-2C82C8AFDA03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1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5B005AC7-4FE0-42C0-A20E-C339B53F4545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CAF4ADD9-D897-4668-9209-408338007CF5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B6E2436F-0B6A-4A3E-8A5F-1B6F2E32C8F3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3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198A3CCA-5088-4C3F-979C-A9CEADE2896E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6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7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8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9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0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625A25E3-7562-4C52-943E-503E26963BBE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74A8FE2-2119-4F8E-ACFA-724CD95B6D9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B526D-6299-4541-9E2E-8269ADBB52A8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D6E92CB-2B9F-4DC6-83E8-B5F23C3AAF06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ABBCD3A-994E-4352-AC84-FEBD84AFA1F3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1E43442-E7D8-4D5B-8562-78342F393985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B093E92-7B04-49CC-83C0-1C2688CBBE21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22030CF-E4E7-46D2-A302-868FC8F45CC7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283BCF0-0D57-4DDE-B831-B9608D2B55FF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7B94655-0765-46CD-B472-7010E62BC6E5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82E9D9A-A7D1-4B9E-B9EF-FB1568B569DC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901EB45-17E1-42BD-859B-B3441108C944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78B620B-7C4B-48F2-A8DF-4B4B5E0F3DF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E5E2F-7F0D-47D3-A659-0012F15BC95E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7C29F1F-7C84-4ED7-9EEE-D7AB2402D776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6042ADFB-B175-4FE8-907B-5E8FC2DD3A53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51921ABE-CCD8-4877-95B3-6F282619E242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0856EE14-8207-4822-A68F-7C4BEB44E6AF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78EDE990-C641-400F-9550-C3A4AA063461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7BA148C1-337B-4779-8F96-C8178D94852A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A76A1D32-3201-4E5B-9F55-594F071E0335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6514C3BB-EE2E-40CF-8BAA-2694D536A4BD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7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AAF4E7E0-5F34-40F3-96A6-EB5591127E79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1463F69D-BB65-45C4-8E66-0B9A4D007C3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F17662-C7C5-4D9E-A510-A29327AECA22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6D8B850-3E51-4C9F-8817-76EE2C254034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9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BBDEDFEB-E137-43CB-9AEE-54C6D31FABEC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2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3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4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5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6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DECCC46-92C9-4DC6-BE86-F2691129A5D6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994E4870-B724-4B9C-89FA-96FF45F9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B3B71A31-474C-4E66-B534-AB8B8B9C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B1ACDB21-76AB-455D-922F-D2A13CF3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8CCA614D-C440-4D35-93A1-9A2F09F1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9A4AFCE2-C237-4753-8FBE-A0BAE744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5F95D3C-CF04-45EC-8455-8A6F6915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52337729-F426-4009-AA5C-B8D458A0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D93BC-B8DD-4E56-BB31-7466332DFE67}" type="slidenum">
              <a:t>&lt;#&gt;</a:t>
            </a:fld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810F2C82-F1A2-43C1-82F6-BC1A617A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71FB7FD-E9F9-46A7-A821-F3481F0A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D3755596-20D5-4DE2-94E6-5D1BFEE6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3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F771AA4F-895C-4618-80CB-A4F8A3732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8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9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0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38E02214-FC3D-46E6-ADFB-2F15C5EE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89701CF-7C6B-4A6B-A8A6-C32AFE8F7F46}" type="slidenum">
              <a:t>&lt;#&gt;</a:t>
            </a:fld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AC9D15F-95E0-45D3-9575-A4BF58FBA1EA}" type="slidenum">
              <a:t>&lt;#&gt;</a:t>
            </a:fld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629D889-EC58-4470-A80D-04F39808A9EF}" type="slidenum">
              <a:t>&lt;#&gt;</a:t>
            </a:fld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D8947F7-58DA-494E-B84F-2E59E51B3D6A}" type="slidenum">
              <a:t>&lt;#&gt;</a:t>
            </a:fld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C95B139-0EEE-430E-B5D1-0043C6E0B9E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2336F7-8982-47AD-8ACF-7B1319676588}" type="slidenum">
              <a:t>&lt;#&gt;</a:t>
            </a:fld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9C584CD-EDDC-42EB-A25F-A6D5A287BCE1}" type="slidenum">
              <a:t>&lt;#&gt;</a:t>
            </a:fld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A285748-A9F6-4218-A5F4-121D0755DB0D}" type="slidenum">
              <a:t>&lt;#&gt;</a:t>
            </a:fld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3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5431F4E-16F7-4D47-AB4F-24A90411FBA4}" type="slidenum">
              <a:t>&lt;#&gt;</a:t>
            </a:fld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725D714-C9AF-4053-93BD-ECD17BA49406}" type="slidenum">
              <a:t>&lt;#&gt;</a:t>
            </a:fld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0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0CD10BD-C08F-45BA-B3A9-6926668B9EE8}" type="slidenum">
              <a:t>&lt;#&gt;</a:t>
            </a:fld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5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F3347AF-7972-483F-B300-23FF4012846A}" type="slidenum">
              <a:t>&lt;#&gt;</a:t>
            </a:fld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8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9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0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1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2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0DCBF3A-8CF0-46FA-94C5-5A96FF2CC82D}" type="slidenum">
              <a:t>&lt;#&gt;</a:t>
            </a:fld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F8FE43B-C44F-4361-87CE-6E1CE5F4ECAE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87BAA7B-D870-44CA-9B53-82BF1C32BF59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A529F0B-0526-4CF3-B12F-AC6CCC55993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9B9212-9041-4D7A-97DC-52E9A458AB27}" type="slidenum">
              <a:t>&lt;#&gt;</a:t>
            </a:fld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9C348CF-238A-445E-8B21-05F5A3D3D0BE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A750A0D-014D-46B3-A71B-00D17A6100ED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9D4D0B7-9063-4DFC-AE66-1D7A9C696651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20FB2B2-94CC-4F03-A9BC-2F7545B09C2B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5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A74C488-D161-49A8-AA89-51DC2157159D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085E66F-8A87-49B7-9AD0-6712716F39E1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2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776D870-86B2-4C92-A570-03E0C4B085D4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7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7455CF9-B61F-4E77-AE53-7BD1FCB78358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0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1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2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3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4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2F7620D-13DC-420E-8BA0-C3F706DCEFBF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E458A933-A651-43C3-BBB4-0A19261D36D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704552-0AD9-47E1-8AA3-9E9589ABAB38}" type="slidenum">
              <a:t>&lt;#&gt;</a:t>
            </a:fld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D5389F4-222E-445A-89F1-922DD331F17C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AD0127E-3FCA-4A9D-8FC1-BC457BD9A430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2AFC985-68A7-41DD-8674-05034B907A24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9D38410-1007-48FA-905C-86A70A05C143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2DBF277-4318-473A-9E73-E18F2BD65CAE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C996EAD-6C21-4EBA-9629-BEDAEB03E635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7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CB44E3B7-635F-4B62-8CD4-2EE4243449D1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3228D20-F337-4855-B0E7-A15F3049DCE3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4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A7528C0F-1FA5-4FEC-959D-37D372E525B5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9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20C18F2-159E-467E-98CA-899E400D82E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36DFEB-D0F6-404C-B7BA-B122F9B28899}" type="slidenum">
              <a:t>&lt;#&gt;</a:t>
            </a:fld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4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5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6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111D49D-0B96-4257-925B-263C9B9AD7A3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23BE777-0681-495A-95A1-52D22E10D674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026045CA-8402-43FB-84AC-6A423A97B055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40CE655-3A79-4D88-90BE-3E887BD47FC2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F513F9E-D25E-485B-A9A8-2C51E5954F89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A8F5272-CE81-46F5-AC1E-D5010CCD8E52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ACAADC4-26B6-4A44-B7E2-2F3F37583BF8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0AA39F9-951D-42E7-A800-3F66C7FD6B23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D4C07C2E-1AE4-4B41-9531-BE60A4442E23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A569980-B0E5-4DC5-B9DC-CB38F354976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61AB31-A760-41A1-A26D-B83D4A562097}" type="slidenum">
              <a:t>&lt;#&gt;</a:t>
            </a:fld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2B196A9-E5C6-47B4-8277-74E334F962EE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07377DD5-EEFF-43A4-81C9-6817DC106F50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5F6DD15-7FE5-4E55-9C31-9CCC76FAA7BE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2F5B596-DFFD-4FC4-92E7-C8539B9325E5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59C0AB4-89A3-4983-90AB-8393E9A2538B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CCBE0FD-66A2-43A2-8FA0-F1911C8903E9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7E449CC-E04D-4DD3-A0AE-A7C74165B122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74ED879-F977-4DCB-902A-91D6B3A950FA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8ABC993-502B-4D69-A25E-5140216E61A5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F1C2F86-35C5-45E9-A575-5EA1B2C5A6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71995-2010-4F87-B3B6-0AE77D3C979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73F8E2-6442-4181-B04D-1669576835FC}" type="slidenum">
              <a:t>&lt;#&gt;</a:t>
            </a:fld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1E6AEDA-FFFA-4950-8304-1B52DE1814F6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35D605C-1E4D-4956-8DCE-9E581FD4DB20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9BCDB0D-C14D-4118-BA5D-066F6CDA1D58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3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3E2D354-E13A-4A43-9586-EE4D1056BCA3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6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6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7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8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9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0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4C428FA-7C99-4A2F-9120-168B36C4F414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2D94EF7-8249-4DCF-9A27-51F6042C5D46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3ACD8B65-AEAC-41AE-BE7D-648ECB141623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E84CBC5B-649E-40B7-A8FE-C941888030B8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48C69A7-BB50-4C19-9BF8-772A53AA8476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752EE2CC-00AB-49B7-AD35-C8B358D41D5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B49E25-404B-46B5-8B7C-2E5ADE6AE7C8}" type="slidenum">
              <a:t>&lt;#&gt;</a:t>
            </a:fld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4314F8C-DF62-484E-857C-699773C15C59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E74932B-77B3-44BC-B1B6-0C879081B0FE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C558B22E-206A-44F7-A974-94D3B9EB959D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A706B9E-EB1A-415A-A9DD-1A70536C5C49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9E8B515-0D84-43BF-A49E-86A9949264E5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E07BC02-0942-4313-96EC-5D72CE01DB85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B8E82BC-6429-4317-A51C-7E2A7CECB4D2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544052B-C5C8-4B11-A48C-C7EBAB4B68AB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03288FB-9590-423A-90E1-B73AF9787A7F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09D4AE1-55B9-419D-A3A8-CE7064FF22E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125DEB-CF53-46E9-BB70-C449C0A9E858}" type="slidenum">
              <a:t>&lt;#&gt;</a:t>
            </a:fld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D0C01DF-95BC-47AD-A9B2-8B11B026057D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B4CDC21-E8DF-4974-A75F-5A4BD0296FC0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0182A45-3D1F-4B27-99BD-4F6EE782E74A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E600E6F-4356-48CD-A03F-E624A656BA1A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C1829FE-EA60-4113-A85A-CE05542A9BC2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AB47322-ECB1-452C-A70D-DB722639FF4F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83BB4CA-BDB0-4088-A534-B3244293B5CE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4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7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E29EF86-F9DD-46D7-8CD1-759EB7C8B3E6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2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3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4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64E4409-BAF3-4AB2-8143-4F3AE9AFCC35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D16A39B-BA4A-4993-8357-58A544ECC24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F53808-F49B-4B0A-ABC0-A635D82F95D5}" type="slidenum">
              <a:t>&lt;#&gt;</a:t>
            </a:fld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88A055E-9EF5-4187-987D-349C678DB5C4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4709FAA-E407-4287-B4B0-575E972F50AD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C29990C-5C65-4F80-8985-CFD2D217828C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FA603CF-B58B-4766-B799-87A967CF1AC3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D739808-2B63-48F5-B457-286285C10368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5DB53E9-D76C-4BB8-87D8-715AA16EA36F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253FF58-5C15-4215-98B5-0CA054262AA1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A7A155B-73FC-4256-B6F1-7297FA52CBE3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C16E442-6564-49D6-A8AE-88DAA5BBF027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9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459FAA0-FCEA-400A-A547-798BC2836B4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AD688C-4A29-4914-8560-8F48BC65C581}" type="slidenum">
              <a:t>&lt;#&gt;</a:t>
            </a:fld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4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5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6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FFB16A0-7F39-4F41-827F-AC7F4F915880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ECEF5C54-FC67-44E7-B3AE-2C4303995DC0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0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14A91C70-2704-4B43-87F8-2061F643BA73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72CDB9EA-E4DA-432F-8BEA-13636A2A328D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C438AB90-D375-4164-8CDA-D0614982360B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940EBD61-C0D9-4336-8CD9-8CEF14A48FF2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0A740CCD-7FD2-43CB-9CF9-EF4BEA2992DD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90C40E87-320F-48E5-8C42-6B7A3EAADA2A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928585F1-FDB3-4E9B-A557-494A62B7ECCB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2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DC8B6199-6047-46FE-9CE6-302E5EF9ABA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EC26B8-F0F6-4D94-ACB3-49D7CB8A72DA}" type="slidenum">
              <a:t>&lt;#&gt;</a:t>
            </a:fld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2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ABDC0B7C-19E2-478B-851A-CAE4E4BE405C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8AB91DBC-07A7-4E73-9E86-7030E055E5A3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0330F110-0F2D-45DA-9FBF-7370F87786A2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BCF4353-3E22-4B3C-8FD1-8279B883E903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18CA397-8F46-4E4D-9258-2C3F81F33AA9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3B251760-02EB-440F-ABA2-C87744E11378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62A789D-A8CC-4C76-B380-3AE98472071A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4BB685C-44A7-4AC6-AB80-D3824BBB66E0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77D24AB-2F0F-47DB-BB94-7322889DF84F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1B16628-8C5F-45C8-B910-4EDF12D2298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5C496C-E352-40B7-A764-97C985751696}" type="slidenum">
              <a:t>&lt;#&gt;</a:t>
            </a:fld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1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321A38D-A523-4688-96F3-45D28A9B469B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1E5024F-8533-4D61-B707-FF5EC1A48D93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11697C3-D881-41B3-B60B-8F13020F9302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3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AAECA5D-BA34-4E5F-ABF7-D02AE5BBDFB5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6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7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8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9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0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ACE9120-FB9F-420B-9E9F-A54BE9B34874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A914BAEE-DF63-43EC-BFA1-5C41160B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785C4895-FE6E-48A2-925C-03D49222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09E8D991-98EF-4649-BE74-BE2BEAA9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1C52B765-4A04-409D-9A68-FAFB1FC6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9D061BDC-C2EC-4017-8F7B-203BF422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310CB2-DEA8-431D-8801-4B4AC6B54FC5}" type="slidenum">
              <a:t>&lt;#&gt;</a:t>
            </a:fld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467680BC-F9DC-4971-84CA-0D473CD0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50BF16DE-C3E9-40E2-9240-BB1AF001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0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5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13E7913F-3DB3-4F35-B13A-8C7E6CA4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D6A8AD60-737A-403A-B120-30BB9EA6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0C22F4F3-17A1-4CDA-A652-BE9D3075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7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EEF6DDB8-980C-4A1F-8D9D-96ECAEA7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0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1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2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3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4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4347CF56-7073-41CB-A4F9-15341871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A2B784B-CD9C-4765-95D1-81042EC72865}" type="slidenum">
              <a:t>&lt;#&gt;</a:t>
            </a:fld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B286608-6E01-4754-961A-8CD234381A04}" type="slidenum">
              <a:t>&lt;#&gt;</a:t>
            </a:fld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271272E-7236-4C99-8EB1-113D4549657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893C84-4EB5-4007-9B2E-78D6C736F072}" type="slidenum">
              <a:t>&lt;#&gt;</a:t>
            </a:fld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20620C1-37D7-4450-B364-35ADEE921DA5}" type="slidenum">
              <a:t>&lt;#&gt;</a:t>
            </a:fld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7557ACB-4FF7-41C2-8C52-E77C48809CBC}" type="slidenum">
              <a:t>&lt;#&gt;</a:t>
            </a:fld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8388C77-055A-4846-85EC-ECB14EFA3D65}" type="slidenum">
              <a:t>&lt;#&gt;</a:t>
            </a:fld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7463981-7A9C-4BD3-AE34-C91CF9189EEC}" type="slidenum">
              <a:t>&lt;#&gt;</a:t>
            </a:fld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0EA99F4-E9EF-491A-BAEB-82F0AA842AC1}" type="slidenum">
              <a:t>&lt;#&gt;</a:t>
            </a:fld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330FCF7-276C-4A0F-9206-442343B7ADF1}" type="slidenum">
              <a:t>&lt;#&gt;</a:t>
            </a:fld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5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B516436-7958-4B7C-ACC7-70EAA107FD3D}" type="slidenum">
              <a:t>&lt;#&gt;</a:t>
            </a:fld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5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C79A0C5-107D-4547-8B5A-14D7BE6D9CD0}" type="slidenum">
              <a:t>&lt;#&gt;</a:t>
            </a:fld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8D46725-7DFA-4C22-AE8C-25A16FF4C30B}" type="slidenum">
              <a:t>&lt;#&gt;</a:t>
            </a:fld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8D20126A-4149-4BE7-96EC-6B6381294D7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B1EE68-BC63-4B4F-97A0-0A334CEB5625}" type="slidenum">
              <a:t>&lt;#&gt;</a:t>
            </a:fld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AD80385B-C785-435B-B3EC-600AF544EDFA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5EEA5C62-394E-4454-BDD2-3D50970A61F8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66880AC5-7852-48BF-87BC-9EB85FD9F0E8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DC720572-98DB-4EEC-8134-3BD26123D50E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6A52EE04-DD6A-4009-805F-865C8A5F504A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FAB95E88-9FB0-4D7F-B9BE-A7560623BF58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8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1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B85C1F8B-47C6-4A6E-9C4B-3BC5396E1745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9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79C0E119-C648-4BFF-9E16-798F3C275846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9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8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4C83B982-375D-47C7-95DB-971460F907CD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3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44C9F2D9-670D-4EC7-B55E-CF511A475D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9173D-CD18-4A68-AFAB-0FD586AEBF9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053AD0-2037-4392-914A-DC07DC1EC575}" type="slidenum">
              <a:t>&lt;#&gt;</a:t>
            </a:fld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7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8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9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0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BC709D31-9606-4338-A4D2-B162FDABA732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833FE82E-FCD3-4781-984F-14E52D827317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1ADF933-D764-43E6-A785-4E96C88DC21E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0103B57-F4BE-4139-9B6C-8E93523000A4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5E76A158-7004-49AA-AC57-CA05647F9C65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7A206CC1-FA52-47FE-898A-8F765878EEBF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F5D5439-84F3-40B8-A8CB-5C77BA568DEF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45DCB185-19DA-4FB6-9D78-D7FFD59D498A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83B3AE67-C69F-41F0-9BAE-D4AAC8ABF3E5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2EF8E61B-0D33-4C94-A2E4-3D73A770A9C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1BEE4B-7B73-4EA6-8C8A-5DA31CBF9ACF}" type="slidenum">
              <a:t>&lt;#&gt;</a:t>
            </a:fld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4C1637F5-1F62-48A9-99FE-C1E374BBA8C0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0622040B-7752-4862-8780-6CF0FF2ABB3A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82A4EA1F-974F-41C7-A9E5-340E730B8494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81A1C53-ED32-41C2-8FA4-04B4D30C4B4D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04410FC-0E3F-46AB-8A3E-38BE78992C17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FF98A70-49A9-4431-84B7-DE4181BE14F0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77773E0-8F29-4A80-B31A-9389E9BEADC0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155E979-4D87-4874-9A85-E18C30B2FB2F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8C82A4C-55B2-40FE-AFB3-5D47AD232A2F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94640EB-DFAD-49D5-AC40-3ED839E417D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C95122-6449-4DD7-8510-25B70446A57B}" type="slidenum">
              <a:t>&lt;#&gt;</a:t>
            </a:fld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7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7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4B1D71B-5FE4-429E-B14B-0FC898F0A5A5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7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1E34B29-B942-4EDC-BD12-9C1068A17317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4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947BBF6-4809-4EEF-B3A9-47D62CD8BCD6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9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747EDA2-E79B-4175-AB98-0DBFE958353C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2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3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4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5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6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D79B484-C302-4F38-AD56-427B339D9456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C85D9445-C16B-4598-B619-BC8D90DF86E4}" type="slidenum">
              <a:t>&lt;#&gt;</a:t>
            </a:fld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05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3D2CAA0D-5E7A-4C03-8FD9-CFC8B8005667}" type="slidenum">
              <a:t>&lt;#&gt;</a:t>
            </a:fld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F710D2AB-98B6-4AB9-8E33-59A196D88D6E}" type="slidenum">
              <a:t>&lt;#&gt;</a:t>
            </a:fld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76C38AFE-84A0-4FE0-B952-D409060D9CB1}" type="slidenum">
              <a:t>&lt;#&gt;</a:t>
            </a:fld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9B32742C-C3BD-45BC-9E4F-FCD4E78B49A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2B833E-35C6-415E-B184-02DE8A91F982}" type="slidenum">
              <a:t>&lt;#&gt;</a:t>
            </a:fld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444DAC95-14B8-44A5-AD47-3D5D26ADFD2B}" type="slidenum">
              <a:t>&lt;#&gt;</a:t>
            </a:fld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9A81DCF7-F54B-4307-BE28-39193CE0E404}" type="slidenum">
              <a:t>&lt;#&gt;</a:t>
            </a:fld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1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0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1C97B25A-78E0-4D13-8A15-2C565AF85D37}" type="slidenum">
              <a:t>&lt;#&gt;</a:t>
            </a:fld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B2A76E97-41BF-4301-BAA0-BC839063BDFB}" type="slidenum">
              <a:t>&lt;#&gt;</a:t>
            </a:fld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5C326B52-1436-4522-AFC7-4A1B32E88B70}" type="slidenum">
              <a:t>&lt;#&gt;</a:t>
            </a:fld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2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30058572-27AA-48AD-A421-030426F8D835}" type="slidenum">
              <a:t>&lt;#&gt;</a:t>
            </a:fld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3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5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6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7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8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9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1DA7A9D6-D0F8-4119-A7B3-7498D354D436}" type="slidenum">
              <a:t>&lt;#&gt;</a:t>
            </a:fld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3B7A8CF8-820E-42DD-B043-523C72B99468}" type="slidenum">
              <a:t>&lt;#&gt;</a:t>
            </a:fld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CDD2A830-5A13-4147-AFE7-7F11B33A1E77}" type="slidenum">
              <a:t>&lt;#&gt;</a:t>
            </a:fld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3990A407-B6B2-423A-8BD1-60F934C7B67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00A7FC-2BF5-445A-8189-A7BE84017CE5}" type="slidenum">
              <a:t>&lt;#&gt;</a:t>
            </a:fld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6ECE35D-F7ED-4496-A482-0DE1C5C747E1}" type="slidenum">
              <a:t>&lt;#&gt;</a:t>
            </a:fld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A7D8976D-FB85-431B-9390-57F003B871A5}" type="slidenum">
              <a:t>&lt;#&gt;</a:t>
            </a:fld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61A84B9D-146B-429F-9D56-11D63165B35D}" type="slidenum">
              <a:t>&lt;#&gt;</a:t>
            </a:fld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F9412D7-217B-464C-9757-E4E5982DFE34}" type="slidenum">
              <a:t>&lt;#&gt;</a:t>
            </a:fld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6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3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646A7C79-1347-4DC6-9739-456771B2D714}" type="slidenum">
              <a:t>&lt;#&gt;</a:t>
            </a:fld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6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F0798D7D-184B-4D53-8490-3F98A038DC93}" type="slidenum">
              <a:t>&lt;#&gt;</a:t>
            </a:fld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6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0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C8260331-8EA7-4A42-A2D2-16D12894409C}" type="slidenum">
              <a:t>&lt;#&gt;</a:t>
            </a:fld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5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D72924B-1384-454D-B48D-500315724C30}" type="slidenum">
              <a:t>&lt;#&gt;</a:t>
            </a:fld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8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9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0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1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2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CC7B0A05-FBC5-43AA-9208-D9C82FD34DE1}" type="slidenum">
              <a:t>&lt;#&gt;</a:t>
            </a:fld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0696C3E-92EE-4EA8-B712-F72EA9D7FCF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71BB81-8D73-424E-A335-B2103BAC6DD9}" type="slidenum">
              <a:t>&lt;#&gt;</a:t>
            </a:fld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2BB322E-AFAB-48E5-B00A-2CA8468392CD}" type="slidenum">
              <a:t>&lt;#&gt;</a:t>
            </a:fld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54F3781-28D5-44AA-AE24-FABEF5BAEC85}" type="slidenum">
              <a:t>&lt;#&gt;</a:t>
            </a:fld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CC5D183-D734-4F9F-B097-1DB554EB98CD}" type="slidenum">
              <a:t>&lt;#&gt;</a:t>
            </a:fld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5A7C9D4-E7E9-425C-91CB-00EDB3911BE0}" type="slidenum">
              <a:t>&lt;#&gt;</a:t>
            </a:fld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71DABA2-F4C8-42CA-A699-4F6B47E9391B}" type="slidenum">
              <a:t>&lt;#&gt;</a:t>
            </a:fld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FC96847-5FDC-4560-B693-50A335184F29}" type="slidenum">
              <a:t>&lt;#&gt;</a:t>
            </a:fld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466C353-2F63-47CF-928C-9822B35BA3A6}" type="slidenum">
              <a:t>&lt;#&gt;</a:t>
            </a:fld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01D0925-BCF0-48F3-B2FC-A7C4FF45D1A7}" type="slidenum">
              <a:t>&lt;#&gt;</a:t>
            </a:fld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1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18101ED-7913-4FC4-AAF5-9AB0B8EB4DF1}" type="slidenum">
              <a:t>&lt;#&gt;</a:t>
            </a:fld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1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F084D34-54D1-4834-B302-BB4F13601E1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FECE8B-0653-49D7-BF16-159A4B163622}" type="slidenum">
              <a:t>&lt;#&gt;</a:t>
            </a:fld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FC9ABDE-DE3B-48F5-98DA-EBAF775D36E4}" type="slidenum">
              <a:t>&lt;#&gt;</a:t>
            </a:fld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530F1679-3B85-4DAA-AB47-DAE08F6C2251}" type="slidenum">
              <a:t>&lt;#&gt;</a:t>
            </a:fld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0B48D341-4CBD-41F6-AD22-BF98DAB6A297}" type="slidenum">
              <a:t>&lt;#&gt;</a:t>
            </a:fld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490BD7AF-8151-427C-9FA7-9AA940E9FF6E}" type="slidenum">
              <a:t>&lt;#&gt;</a:t>
            </a:fld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9E3636E9-A195-49E9-B62A-3A7333C3D985}" type="slidenum">
              <a:t>&lt;#&gt;</a:t>
            </a:fld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CC61FFED-A4E9-47BB-9AF6-130AB60146F7}" type="slidenum">
              <a:t>&lt;#&gt;</a:t>
            </a:fld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55087921-EAC8-454E-B5EC-A5FCCCF0257D}" type="slidenum">
              <a:t>&lt;#&gt;</a:t>
            </a:fld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4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709E9525-1AC4-412E-B7E5-E4E77D9E2F65}" type="slidenum">
              <a:t>&lt;#&gt;</a:t>
            </a:fld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4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B0AB66DD-09A3-4A7D-8CE4-F46F650B07BB}" type="slidenum">
              <a:t>&lt;#&gt;</a:t>
            </a:fld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7D3A794B-3BE5-4739-A1BC-683188AEB7F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E3C19-0462-43CA-B1D8-451CB30D4C03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5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E9E99FAF-FC35-42A4-A7EA-26B8FF879798}" type="slidenum">
              <a:t>&lt;#&gt;</a:t>
            </a:fld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3651F0C0-9326-41F8-8B3D-B6D760155A0D}" type="slidenum">
              <a:t>&lt;#&gt;</a:t>
            </a:fld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12D1AF14-AB69-4219-8F3E-66ECCFA44CCC}" type="slidenum">
              <a:t>&lt;#&gt;</a:t>
            </a:fld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1843812A-A660-440C-8B1F-EAF3BD25517C}" type="slidenum">
              <a:t>&lt;#&gt;</a:t>
            </a:fld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F8784357-D5FD-44E0-B19C-9F590893913B}" type="slidenum">
              <a:t>&lt;#&gt;</a:t>
            </a:fld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A794DEC1-DD06-400E-B637-12DCC8BB1EEA}" type="slidenum">
              <a:t>&lt;#&gt;</a:t>
            </a:fld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8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66D2F2BC-33C2-4C52-8848-7AD3154C645C}" type="slidenum">
              <a:t>&lt;#&gt;</a:t>
            </a:fld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D9D6200A-4E42-4D91-8AEC-74506BECD9A2}" type="slidenum">
              <a:t>&lt;#&gt;</a:t>
            </a:fld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08C6F2B-F0B6-4017-8899-80F3F4DF1204}" type="slidenum">
              <a:t>&lt;#&gt;</a:t>
            </a:fld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9E924F3F-6ABC-4818-8513-AC927885061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ABCE5-6CB3-4213-B6C9-9A5E8CBCD255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184BA210-FA99-418D-894C-DFE9F68B4587}" type="slidenum">
              <a:t>&lt;#&gt;</a:t>
            </a:fld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533B8AE7-5529-4BE4-A32E-D53E32F14305}" type="slidenum">
              <a:t>&lt;#&gt;</a:t>
            </a:fld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8A8C5BD1-8943-4577-824C-93E92E8BCABB}" type="slidenum">
              <a:t>&lt;#&gt;</a:t>
            </a:fld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0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F70CEFA0-336E-4925-8EAF-535FC8EDEB0E}" type="slidenum">
              <a:t>&lt;#&gt;</a:t>
            </a:fld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607E2842-C47C-45A6-AA0A-CD043080EC14}" type="slidenum">
              <a:t>&lt;#&gt;</a:t>
            </a:fld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1EC9C8A-9330-4E82-BCC9-55A6D31C1F2B}" type="slidenum">
              <a:t>&lt;#&gt;</a:t>
            </a:fld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20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585561D-EA0F-4621-8E10-E0FBE0D1BC5C}" type="slidenum">
              <a:t>&lt;#&gt;</a:t>
            </a:fld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C5D4195-0AF7-4B8C-94C6-9A093D731CB6}" type="slidenum">
              <a:t>&lt;#&gt;</a:t>
            </a:fld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8C73B1C-8995-4F7C-BFD1-815031410553}" type="slidenum">
              <a:t>&lt;#&gt;</a:t>
            </a:fld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87C3890-88DA-4D43-98EC-A812AEFDB83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71ADE-8044-4725-8F47-83B6C0F63D8D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FE935D2-E495-453C-8B1E-D7FA296CA3E5}" type="slidenum">
              <a:t>&lt;#&gt;</a:t>
            </a:fld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2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EC98B9B-6E32-4761-9648-AB535F5F020C}" type="slidenum">
              <a:t>&lt;#&gt;</a:t>
            </a:fld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5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163C53A-3B00-4734-BFC9-AD4190998F8E}" type="slidenum">
              <a:t>&lt;#&gt;</a:t>
            </a:fld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C6DF069-B27E-405A-8869-04D68E58C640}" type="slidenum">
              <a:t>&lt;#&gt;</a:t>
            </a:fld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2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D85B7A2-6A53-4074-AEAE-72AE835CE44D}" type="slidenum">
              <a:t>&lt;#&gt;</a:t>
            </a:fld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7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FBE782B-4A46-4FF2-B50C-C69140BD9DD8}" type="slidenum">
              <a:t>&lt;#&gt;</a:t>
            </a:fld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2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3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4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DE11304-5367-4401-B993-D18F46C802FA}" type="slidenum">
              <a:t>&lt;#&gt;</a:t>
            </a:fld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E5BDEF9-7D63-44D6-8679-B9115BC0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6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15C91A0-66D4-4833-81CD-2B2FF1F9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B266F67-C8C9-463F-A70D-3E493DC7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189.xml"/><Relationship Id="rId4" Type="http://schemas.openxmlformats.org/officeDocument/2006/relationships/slideLayout" Target="../slideLayouts/slideLayout1190.xml"/><Relationship Id="rId5" Type="http://schemas.openxmlformats.org/officeDocument/2006/relationships/slideLayout" Target="../slideLayouts/slideLayout1191.xml"/><Relationship Id="rId6" Type="http://schemas.openxmlformats.org/officeDocument/2006/relationships/slideLayout" Target="../slideLayouts/slideLayout1192.xml"/><Relationship Id="rId7" Type="http://schemas.openxmlformats.org/officeDocument/2006/relationships/slideLayout" Target="../slideLayouts/slideLayout1193.xml"/><Relationship Id="rId8" Type="http://schemas.openxmlformats.org/officeDocument/2006/relationships/slideLayout" Target="../slideLayouts/slideLayout1194.xml"/><Relationship Id="rId9" Type="http://schemas.openxmlformats.org/officeDocument/2006/relationships/slideLayout" Target="../slideLayouts/slideLayout1195.xml"/><Relationship Id="rId10" Type="http://schemas.openxmlformats.org/officeDocument/2006/relationships/slideLayout" Target="../slideLayouts/slideLayout1196.xml"/><Relationship Id="rId11" Type="http://schemas.openxmlformats.org/officeDocument/2006/relationships/slideLayout" Target="../slideLayouts/slideLayout1197.xml"/><Relationship Id="rId12" Type="http://schemas.openxmlformats.org/officeDocument/2006/relationships/slideLayout" Target="../slideLayouts/slideLayout1198.xml"/><Relationship Id="rId13" Type="http://schemas.openxmlformats.org/officeDocument/2006/relationships/slideLayout" Target="../slideLayouts/slideLayout1199.xml"/><Relationship Id="rId14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01.xml"/><Relationship Id="rId4" Type="http://schemas.openxmlformats.org/officeDocument/2006/relationships/slideLayout" Target="../slideLayouts/slideLayout1202.xml"/><Relationship Id="rId5" Type="http://schemas.openxmlformats.org/officeDocument/2006/relationships/slideLayout" Target="../slideLayouts/slideLayout1203.xml"/><Relationship Id="rId6" Type="http://schemas.openxmlformats.org/officeDocument/2006/relationships/slideLayout" Target="../slideLayouts/slideLayout1204.xml"/><Relationship Id="rId7" Type="http://schemas.openxmlformats.org/officeDocument/2006/relationships/slideLayout" Target="../slideLayouts/slideLayout1205.xml"/><Relationship Id="rId8" Type="http://schemas.openxmlformats.org/officeDocument/2006/relationships/slideLayout" Target="../slideLayouts/slideLayout1206.xml"/><Relationship Id="rId9" Type="http://schemas.openxmlformats.org/officeDocument/2006/relationships/slideLayout" Target="../slideLayouts/slideLayout1207.xml"/><Relationship Id="rId10" Type="http://schemas.openxmlformats.org/officeDocument/2006/relationships/slideLayout" Target="../slideLayouts/slideLayout1208.xml"/><Relationship Id="rId11" Type="http://schemas.openxmlformats.org/officeDocument/2006/relationships/slideLayout" Target="../slideLayouts/slideLayout1209.xml"/><Relationship Id="rId12" Type="http://schemas.openxmlformats.org/officeDocument/2006/relationships/slideLayout" Target="../slideLayouts/slideLayout1210.xml"/><Relationship Id="rId13" Type="http://schemas.openxmlformats.org/officeDocument/2006/relationships/slideLayout" Target="../slideLayouts/slideLayout1211.xml"/><Relationship Id="rId14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3.xml"/><Relationship Id="rId4" Type="http://schemas.openxmlformats.org/officeDocument/2006/relationships/slideLayout" Target="../slideLayouts/slideLayout1214.xml"/><Relationship Id="rId5" Type="http://schemas.openxmlformats.org/officeDocument/2006/relationships/slideLayout" Target="../slideLayouts/slideLayout1215.xml"/><Relationship Id="rId6" Type="http://schemas.openxmlformats.org/officeDocument/2006/relationships/slideLayout" Target="../slideLayouts/slideLayout1216.xml"/><Relationship Id="rId7" Type="http://schemas.openxmlformats.org/officeDocument/2006/relationships/slideLayout" Target="../slideLayouts/slideLayout1217.xml"/><Relationship Id="rId8" Type="http://schemas.openxmlformats.org/officeDocument/2006/relationships/slideLayout" Target="../slideLayouts/slideLayout1218.xml"/><Relationship Id="rId9" Type="http://schemas.openxmlformats.org/officeDocument/2006/relationships/slideLayout" Target="../slideLayouts/slideLayout1219.xml"/><Relationship Id="rId10" Type="http://schemas.openxmlformats.org/officeDocument/2006/relationships/slideLayout" Target="../slideLayouts/slideLayout1220.xml"/><Relationship Id="rId11" Type="http://schemas.openxmlformats.org/officeDocument/2006/relationships/slideLayout" Target="../slideLayouts/slideLayout1221.xml"/><Relationship Id="rId12" Type="http://schemas.openxmlformats.org/officeDocument/2006/relationships/slideLayout" Target="../slideLayouts/slideLayout1222.xml"/><Relationship Id="rId13" Type="http://schemas.openxmlformats.org/officeDocument/2006/relationships/slideLayout" Target="../slideLayouts/slideLayout1223.xml"/><Relationship Id="rId14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25.xml"/><Relationship Id="rId4" Type="http://schemas.openxmlformats.org/officeDocument/2006/relationships/slideLayout" Target="../slideLayouts/slideLayout1226.xml"/><Relationship Id="rId5" Type="http://schemas.openxmlformats.org/officeDocument/2006/relationships/slideLayout" Target="../slideLayouts/slideLayout1227.xml"/><Relationship Id="rId6" Type="http://schemas.openxmlformats.org/officeDocument/2006/relationships/slideLayout" Target="../slideLayouts/slideLayout1228.xml"/><Relationship Id="rId7" Type="http://schemas.openxmlformats.org/officeDocument/2006/relationships/slideLayout" Target="../slideLayouts/slideLayout1229.xml"/><Relationship Id="rId8" Type="http://schemas.openxmlformats.org/officeDocument/2006/relationships/slideLayout" Target="../slideLayouts/slideLayout1230.xml"/><Relationship Id="rId9" Type="http://schemas.openxmlformats.org/officeDocument/2006/relationships/slideLayout" Target="../slideLayouts/slideLayout1231.xml"/><Relationship Id="rId10" Type="http://schemas.openxmlformats.org/officeDocument/2006/relationships/slideLayout" Target="../slideLayouts/slideLayout1232.xml"/><Relationship Id="rId11" Type="http://schemas.openxmlformats.org/officeDocument/2006/relationships/slideLayout" Target="../slideLayouts/slideLayout1233.xml"/><Relationship Id="rId12" Type="http://schemas.openxmlformats.org/officeDocument/2006/relationships/slideLayout" Target="../slideLayouts/slideLayout1234.xml"/><Relationship Id="rId13" Type="http://schemas.openxmlformats.org/officeDocument/2006/relationships/slideLayout" Target="../slideLayouts/slideLayout1235.xml"/><Relationship Id="rId14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37.xml"/><Relationship Id="rId4" Type="http://schemas.openxmlformats.org/officeDocument/2006/relationships/slideLayout" Target="../slideLayouts/slideLayout1238.xml"/><Relationship Id="rId5" Type="http://schemas.openxmlformats.org/officeDocument/2006/relationships/slideLayout" Target="../slideLayouts/slideLayout1239.xml"/><Relationship Id="rId6" Type="http://schemas.openxmlformats.org/officeDocument/2006/relationships/slideLayout" Target="../slideLayouts/slideLayout1240.xml"/><Relationship Id="rId7" Type="http://schemas.openxmlformats.org/officeDocument/2006/relationships/slideLayout" Target="../slideLayouts/slideLayout1241.xml"/><Relationship Id="rId8" Type="http://schemas.openxmlformats.org/officeDocument/2006/relationships/slideLayout" Target="../slideLayouts/slideLayout1242.xml"/><Relationship Id="rId9" Type="http://schemas.openxmlformats.org/officeDocument/2006/relationships/slideLayout" Target="../slideLayouts/slideLayout1243.xml"/><Relationship Id="rId10" Type="http://schemas.openxmlformats.org/officeDocument/2006/relationships/slideLayout" Target="../slideLayouts/slideLayout1244.xml"/><Relationship Id="rId11" Type="http://schemas.openxmlformats.org/officeDocument/2006/relationships/slideLayout" Target="../slideLayouts/slideLayout1245.xml"/><Relationship Id="rId12" Type="http://schemas.openxmlformats.org/officeDocument/2006/relationships/slideLayout" Target="../slideLayouts/slideLayout1246.xml"/><Relationship Id="rId13" Type="http://schemas.openxmlformats.org/officeDocument/2006/relationships/slideLayout" Target="../slideLayouts/slideLayout1247.xml"/><Relationship Id="rId14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49.xml"/><Relationship Id="rId4" Type="http://schemas.openxmlformats.org/officeDocument/2006/relationships/slideLayout" Target="../slideLayouts/slideLayout1250.xml"/><Relationship Id="rId5" Type="http://schemas.openxmlformats.org/officeDocument/2006/relationships/slideLayout" Target="../slideLayouts/slideLayout1251.xml"/><Relationship Id="rId6" Type="http://schemas.openxmlformats.org/officeDocument/2006/relationships/slideLayout" Target="../slideLayouts/slideLayout1252.xml"/><Relationship Id="rId7" Type="http://schemas.openxmlformats.org/officeDocument/2006/relationships/slideLayout" Target="../slideLayouts/slideLayout1253.xml"/><Relationship Id="rId8" Type="http://schemas.openxmlformats.org/officeDocument/2006/relationships/slideLayout" Target="../slideLayouts/slideLayout1254.xml"/><Relationship Id="rId9" Type="http://schemas.openxmlformats.org/officeDocument/2006/relationships/slideLayout" Target="../slideLayouts/slideLayout1255.xml"/><Relationship Id="rId10" Type="http://schemas.openxmlformats.org/officeDocument/2006/relationships/slideLayout" Target="../slideLayouts/slideLayout1256.xml"/><Relationship Id="rId11" Type="http://schemas.openxmlformats.org/officeDocument/2006/relationships/slideLayout" Target="../slideLayouts/slideLayout1257.xml"/><Relationship Id="rId12" Type="http://schemas.openxmlformats.org/officeDocument/2006/relationships/slideLayout" Target="../slideLayouts/slideLayout1258.xml"/><Relationship Id="rId13" Type="http://schemas.openxmlformats.org/officeDocument/2006/relationships/slideLayout" Target="../slideLayouts/slideLayout1259.xml"/><Relationship Id="rId14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61.xml"/><Relationship Id="rId4" Type="http://schemas.openxmlformats.org/officeDocument/2006/relationships/slideLayout" Target="../slideLayouts/slideLayout1262.xml"/><Relationship Id="rId5" Type="http://schemas.openxmlformats.org/officeDocument/2006/relationships/slideLayout" Target="../slideLayouts/slideLayout1263.xml"/><Relationship Id="rId6" Type="http://schemas.openxmlformats.org/officeDocument/2006/relationships/slideLayout" Target="../slideLayouts/slideLayout1264.xml"/><Relationship Id="rId7" Type="http://schemas.openxmlformats.org/officeDocument/2006/relationships/slideLayout" Target="../slideLayouts/slideLayout1265.xml"/><Relationship Id="rId8" Type="http://schemas.openxmlformats.org/officeDocument/2006/relationships/slideLayout" Target="../slideLayouts/slideLayout1266.xml"/><Relationship Id="rId9" Type="http://schemas.openxmlformats.org/officeDocument/2006/relationships/slideLayout" Target="../slideLayouts/slideLayout1267.xml"/><Relationship Id="rId10" Type="http://schemas.openxmlformats.org/officeDocument/2006/relationships/slideLayout" Target="../slideLayouts/slideLayout1268.xml"/><Relationship Id="rId11" Type="http://schemas.openxmlformats.org/officeDocument/2006/relationships/slideLayout" Target="../slideLayouts/slideLayout1269.xml"/><Relationship Id="rId12" Type="http://schemas.openxmlformats.org/officeDocument/2006/relationships/slideLayout" Target="../slideLayouts/slideLayout1270.xml"/><Relationship Id="rId13" Type="http://schemas.openxmlformats.org/officeDocument/2006/relationships/slideLayout" Target="../slideLayouts/slideLayout1271.xml"/><Relationship Id="rId14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73.xml"/><Relationship Id="rId4" Type="http://schemas.openxmlformats.org/officeDocument/2006/relationships/slideLayout" Target="../slideLayouts/slideLayout1274.xml"/><Relationship Id="rId5" Type="http://schemas.openxmlformats.org/officeDocument/2006/relationships/slideLayout" Target="../slideLayouts/slideLayout1275.xml"/><Relationship Id="rId6" Type="http://schemas.openxmlformats.org/officeDocument/2006/relationships/slideLayout" Target="../slideLayouts/slideLayout1276.xml"/><Relationship Id="rId7" Type="http://schemas.openxmlformats.org/officeDocument/2006/relationships/slideLayout" Target="../slideLayouts/slideLayout1277.xml"/><Relationship Id="rId8" Type="http://schemas.openxmlformats.org/officeDocument/2006/relationships/slideLayout" Target="../slideLayouts/slideLayout1278.xml"/><Relationship Id="rId9" Type="http://schemas.openxmlformats.org/officeDocument/2006/relationships/slideLayout" Target="../slideLayouts/slideLayout1279.xml"/><Relationship Id="rId10" Type="http://schemas.openxmlformats.org/officeDocument/2006/relationships/slideLayout" Target="../slideLayouts/slideLayout1280.xml"/><Relationship Id="rId11" Type="http://schemas.openxmlformats.org/officeDocument/2006/relationships/slideLayout" Target="../slideLayouts/slideLayout1281.xml"/><Relationship Id="rId12" Type="http://schemas.openxmlformats.org/officeDocument/2006/relationships/slideLayout" Target="../slideLayouts/slideLayout1282.xml"/><Relationship Id="rId13" Type="http://schemas.openxmlformats.org/officeDocument/2006/relationships/slideLayout" Target="../slideLayouts/slideLayout1283.xml"/><Relationship Id="rId14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89.xml"/><Relationship Id="rId4" Type="http://schemas.openxmlformats.org/officeDocument/2006/relationships/slideLayout" Target="../slideLayouts/slideLayout890.xml"/><Relationship Id="rId5" Type="http://schemas.openxmlformats.org/officeDocument/2006/relationships/slideLayout" Target="../slideLayouts/slideLayout891.xml"/><Relationship Id="rId6" Type="http://schemas.openxmlformats.org/officeDocument/2006/relationships/slideLayout" Target="../slideLayouts/slideLayout892.xml"/><Relationship Id="rId7" Type="http://schemas.openxmlformats.org/officeDocument/2006/relationships/slideLayout" Target="../slideLayouts/slideLayout893.xml"/><Relationship Id="rId8" Type="http://schemas.openxmlformats.org/officeDocument/2006/relationships/slideLayout" Target="../slideLayouts/slideLayout894.xml"/><Relationship Id="rId9" Type="http://schemas.openxmlformats.org/officeDocument/2006/relationships/slideLayout" Target="../slideLayouts/slideLayout895.xml"/><Relationship Id="rId10" Type="http://schemas.openxmlformats.org/officeDocument/2006/relationships/slideLayout" Target="../slideLayouts/slideLayout896.xml"/><Relationship Id="rId11" Type="http://schemas.openxmlformats.org/officeDocument/2006/relationships/slideLayout" Target="../slideLayouts/slideLayout897.xml"/><Relationship Id="rId12" Type="http://schemas.openxmlformats.org/officeDocument/2006/relationships/slideLayout" Target="../slideLayouts/slideLayout898.xml"/><Relationship Id="rId13" Type="http://schemas.openxmlformats.org/officeDocument/2006/relationships/slideLayout" Target="../slideLayouts/slideLayout899.xml"/><Relationship Id="rId14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85.xml"/><Relationship Id="rId4" Type="http://schemas.openxmlformats.org/officeDocument/2006/relationships/slideLayout" Target="../slideLayouts/slideLayout986.xml"/><Relationship Id="rId5" Type="http://schemas.openxmlformats.org/officeDocument/2006/relationships/slideLayout" Target="../slideLayouts/slideLayout987.xml"/><Relationship Id="rId6" Type="http://schemas.openxmlformats.org/officeDocument/2006/relationships/slideLayout" Target="../slideLayouts/slideLayout988.xml"/><Relationship Id="rId7" Type="http://schemas.openxmlformats.org/officeDocument/2006/relationships/slideLayout" Target="../slideLayouts/slideLayout989.xml"/><Relationship Id="rId8" Type="http://schemas.openxmlformats.org/officeDocument/2006/relationships/slideLayout" Target="../slideLayouts/slideLayout990.xml"/><Relationship Id="rId9" Type="http://schemas.openxmlformats.org/officeDocument/2006/relationships/slideLayout" Target="../slideLayouts/slideLayout991.xml"/><Relationship Id="rId10" Type="http://schemas.openxmlformats.org/officeDocument/2006/relationships/slideLayout" Target="../slideLayouts/slideLayout992.xml"/><Relationship Id="rId11" Type="http://schemas.openxmlformats.org/officeDocument/2006/relationships/slideLayout" Target="../slideLayouts/slideLayout993.xml"/><Relationship Id="rId12" Type="http://schemas.openxmlformats.org/officeDocument/2006/relationships/slideLayout" Target="../slideLayouts/slideLayout994.xml"/><Relationship Id="rId13" Type="http://schemas.openxmlformats.org/officeDocument/2006/relationships/slideLayout" Target="../slideLayouts/slideLayout995.xml"/><Relationship Id="rId14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09.xml"/><Relationship Id="rId4" Type="http://schemas.openxmlformats.org/officeDocument/2006/relationships/slideLayout" Target="../slideLayouts/slideLayout1010.xml"/><Relationship Id="rId5" Type="http://schemas.openxmlformats.org/officeDocument/2006/relationships/slideLayout" Target="../slideLayouts/slideLayout1011.xml"/><Relationship Id="rId6" Type="http://schemas.openxmlformats.org/officeDocument/2006/relationships/slideLayout" Target="../slideLayouts/slideLayout1012.xml"/><Relationship Id="rId7" Type="http://schemas.openxmlformats.org/officeDocument/2006/relationships/slideLayout" Target="../slideLayouts/slideLayout1013.xml"/><Relationship Id="rId8" Type="http://schemas.openxmlformats.org/officeDocument/2006/relationships/slideLayout" Target="../slideLayouts/slideLayout1014.xml"/><Relationship Id="rId9" Type="http://schemas.openxmlformats.org/officeDocument/2006/relationships/slideLayout" Target="../slideLayouts/slideLayout1015.xml"/><Relationship Id="rId10" Type="http://schemas.openxmlformats.org/officeDocument/2006/relationships/slideLayout" Target="../slideLayouts/slideLayout1016.xml"/><Relationship Id="rId11" Type="http://schemas.openxmlformats.org/officeDocument/2006/relationships/slideLayout" Target="../slideLayouts/slideLayout1017.xml"/><Relationship Id="rId12" Type="http://schemas.openxmlformats.org/officeDocument/2006/relationships/slideLayout" Target="../slideLayouts/slideLayout1018.xml"/><Relationship Id="rId13" Type="http://schemas.openxmlformats.org/officeDocument/2006/relationships/slideLayout" Target="../slideLayouts/slideLayout1019.xml"/><Relationship Id="rId14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21.xml"/><Relationship Id="rId4" Type="http://schemas.openxmlformats.org/officeDocument/2006/relationships/slideLayout" Target="../slideLayouts/slideLayout1022.xml"/><Relationship Id="rId5" Type="http://schemas.openxmlformats.org/officeDocument/2006/relationships/slideLayout" Target="../slideLayouts/slideLayout1023.xml"/><Relationship Id="rId6" Type="http://schemas.openxmlformats.org/officeDocument/2006/relationships/slideLayout" Target="../slideLayouts/slideLayout1024.xml"/><Relationship Id="rId7" Type="http://schemas.openxmlformats.org/officeDocument/2006/relationships/slideLayout" Target="../slideLayouts/slideLayout1025.xml"/><Relationship Id="rId8" Type="http://schemas.openxmlformats.org/officeDocument/2006/relationships/slideLayout" Target="../slideLayouts/slideLayout1026.xml"/><Relationship Id="rId9" Type="http://schemas.openxmlformats.org/officeDocument/2006/relationships/slideLayout" Target="../slideLayouts/slideLayout1027.xml"/><Relationship Id="rId10" Type="http://schemas.openxmlformats.org/officeDocument/2006/relationships/slideLayout" Target="../slideLayouts/slideLayout1028.xml"/><Relationship Id="rId11" Type="http://schemas.openxmlformats.org/officeDocument/2006/relationships/slideLayout" Target="../slideLayouts/slideLayout1029.xml"/><Relationship Id="rId12" Type="http://schemas.openxmlformats.org/officeDocument/2006/relationships/slideLayout" Target="../slideLayouts/slideLayout1030.xml"/><Relationship Id="rId13" Type="http://schemas.openxmlformats.org/officeDocument/2006/relationships/slideLayout" Target="../slideLayouts/slideLayout1031.xml"/><Relationship Id="rId14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33.xml"/><Relationship Id="rId4" Type="http://schemas.openxmlformats.org/officeDocument/2006/relationships/slideLayout" Target="../slideLayouts/slideLayout1034.xml"/><Relationship Id="rId5" Type="http://schemas.openxmlformats.org/officeDocument/2006/relationships/slideLayout" Target="../slideLayouts/slideLayout1035.xml"/><Relationship Id="rId6" Type="http://schemas.openxmlformats.org/officeDocument/2006/relationships/slideLayout" Target="../slideLayouts/slideLayout1036.xml"/><Relationship Id="rId7" Type="http://schemas.openxmlformats.org/officeDocument/2006/relationships/slideLayout" Target="../slideLayouts/slideLayout1037.xml"/><Relationship Id="rId8" Type="http://schemas.openxmlformats.org/officeDocument/2006/relationships/slideLayout" Target="../slideLayouts/slideLayout1038.xml"/><Relationship Id="rId9" Type="http://schemas.openxmlformats.org/officeDocument/2006/relationships/slideLayout" Target="../slideLayouts/slideLayout1039.xml"/><Relationship Id="rId10" Type="http://schemas.openxmlformats.org/officeDocument/2006/relationships/slideLayout" Target="../slideLayouts/slideLayout1040.xml"/><Relationship Id="rId11" Type="http://schemas.openxmlformats.org/officeDocument/2006/relationships/slideLayout" Target="../slideLayouts/slideLayout1041.xml"/><Relationship Id="rId12" Type="http://schemas.openxmlformats.org/officeDocument/2006/relationships/slideLayout" Target="../slideLayouts/slideLayout1042.xml"/><Relationship Id="rId13" Type="http://schemas.openxmlformats.org/officeDocument/2006/relationships/slideLayout" Target="../slideLayouts/slideLayout1043.xml"/><Relationship Id="rId14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45.xml"/><Relationship Id="rId4" Type="http://schemas.openxmlformats.org/officeDocument/2006/relationships/slideLayout" Target="../slideLayouts/slideLayout1046.xml"/><Relationship Id="rId5" Type="http://schemas.openxmlformats.org/officeDocument/2006/relationships/slideLayout" Target="../slideLayouts/slideLayout1047.xml"/><Relationship Id="rId6" Type="http://schemas.openxmlformats.org/officeDocument/2006/relationships/slideLayout" Target="../slideLayouts/slideLayout1048.xml"/><Relationship Id="rId7" Type="http://schemas.openxmlformats.org/officeDocument/2006/relationships/slideLayout" Target="../slideLayouts/slideLayout1049.xml"/><Relationship Id="rId8" Type="http://schemas.openxmlformats.org/officeDocument/2006/relationships/slideLayout" Target="../slideLayouts/slideLayout1050.xml"/><Relationship Id="rId9" Type="http://schemas.openxmlformats.org/officeDocument/2006/relationships/slideLayout" Target="../slideLayouts/slideLayout1051.xml"/><Relationship Id="rId10" Type="http://schemas.openxmlformats.org/officeDocument/2006/relationships/slideLayout" Target="../slideLayouts/slideLayout1052.xml"/><Relationship Id="rId11" Type="http://schemas.openxmlformats.org/officeDocument/2006/relationships/slideLayout" Target="../slideLayouts/slideLayout1053.xml"/><Relationship Id="rId12" Type="http://schemas.openxmlformats.org/officeDocument/2006/relationships/slideLayout" Target="../slideLayouts/slideLayout1054.xml"/><Relationship Id="rId13" Type="http://schemas.openxmlformats.org/officeDocument/2006/relationships/slideLayout" Target="../slideLayouts/slideLayout1055.xml"/><Relationship Id="rId14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57.xml"/><Relationship Id="rId4" Type="http://schemas.openxmlformats.org/officeDocument/2006/relationships/slideLayout" Target="../slideLayouts/slideLayout1058.xml"/><Relationship Id="rId5" Type="http://schemas.openxmlformats.org/officeDocument/2006/relationships/slideLayout" Target="../slideLayouts/slideLayout1059.xml"/><Relationship Id="rId6" Type="http://schemas.openxmlformats.org/officeDocument/2006/relationships/slideLayout" Target="../slideLayouts/slideLayout1060.xml"/><Relationship Id="rId7" Type="http://schemas.openxmlformats.org/officeDocument/2006/relationships/slideLayout" Target="../slideLayouts/slideLayout1061.xml"/><Relationship Id="rId8" Type="http://schemas.openxmlformats.org/officeDocument/2006/relationships/slideLayout" Target="../slideLayouts/slideLayout1062.xml"/><Relationship Id="rId9" Type="http://schemas.openxmlformats.org/officeDocument/2006/relationships/slideLayout" Target="../slideLayouts/slideLayout1063.xml"/><Relationship Id="rId10" Type="http://schemas.openxmlformats.org/officeDocument/2006/relationships/slideLayout" Target="../slideLayouts/slideLayout1064.xml"/><Relationship Id="rId11" Type="http://schemas.openxmlformats.org/officeDocument/2006/relationships/slideLayout" Target="../slideLayouts/slideLayout1065.xml"/><Relationship Id="rId12" Type="http://schemas.openxmlformats.org/officeDocument/2006/relationships/slideLayout" Target="../slideLayouts/slideLayout1066.xml"/><Relationship Id="rId13" Type="http://schemas.openxmlformats.org/officeDocument/2006/relationships/slideLayout" Target="../slideLayouts/slideLayout1067.xml"/><Relationship Id="rId14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69.xml"/><Relationship Id="rId4" Type="http://schemas.openxmlformats.org/officeDocument/2006/relationships/slideLayout" Target="../slideLayouts/slideLayout1070.xml"/><Relationship Id="rId5" Type="http://schemas.openxmlformats.org/officeDocument/2006/relationships/slideLayout" Target="../slideLayouts/slideLayout1071.xml"/><Relationship Id="rId6" Type="http://schemas.openxmlformats.org/officeDocument/2006/relationships/slideLayout" Target="../slideLayouts/slideLayout1072.xml"/><Relationship Id="rId7" Type="http://schemas.openxmlformats.org/officeDocument/2006/relationships/slideLayout" Target="../slideLayouts/slideLayout1073.xml"/><Relationship Id="rId8" Type="http://schemas.openxmlformats.org/officeDocument/2006/relationships/slideLayout" Target="../slideLayouts/slideLayout1074.xml"/><Relationship Id="rId9" Type="http://schemas.openxmlformats.org/officeDocument/2006/relationships/slideLayout" Target="../slideLayouts/slideLayout1075.xml"/><Relationship Id="rId10" Type="http://schemas.openxmlformats.org/officeDocument/2006/relationships/slideLayout" Target="../slideLayouts/slideLayout1076.xml"/><Relationship Id="rId11" Type="http://schemas.openxmlformats.org/officeDocument/2006/relationships/slideLayout" Target="../slideLayouts/slideLayout1077.xml"/><Relationship Id="rId12" Type="http://schemas.openxmlformats.org/officeDocument/2006/relationships/slideLayout" Target="../slideLayouts/slideLayout1078.xml"/><Relationship Id="rId13" Type="http://schemas.openxmlformats.org/officeDocument/2006/relationships/slideLayout" Target="../slideLayouts/slideLayout1079.xml"/><Relationship Id="rId14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81.xml"/><Relationship Id="rId4" Type="http://schemas.openxmlformats.org/officeDocument/2006/relationships/slideLayout" Target="../slideLayouts/slideLayout1082.xml"/><Relationship Id="rId5" Type="http://schemas.openxmlformats.org/officeDocument/2006/relationships/slideLayout" Target="../slideLayouts/slideLayout1083.xml"/><Relationship Id="rId6" Type="http://schemas.openxmlformats.org/officeDocument/2006/relationships/slideLayout" Target="../slideLayouts/slideLayout1084.xml"/><Relationship Id="rId7" Type="http://schemas.openxmlformats.org/officeDocument/2006/relationships/slideLayout" Target="../slideLayouts/slideLayout1085.xml"/><Relationship Id="rId8" Type="http://schemas.openxmlformats.org/officeDocument/2006/relationships/slideLayout" Target="../slideLayouts/slideLayout1086.xml"/><Relationship Id="rId9" Type="http://schemas.openxmlformats.org/officeDocument/2006/relationships/slideLayout" Target="../slideLayouts/slideLayout1087.xml"/><Relationship Id="rId10" Type="http://schemas.openxmlformats.org/officeDocument/2006/relationships/slideLayout" Target="../slideLayouts/slideLayout1088.xml"/><Relationship Id="rId11" Type="http://schemas.openxmlformats.org/officeDocument/2006/relationships/slideLayout" Target="../slideLayouts/slideLayout1089.xml"/><Relationship Id="rId12" Type="http://schemas.openxmlformats.org/officeDocument/2006/relationships/slideLayout" Target="../slideLayouts/slideLayout1090.xml"/><Relationship Id="rId13" Type="http://schemas.openxmlformats.org/officeDocument/2006/relationships/slideLayout" Target="../slideLayouts/slideLayout1091.xml"/><Relationship Id="rId14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3.xml"/><Relationship Id="rId4" Type="http://schemas.openxmlformats.org/officeDocument/2006/relationships/slideLayout" Target="../slideLayouts/slideLayout1094.xml"/><Relationship Id="rId5" Type="http://schemas.openxmlformats.org/officeDocument/2006/relationships/slideLayout" Target="../slideLayouts/slideLayout1095.xml"/><Relationship Id="rId6" Type="http://schemas.openxmlformats.org/officeDocument/2006/relationships/slideLayout" Target="../slideLayouts/slideLayout1096.xml"/><Relationship Id="rId7" Type="http://schemas.openxmlformats.org/officeDocument/2006/relationships/slideLayout" Target="../slideLayouts/slideLayout1097.xml"/><Relationship Id="rId8" Type="http://schemas.openxmlformats.org/officeDocument/2006/relationships/slideLayout" Target="../slideLayouts/slideLayout1098.xml"/><Relationship Id="rId9" Type="http://schemas.openxmlformats.org/officeDocument/2006/relationships/slideLayout" Target="../slideLayouts/slideLayout1099.xml"/><Relationship Id="rId10" Type="http://schemas.openxmlformats.org/officeDocument/2006/relationships/slideLayout" Target="../slideLayouts/slideLayout1100.xml"/><Relationship Id="rId11" Type="http://schemas.openxmlformats.org/officeDocument/2006/relationships/slideLayout" Target="../slideLayouts/slideLayout1101.xml"/><Relationship Id="rId12" Type="http://schemas.openxmlformats.org/officeDocument/2006/relationships/slideLayout" Target="../slideLayouts/slideLayout1102.xml"/><Relationship Id="rId13" Type="http://schemas.openxmlformats.org/officeDocument/2006/relationships/slideLayout" Target="../slideLayouts/slideLayout1103.xml"/><Relationship Id="rId14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105.xml"/><Relationship Id="rId4" Type="http://schemas.openxmlformats.org/officeDocument/2006/relationships/slideLayout" Target="../slideLayouts/slideLayout1106.xml"/><Relationship Id="rId5" Type="http://schemas.openxmlformats.org/officeDocument/2006/relationships/slideLayout" Target="../slideLayouts/slideLayout1107.xml"/><Relationship Id="rId6" Type="http://schemas.openxmlformats.org/officeDocument/2006/relationships/slideLayout" Target="../slideLayouts/slideLayout1108.xml"/><Relationship Id="rId7" Type="http://schemas.openxmlformats.org/officeDocument/2006/relationships/slideLayout" Target="../slideLayouts/slideLayout1109.xml"/><Relationship Id="rId8" Type="http://schemas.openxmlformats.org/officeDocument/2006/relationships/slideLayout" Target="../slideLayouts/slideLayout1110.xml"/><Relationship Id="rId9" Type="http://schemas.openxmlformats.org/officeDocument/2006/relationships/slideLayout" Target="../slideLayouts/slideLayout1111.xml"/><Relationship Id="rId10" Type="http://schemas.openxmlformats.org/officeDocument/2006/relationships/slideLayout" Target="../slideLayouts/slideLayout1112.xml"/><Relationship Id="rId11" Type="http://schemas.openxmlformats.org/officeDocument/2006/relationships/slideLayout" Target="../slideLayouts/slideLayout1113.xml"/><Relationship Id="rId12" Type="http://schemas.openxmlformats.org/officeDocument/2006/relationships/slideLayout" Target="../slideLayouts/slideLayout1114.xml"/><Relationship Id="rId13" Type="http://schemas.openxmlformats.org/officeDocument/2006/relationships/slideLayout" Target="../slideLayouts/slideLayout1115.xml"/><Relationship Id="rId14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117.xml"/><Relationship Id="rId4" Type="http://schemas.openxmlformats.org/officeDocument/2006/relationships/slideLayout" Target="../slideLayouts/slideLayout1118.xml"/><Relationship Id="rId5" Type="http://schemas.openxmlformats.org/officeDocument/2006/relationships/slideLayout" Target="../slideLayouts/slideLayout1119.xml"/><Relationship Id="rId6" Type="http://schemas.openxmlformats.org/officeDocument/2006/relationships/slideLayout" Target="../slideLayouts/slideLayout1120.xml"/><Relationship Id="rId7" Type="http://schemas.openxmlformats.org/officeDocument/2006/relationships/slideLayout" Target="../slideLayouts/slideLayout1121.xml"/><Relationship Id="rId8" Type="http://schemas.openxmlformats.org/officeDocument/2006/relationships/slideLayout" Target="../slideLayouts/slideLayout1122.xml"/><Relationship Id="rId9" Type="http://schemas.openxmlformats.org/officeDocument/2006/relationships/slideLayout" Target="../slideLayouts/slideLayout1123.xml"/><Relationship Id="rId10" Type="http://schemas.openxmlformats.org/officeDocument/2006/relationships/slideLayout" Target="../slideLayouts/slideLayout1124.xml"/><Relationship Id="rId11" Type="http://schemas.openxmlformats.org/officeDocument/2006/relationships/slideLayout" Target="../slideLayouts/slideLayout1125.xml"/><Relationship Id="rId12" Type="http://schemas.openxmlformats.org/officeDocument/2006/relationships/slideLayout" Target="../slideLayouts/slideLayout1126.xml"/><Relationship Id="rId13" Type="http://schemas.openxmlformats.org/officeDocument/2006/relationships/slideLayout" Target="../slideLayouts/slideLayout1127.xml"/><Relationship Id="rId14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129.xml"/><Relationship Id="rId4" Type="http://schemas.openxmlformats.org/officeDocument/2006/relationships/slideLayout" Target="../slideLayouts/slideLayout1130.xml"/><Relationship Id="rId5" Type="http://schemas.openxmlformats.org/officeDocument/2006/relationships/slideLayout" Target="../slideLayouts/slideLayout1131.xml"/><Relationship Id="rId6" Type="http://schemas.openxmlformats.org/officeDocument/2006/relationships/slideLayout" Target="../slideLayouts/slideLayout1132.xml"/><Relationship Id="rId7" Type="http://schemas.openxmlformats.org/officeDocument/2006/relationships/slideLayout" Target="../slideLayouts/slideLayout1133.xml"/><Relationship Id="rId8" Type="http://schemas.openxmlformats.org/officeDocument/2006/relationships/slideLayout" Target="../slideLayouts/slideLayout1134.xml"/><Relationship Id="rId9" Type="http://schemas.openxmlformats.org/officeDocument/2006/relationships/slideLayout" Target="../slideLayouts/slideLayout1135.xml"/><Relationship Id="rId10" Type="http://schemas.openxmlformats.org/officeDocument/2006/relationships/slideLayout" Target="../slideLayouts/slideLayout1136.xml"/><Relationship Id="rId11" Type="http://schemas.openxmlformats.org/officeDocument/2006/relationships/slideLayout" Target="../slideLayouts/slideLayout1137.xml"/><Relationship Id="rId12" Type="http://schemas.openxmlformats.org/officeDocument/2006/relationships/slideLayout" Target="../slideLayouts/slideLayout1138.xml"/><Relationship Id="rId13" Type="http://schemas.openxmlformats.org/officeDocument/2006/relationships/slideLayout" Target="../slideLayouts/slideLayout1139.xml"/><Relationship Id="rId14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153.xml"/><Relationship Id="rId4" Type="http://schemas.openxmlformats.org/officeDocument/2006/relationships/slideLayout" Target="../slideLayouts/slideLayout1154.xml"/><Relationship Id="rId5" Type="http://schemas.openxmlformats.org/officeDocument/2006/relationships/slideLayout" Target="../slideLayouts/slideLayout1155.xml"/><Relationship Id="rId6" Type="http://schemas.openxmlformats.org/officeDocument/2006/relationships/slideLayout" Target="../slideLayouts/slideLayout1156.xml"/><Relationship Id="rId7" Type="http://schemas.openxmlformats.org/officeDocument/2006/relationships/slideLayout" Target="../slideLayouts/slideLayout1157.xml"/><Relationship Id="rId8" Type="http://schemas.openxmlformats.org/officeDocument/2006/relationships/slideLayout" Target="../slideLayouts/slideLayout1158.xml"/><Relationship Id="rId9" Type="http://schemas.openxmlformats.org/officeDocument/2006/relationships/slideLayout" Target="../slideLayouts/slideLayout1159.xml"/><Relationship Id="rId10" Type="http://schemas.openxmlformats.org/officeDocument/2006/relationships/slideLayout" Target="../slideLayouts/slideLayout1160.xml"/><Relationship Id="rId11" Type="http://schemas.openxmlformats.org/officeDocument/2006/relationships/slideLayout" Target="../slideLayouts/slideLayout1161.xml"/><Relationship Id="rId12" Type="http://schemas.openxmlformats.org/officeDocument/2006/relationships/slideLayout" Target="../slideLayouts/slideLayout1162.xml"/><Relationship Id="rId13" Type="http://schemas.openxmlformats.org/officeDocument/2006/relationships/slideLayout" Target="../slideLayouts/slideLayout1163.xml"/><Relationship Id="rId14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165.xml"/><Relationship Id="rId4" Type="http://schemas.openxmlformats.org/officeDocument/2006/relationships/slideLayout" Target="../slideLayouts/slideLayout1166.xml"/><Relationship Id="rId5" Type="http://schemas.openxmlformats.org/officeDocument/2006/relationships/slideLayout" Target="../slideLayouts/slideLayout1167.xml"/><Relationship Id="rId6" Type="http://schemas.openxmlformats.org/officeDocument/2006/relationships/slideLayout" Target="../slideLayouts/slideLayout1168.xml"/><Relationship Id="rId7" Type="http://schemas.openxmlformats.org/officeDocument/2006/relationships/slideLayout" Target="../slideLayouts/slideLayout1169.xml"/><Relationship Id="rId8" Type="http://schemas.openxmlformats.org/officeDocument/2006/relationships/slideLayout" Target="../slideLayouts/slideLayout1170.xml"/><Relationship Id="rId9" Type="http://schemas.openxmlformats.org/officeDocument/2006/relationships/slideLayout" Target="../slideLayouts/slideLayout1171.xml"/><Relationship Id="rId10" Type="http://schemas.openxmlformats.org/officeDocument/2006/relationships/slideLayout" Target="../slideLayouts/slideLayout1172.xml"/><Relationship Id="rId11" Type="http://schemas.openxmlformats.org/officeDocument/2006/relationships/slideLayout" Target="../slideLayouts/slideLayout1173.xml"/><Relationship Id="rId12" Type="http://schemas.openxmlformats.org/officeDocument/2006/relationships/slideLayout" Target="../slideLayouts/slideLayout1174.xml"/><Relationship Id="rId13" Type="http://schemas.openxmlformats.org/officeDocument/2006/relationships/slideLayout" Target="../slideLayouts/slideLayout1175.xml"/><Relationship Id="rId14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177.xml"/><Relationship Id="rId4" Type="http://schemas.openxmlformats.org/officeDocument/2006/relationships/slideLayout" Target="../slideLayouts/slideLayout1178.xml"/><Relationship Id="rId5" Type="http://schemas.openxmlformats.org/officeDocument/2006/relationships/slideLayout" Target="../slideLayouts/slideLayout1179.xml"/><Relationship Id="rId6" Type="http://schemas.openxmlformats.org/officeDocument/2006/relationships/slideLayout" Target="../slideLayouts/slideLayout1180.xml"/><Relationship Id="rId7" Type="http://schemas.openxmlformats.org/officeDocument/2006/relationships/slideLayout" Target="../slideLayouts/slideLayout1181.xml"/><Relationship Id="rId8" Type="http://schemas.openxmlformats.org/officeDocument/2006/relationships/slideLayout" Target="../slideLayouts/slideLayout1182.xml"/><Relationship Id="rId9" Type="http://schemas.openxmlformats.org/officeDocument/2006/relationships/slideLayout" Target="../slideLayouts/slideLayout1183.xml"/><Relationship Id="rId10" Type="http://schemas.openxmlformats.org/officeDocument/2006/relationships/slideLayout" Target="../slideLayouts/slideLayout1184.xml"/><Relationship Id="rId11" Type="http://schemas.openxmlformats.org/officeDocument/2006/relationships/slideLayout" Target="../slideLayouts/slideLayout1185.xml"/><Relationship Id="rId12" Type="http://schemas.openxmlformats.org/officeDocument/2006/relationships/slideLayout" Target="../slideLayouts/slideLayout1186.xml"/><Relationship Id="rId13" Type="http://schemas.openxmlformats.org/officeDocument/2006/relationships/slideLayout" Target="../slideLayouts/slideLayout1187.xml"/><Relationship Id="rId14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32FA-8039-47E9-A342-91B39D99E802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8A2C-A07D-4A7D-9FC8-95C16465A41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5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7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49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0" name="PlaceHolder 3"/>
          <p:cNvSpPr>
            <a:spLocks noGrp="1"/>
          </p:cNvSpPr>
          <p:nvPr>
            <p:ph type="ftr" idx="20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PlaceHolder 4"/>
          <p:cNvSpPr>
            <a:spLocks noGrp="1"/>
          </p:cNvSpPr>
          <p:nvPr>
            <p:ph type="sldNum" idx="20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8D18-5A2F-4CEC-8167-03C30108943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3"/>
    <p:sldLayoutId id="2147484937" r:id="rId4"/>
    <p:sldLayoutId id="2147484938" r:id="rId5"/>
    <p:sldLayoutId id="2147484939" r:id="rId6"/>
    <p:sldLayoutId id="2147484940" r:id="rId7"/>
    <p:sldLayoutId id="2147484941" r:id="rId8"/>
    <p:sldLayoutId id="2147484942" r:id="rId9"/>
    <p:sldLayoutId id="2147484943" r:id="rId10"/>
    <p:sldLayoutId id="2147484944" r:id="rId11"/>
    <p:sldLayoutId id="2147484945" r:id="rId12"/>
    <p:sldLayoutId id="2147484946" r:id="rId13"/>
    <p:sldLayoutId id="2147484947" r:id="rId14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0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3" name="PlaceHolder 3"/>
          <p:cNvSpPr>
            <a:spLocks noGrp="1"/>
          </p:cNvSpPr>
          <p:nvPr>
            <p:ph type="ftr" idx="20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PlaceHolder 4"/>
          <p:cNvSpPr>
            <a:spLocks noGrp="1"/>
          </p:cNvSpPr>
          <p:nvPr>
            <p:ph type="sldNum" idx="20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EE18-1F59-48E6-9E86-F43325DB4B3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3"/>
    <p:sldLayoutId id="2147484950" r:id="rId4"/>
    <p:sldLayoutId id="2147484951" r:id="rId5"/>
    <p:sldLayoutId id="2147484952" r:id="rId6"/>
    <p:sldLayoutId id="2147484953" r:id="rId7"/>
    <p:sldLayoutId id="2147484954" r:id="rId8"/>
    <p:sldLayoutId id="2147484955" r:id="rId9"/>
    <p:sldLayoutId id="2147484956" r:id="rId10"/>
    <p:sldLayoutId id="2147484957" r:id="rId11"/>
    <p:sldLayoutId id="2147484958" r:id="rId12"/>
    <p:sldLayoutId id="2147484959" r:id="rId13"/>
    <p:sldLayoutId id="2147484960" r:id="rId14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1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3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43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35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6" name="PlaceHolder 3"/>
          <p:cNvSpPr>
            <a:spLocks noGrp="1"/>
          </p:cNvSpPr>
          <p:nvPr>
            <p:ph type="ftr" idx="2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PlaceHolder 4"/>
          <p:cNvSpPr>
            <a:spLocks noGrp="1"/>
          </p:cNvSpPr>
          <p:nvPr>
            <p:ph type="sldNum" idx="2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A591-2F53-4E9D-8652-4DCF6196189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3"/>
    <p:sldLayoutId id="2147484963" r:id="rId4"/>
    <p:sldLayoutId id="2147484964" r:id="rId5"/>
    <p:sldLayoutId id="2147484965" r:id="rId6"/>
    <p:sldLayoutId id="2147484966" r:id="rId7"/>
    <p:sldLayoutId id="2147484967" r:id="rId8"/>
    <p:sldLayoutId id="2147484968" r:id="rId9"/>
    <p:sldLayoutId id="2147484969" r:id="rId10"/>
    <p:sldLayoutId id="2147484970" r:id="rId11"/>
    <p:sldLayoutId id="2147484971" r:id="rId12"/>
    <p:sldLayoutId id="2147484972" r:id="rId13"/>
    <p:sldLayoutId id="2147484973" r:id="rId14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4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5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6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437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8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9" name="PlaceHolder 3"/>
          <p:cNvSpPr>
            <a:spLocks noGrp="1"/>
          </p:cNvSpPr>
          <p:nvPr>
            <p:ph type="ftr" idx="2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PlaceHolder 4"/>
          <p:cNvSpPr>
            <a:spLocks noGrp="1"/>
          </p:cNvSpPr>
          <p:nvPr>
            <p:ph type="sldNum" idx="2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643A-618A-4914-871A-4701F86C185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3"/>
    <p:sldLayoutId id="2147484976" r:id="rId4"/>
    <p:sldLayoutId id="2147484977" r:id="rId5"/>
    <p:sldLayoutId id="2147484978" r:id="rId6"/>
    <p:sldLayoutId id="2147484979" r:id="rId7"/>
    <p:sldLayoutId id="2147484980" r:id="rId8"/>
    <p:sldLayoutId id="2147484981" r:id="rId9"/>
    <p:sldLayoutId id="2147484982" r:id="rId10"/>
    <p:sldLayoutId id="2147484983" r:id="rId11"/>
    <p:sldLayoutId id="2147484984" r:id="rId12"/>
    <p:sldLayoutId id="2147484985" r:id="rId13"/>
    <p:sldLayoutId id="2147484986" r:id="rId14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7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9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44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21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2" name="PlaceHolder 3"/>
          <p:cNvSpPr>
            <a:spLocks noGrp="1"/>
          </p:cNvSpPr>
          <p:nvPr>
            <p:ph type="ftr" idx="2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PlaceHolder 4"/>
          <p:cNvSpPr>
            <a:spLocks noGrp="1"/>
          </p:cNvSpPr>
          <p:nvPr>
            <p:ph type="sldNum" idx="2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B596-E0C8-47BA-985D-1B73FEE0E3B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3"/>
    <p:sldLayoutId id="2147484989" r:id="rId4"/>
    <p:sldLayoutId id="2147484990" r:id="rId5"/>
    <p:sldLayoutId id="2147484991" r:id="rId6"/>
    <p:sldLayoutId id="2147484992" r:id="rId7"/>
    <p:sldLayoutId id="2147484993" r:id="rId8"/>
    <p:sldLayoutId id="2147484994" r:id="rId9"/>
    <p:sldLayoutId id="2147484995" r:id="rId10"/>
    <p:sldLayoutId id="2147484996" r:id="rId11"/>
    <p:sldLayoutId id="2147484997" r:id="rId12"/>
    <p:sldLayoutId id="2147484998" r:id="rId13"/>
    <p:sldLayoutId id="2147484999" r:id="rId14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0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2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44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64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5" name="PlaceHolder 3"/>
          <p:cNvSpPr>
            <a:spLocks noGrp="1"/>
          </p:cNvSpPr>
          <p:nvPr>
            <p:ph type="ftr" idx="2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PlaceHolder 4"/>
          <p:cNvSpPr>
            <a:spLocks noGrp="1"/>
          </p:cNvSpPr>
          <p:nvPr>
            <p:ph type="sldNum" idx="2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D244-9067-44EF-9E46-C86007D744B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3"/>
    <p:sldLayoutId id="2147485002" r:id="rId4"/>
    <p:sldLayoutId id="2147485003" r:id="rId5"/>
    <p:sldLayoutId id="2147485004" r:id="rId6"/>
    <p:sldLayoutId id="2147485005" r:id="rId7"/>
    <p:sldLayoutId id="2147485006" r:id="rId8"/>
    <p:sldLayoutId id="2147485007" r:id="rId9"/>
    <p:sldLayoutId id="2147485008" r:id="rId10"/>
    <p:sldLayoutId id="2147485009" r:id="rId11"/>
    <p:sldLayoutId id="2147485010" r:id="rId12"/>
    <p:sldLayoutId id="2147485011" r:id="rId13"/>
    <p:sldLayoutId id="2147485012" r:id="rId14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3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5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450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07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8" name="PlaceHolder 3"/>
          <p:cNvSpPr>
            <a:spLocks noGrp="1"/>
          </p:cNvSpPr>
          <p:nvPr>
            <p:ph type="ftr" idx="2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PlaceHolder 4"/>
          <p:cNvSpPr>
            <a:spLocks noGrp="1"/>
          </p:cNvSpPr>
          <p:nvPr>
            <p:ph type="sldNum" idx="2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320C-81B2-46C8-AC23-EA7EE110458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3"/>
    <p:sldLayoutId id="2147485015" r:id="rId4"/>
    <p:sldLayoutId id="2147485016" r:id="rId5"/>
    <p:sldLayoutId id="2147485017" r:id="rId6"/>
    <p:sldLayoutId id="2147485018" r:id="rId7"/>
    <p:sldLayoutId id="2147485019" r:id="rId8"/>
    <p:sldLayoutId id="2147485020" r:id="rId9"/>
    <p:sldLayoutId id="2147485021" r:id="rId10"/>
    <p:sldLayoutId id="2147485022" r:id="rId11"/>
    <p:sldLayoutId id="2147485023" r:id="rId12"/>
    <p:sldLayoutId id="2147485024" r:id="rId13"/>
    <p:sldLayoutId id="2147485025" r:id="rId14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6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8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45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50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1" name="PlaceHolder 3"/>
          <p:cNvSpPr>
            <a:spLocks noGrp="1"/>
          </p:cNvSpPr>
          <p:nvPr>
            <p:ph type="ftr" idx="2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PlaceHolder 4"/>
          <p:cNvSpPr>
            <a:spLocks noGrp="1"/>
          </p:cNvSpPr>
          <p:nvPr>
            <p:ph type="sldNum" idx="2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6BFE-D090-4CB4-97B2-D40D8CDB40A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3"/>
    <p:sldLayoutId id="2147485028" r:id="rId4"/>
    <p:sldLayoutId id="2147485029" r:id="rId5"/>
    <p:sldLayoutId id="2147485030" r:id="rId6"/>
    <p:sldLayoutId id="2147485031" r:id="rId7"/>
    <p:sldLayoutId id="2147485032" r:id="rId8"/>
    <p:sldLayoutId id="2147485033" r:id="rId9"/>
    <p:sldLayoutId id="2147485034" r:id="rId10"/>
    <p:sldLayoutId id="2147485035" r:id="rId11"/>
    <p:sldLayoutId id="2147485036" r:id="rId12"/>
    <p:sldLayoutId id="2147485037" r:id="rId13"/>
    <p:sldLayoutId id="2147485038" r:id="rId14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9" name="Line 41"/>
          <p:cNvSpPr/>
          <p:nvPr/>
        </p:nvSpPr>
        <p:spPr>
          <a:xfrm>
            <a:off x="330120" y="1219320"/>
            <a:ext cx="8534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0" name="PlaceHolder 1"/>
          <p:cNvSpPr>
            <a:spLocks noGrp="1"/>
          </p:cNvSpPr>
          <p:nvPr>
            <p:ph type="title"/>
          </p:nvPr>
        </p:nvSpPr>
        <p:spPr>
          <a:xfrm>
            <a:off x="352440" y="340920"/>
            <a:ext cx="76485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127a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56127a"/>
              </a:solidFill>
              <a:latin typeface="Verdana"/>
            </a:endParaRPr>
          </a:p>
        </p:txBody>
      </p:sp>
      <p:sp>
        <p:nvSpPr>
          <p:cNvPr id="4591" name="PlaceHolder 2"/>
          <p:cNvSpPr>
            <a:spLocks noGrp="1"/>
          </p:cNvSpPr>
          <p:nvPr>
            <p:ph type="body"/>
          </p:nvPr>
        </p:nvSpPr>
        <p:spPr>
          <a:xfrm>
            <a:off x="1090080" y="1314360"/>
            <a:ext cx="690732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612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5612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5612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56127a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2" name="PlaceHolder 3"/>
          <p:cNvSpPr>
            <a:spLocks noGrp="1"/>
          </p:cNvSpPr>
          <p:nvPr>
            <p:ph type="sldNum" idx="222"/>
          </p:nvPr>
        </p:nvSpPr>
        <p:spPr>
          <a:xfrm>
            <a:off x="7785000" y="6590880"/>
            <a:ext cx="1371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5BFF-141E-41CA-992A-1B8C7DC93A4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Line 41"/>
          <p:cNvSpPr/>
          <p:nvPr/>
        </p:nvSpPr>
        <p:spPr>
          <a:xfrm>
            <a:off x="330120" y="1219320"/>
            <a:ext cx="8534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0" name="PlaceHolder 1"/>
          <p:cNvSpPr>
            <a:spLocks noGrp="1"/>
          </p:cNvSpPr>
          <p:nvPr>
            <p:ph type="title"/>
          </p:nvPr>
        </p:nvSpPr>
        <p:spPr>
          <a:xfrm>
            <a:off x="352440" y="340920"/>
            <a:ext cx="76485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127a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56127a"/>
              </a:solidFill>
              <a:latin typeface="Verdana"/>
            </a:endParaRPr>
          </a:p>
        </p:txBody>
      </p:sp>
      <p:sp>
        <p:nvSpPr>
          <p:cNvPr id="4631" name="PlaceHolder 2"/>
          <p:cNvSpPr>
            <a:spLocks noGrp="1"/>
          </p:cNvSpPr>
          <p:nvPr>
            <p:ph type="body"/>
          </p:nvPr>
        </p:nvSpPr>
        <p:spPr>
          <a:xfrm>
            <a:off x="1090080" y="1314360"/>
            <a:ext cx="690732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612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5612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5612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56127a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2" name="PlaceHolder 3"/>
          <p:cNvSpPr>
            <a:spLocks noGrp="1"/>
          </p:cNvSpPr>
          <p:nvPr>
            <p:ph type="dt" idx="223"/>
          </p:nvPr>
        </p:nvSpPr>
        <p:spPr>
          <a:xfrm>
            <a:off x="2958840" y="6603480"/>
            <a:ext cx="2870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CA, Madison, WI, June 6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3" name="PlaceHolder 4"/>
          <p:cNvSpPr>
            <a:spLocks noGrp="1"/>
          </p:cNvSpPr>
          <p:nvPr>
            <p:ph type="sldNum" idx="224"/>
          </p:nvPr>
        </p:nvSpPr>
        <p:spPr>
          <a:xfrm>
            <a:off x="7785000" y="6590880"/>
            <a:ext cx="1371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vind - </a:t>
            </a:r>
            <a:fld id="{F0EFC056-5D21-4581-8200-D1CEF86F8D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52440" y="340920"/>
            <a:ext cx="76485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127a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56127a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090080" y="1314360"/>
            <a:ext cx="690732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612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5612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5612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56127a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21"/>
          </p:nvPr>
        </p:nvSpPr>
        <p:spPr>
          <a:xfrm>
            <a:off x="7785000" y="6590880"/>
            <a:ext cx="1371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6D81-2F79-4CA2-AB8F-429069B9B368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41"/>
          <p:cNvSpPr/>
          <p:nvPr/>
        </p:nvSpPr>
        <p:spPr>
          <a:xfrm>
            <a:off x="330120" y="1219320"/>
            <a:ext cx="8534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52440" y="340920"/>
            <a:ext cx="76485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127a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56127a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1090080" y="1314360"/>
            <a:ext cx="690732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612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5612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5612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56127a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Line 41"/>
          <p:cNvSpPr/>
          <p:nvPr/>
        </p:nvSpPr>
        <p:spPr>
          <a:xfrm>
            <a:off x="330120" y="1219320"/>
            <a:ext cx="8534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52440" y="340920"/>
            <a:ext cx="76485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127a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56127a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090080" y="1314360"/>
            <a:ext cx="690732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612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5612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5612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56127a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2"/>
          </p:nvPr>
        </p:nvSpPr>
        <p:spPr>
          <a:xfrm>
            <a:off x="2958840" y="6603480"/>
            <a:ext cx="2870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ISCA, Madison, WI, June 6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sldNum" idx="23"/>
          </p:nvPr>
        </p:nvSpPr>
        <p:spPr>
          <a:xfrm>
            <a:off x="7785000" y="6590880"/>
            <a:ext cx="1371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Arvind - </a:t>
            </a:r>
            <a:fld id="{54AE7CC7-9A1B-441D-A626-01A3CC50FAD5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41"/>
          <p:cNvSpPr/>
          <p:nvPr/>
        </p:nvSpPr>
        <p:spPr>
          <a:xfrm>
            <a:off x="330120" y="1219320"/>
            <a:ext cx="8534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26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38B1-5441-4D8D-A012-B05F4A1556A1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29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6879-BEB6-4CF6-95FF-AF1D14CB4FEE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reeform 8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dt" idx="3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ftr" idx="3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C939-1F98-4988-9E63-77EE0704E0F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sldNum" idx="3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CA86-8EFF-4E84-89B0-7DDBD359595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84DA-A51C-4EC7-A90B-A8E52E502C5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6A09-E2A5-4EB1-9F3A-1371E622E4F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50D5-FE71-4BE4-8D6E-DBB028D5F65B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sldNum" idx="4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CF72-A42C-4E32-AA4E-69A5F1210CC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0100-7147-4314-B548-0893FF70B2A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8A32-14BD-4A8C-BF82-C0BE7EBBC09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4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4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1453-8D7A-4703-81CA-4E87841755B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C699-F97C-47B8-8AC2-935EB4C28AB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ftr" idx="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sldNum" idx="5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9926-1726-469A-BCCA-9852D469514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ftr" idx="5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 type="sldNum" idx="5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D09C-512F-4E62-8E26-73B41CAA575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CB09-CD31-4203-92DC-92E13BC0087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Freeform 8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5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8BAB-3F87-4DDA-ADE9-21FAF27EEF7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 type="ftr" idx="58"/>
          </p:nvPr>
        </p:nvSpPr>
        <p:spPr>
          <a:xfrm>
            <a:off x="3124080" y="6248520"/>
            <a:ext cx="289584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 type="sldNum" idx="5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B133-0089-41C2-9F37-89A1357FF46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3448-5906-4FCE-8C5E-4EBC6D724D7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1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 type="ftr" idx="6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 type="sldNum" idx="6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06C9-4456-4AC0-8412-E3A27A707CE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4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F3DC-2B4E-4B74-8DD1-430A718205F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ftr" idx="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sldNum" idx="6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31F1-C6E0-4896-B149-681CC80CB18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0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ftr" idx="6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sldNum" idx="6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C7C4-0D33-41EE-AE1F-A02EEC16A0A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3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558B-863D-4064-ADBA-9FC03E89F5B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6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ftr" idx="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sldNum" idx="7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24DF-3743-4DA5-80F9-00CBC13D3CE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9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 type="ftr" idx="7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 type="sldNum" idx="7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1CD6-346E-4FC1-8105-071FE156C09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2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 type="sldNum" idx="7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365F-FDC9-4725-B422-8F51FEC8C1F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5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ftr" idx="7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sldNum" idx="7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BE97-F20E-4FEA-8796-51A81B92924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8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 type="ftr" idx="7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 type="sldNum" idx="7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76E0-719E-4C65-8C64-C733AD4785D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8EA0-8270-4928-B274-D2D201833CE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Freeform 8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 type="dt" idx="8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 type="ftr" idx="8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 type="sldNum" idx="8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C7F9-C611-4977-956D-545C5B25234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5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 type="sldNum" idx="8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E81C-345B-4BDF-8F66-92087681113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8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 type="sldNum" idx="8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7007-8EA0-443D-B8AA-5A6EA1E7246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1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 type="ftr" idx="8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 type="sldNum" idx="8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009C-526D-4E3C-BBC4-FDC011FB00B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4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sldNum" idx="9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FB63-2E87-4CD2-A78D-ECB4AD485CD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7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 type="ftr" idx="9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 type="sldNum" idx="9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1183-7646-4237-9875-CB4E4B5E07D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0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 type="ftr" idx="9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 type="sldNum" idx="9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3385-6922-4931-BC9E-66538E1861B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3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 type="sldNum" idx="9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C888-6750-4D7B-A16B-204D38FC5A4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6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 type="ftr" idx="9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 type="sldNum" idx="9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4D37-5A95-4D3E-90BF-60D14EBFFC7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9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 type="ftr" idx="9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 type="sldNum" idx="10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5CDD-BBC2-4BD1-BF14-90BBF08A8AF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B6AA-D6BF-4B2A-A6D1-193AE3857B0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2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 type="sldNum" idx="10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E198-3E6B-4B3E-8144-45A5A0E3F4A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Freeform 8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 type="dt" idx="10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 type="ftr" idx="10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49E7-3AC6-49A3-BBFA-B26434B3DCD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9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 type="ftr" idx="106"/>
          </p:nvPr>
        </p:nvSpPr>
        <p:spPr>
          <a:xfrm>
            <a:off x="3124080" y="6248520"/>
            <a:ext cx="289584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 type="sldNum" idx="10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B8F0-CBB0-4EC2-BC1A-11DDC69BE85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2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PlaceHolder 3"/>
          <p:cNvSpPr>
            <a:spLocks noGrp="1"/>
          </p:cNvSpPr>
          <p:nvPr>
            <p:ph type="ftr" idx="10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PlaceHolder 4"/>
          <p:cNvSpPr>
            <a:spLocks noGrp="1"/>
          </p:cNvSpPr>
          <p:nvPr>
            <p:ph type="sldNum" idx="10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2C54-8707-4D01-B1DC-5C5D6EF8469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5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 type="sldNum" idx="1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3B1B-B481-4E8E-84B2-986EAC2CFDF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8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 type="ftr" idx="1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PlaceHolder 4"/>
          <p:cNvSpPr>
            <a:spLocks noGrp="1"/>
          </p:cNvSpPr>
          <p:nvPr>
            <p:ph type="sldNum" idx="1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CFC3-A217-4EE1-BA57-689E1E2BF7B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1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 type="ftr" idx="1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 type="sldNum" idx="1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80E5-C865-46F9-9D16-2C1D763F03E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4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 type="sldNum" idx="1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D7E3-BC47-4AE8-A8B4-E25565DBDE0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7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 type="ftr" idx="1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 type="sldNum" idx="1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BA01-D9D8-49AE-AEA6-D194A1F62A3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0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3" name="PlaceHolder 3"/>
          <p:cNvSpPr>
            <a:spLocks noGrp="1"/>
          </p:cNvSpPr>
          <p:nvPr>
            <p:ph type="ftr" idx="1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PlaceHolder 4"/>
          <p:cNvSpPr>
            <a:spLocks noGrp="1"/>
          </p:cNvSpPr>
          <p:nvPr>
            <p:ph type="sldNum" idx="1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D0D1-328F-4FB3-812C-E56AFF04208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DF16-DD0D-4287-AD15-A513428BDC9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3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 type="sldNum" idx="1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F27F-8C6A-4535-9231-B7816ED42DC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6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8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9" name="PlaceHolder 3"/>
          <p:cNvSpPr>
            <a:spLocks noGrp="1"/>
          </p:cNvSpPr>
          <p:nvPr>
            <p:ph type="ftr" idx="1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PlaceHolder 4"/>
          <p:cNvSpPr>
            <a:spLocks noGrp="1"/>
          </p:cNvSpPr>
          <p:nvPr>
            <p:ph type="sldNum" idx="12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2855-C415-4353-870E-378ED47B7D4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 type="dt" idx="12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 type="ftr" idx="12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PlaceHolder 5"/>
          <p:cNvSpPr>
            <a:spLocks noGrp="1"/>
          </p:cNvSpPr>
          <p:nvPr>
            <p:ph type="sldNum" idx="12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FDBE-24A3-4E46-B416-3256F9BB4B9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 type="ftr" idx="1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PlaceHolder 4"/>
          <p:cNvSpPr>
            <a:spLocks noGrp="1"/>
          </p:cNvSpPr>
          <p:nvPr>
            <p:ph type="sldNum" idx="1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4246-481D-4A97-902C-7AE88BB043E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6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7" name="PlaceHolder 3"/>
          <p:cNvSpPr>
            <a:spLocks noGrp="1"/>
          </p:cNvSpPr>
          <p:nvPr>
            <p:ph type="ftr" idx="1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4"/>
          <p:cNvSpPr>
            <a:spLocks noGrp="1"/>
          </p:cNvSpPr>
          <p:nvPr>
            <p:ph type="sldNum" idx="1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2FDE-26CD-4328-9444-EC214891A82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 type="ftr" idx="1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 type="sldNum" idx="13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42AB-2467-4AF1-90A4-6F01C7B0762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 type="ftr" idx="1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4"/>
          <p:cNvSpPr>
            <a:spLocks noGrp="1"/>
          </p:cNvSpPr>
          <p:nvPr>
            <p:ph type="sldNum" idx="1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250C-A6B5-40A2-8BCE-688293ACD4F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 type="ftr" idx="1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 type="sldNum" idx="1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C480-FD61-44D4-875E-5938C647FBC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 type="ftr" idx="1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PlaceHolder 4"/>
          <p:cNvSpPr>
            <a:spLocks noGrp="1"/>
          </p:cNvSpPr>
          <p:nvPr>
            <p:ph type="sldNum" idx="14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7BCE-9CD7-428E-992A-6CC38FA8A7C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 type="ftr" idx="1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 type="sldNum" idx="1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AE7F-3C9D-46B6-B152-167C1A23366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7670-8EDC-4A57-99A1-238C84EBFAB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9" name="PlaceHolder 3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PlaceHolder 4"/>
          <p:cNvSpPr>
            <a:spLocks noGrp="1"/>
          </p:cNvSpPr>
          <p:nvPr>
            <p:ph type="sldNum" idx="1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FF4F-71B7-482A-BAF8-AFCC627AB82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1" name="PlaceHolder 3"/>
          <p:cNvSpPr>
            <a:spLocks noGrp="1"/>
          </p:cNvSpPr>
          <p:nvPr>
            <p:ph type="ftr" idx="14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PlaceHolder 4"/>
          <p:cNvSpPr>
            <a:spLocks noGrp="1"/>
          </p:cNvSpPr>
          <p:nvPr>
            <p:ph type="sldNum" idx="14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7483-5F2F-4151-83EF-E8A4FD594F7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3" name="PlaceHolder 3"/>
          <p:cNvSpPr>
            <a:spLocks noGrp="1"/>
          </p:cNvSpPr>
          <p:nvPr>
            <p:ph type="ftr" idx="1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PlaceHolder 4"/>
          <p:cNvSpPr>
            <a:spLocks noGrp="1"/>
          </p:cNvSpPr>
          <p:nvPr>
            <p:ph type="sldNum" idx="1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544F-E5B7-4CAB-94B0-96D6F05DCB1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Freeform 8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160" indent="-3236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0600" indent="-349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8120" indent="-3142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79400" indent="-3380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 type="dt" idx="1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PlaceHolder 4"/>
          <p:cNvSpPr>
            <a:spLocks noGrp="1"/>
          </p:cNvSpPr>
          <p:nvPr>
            <p:ph type="ftr" idx="15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PlaceHolder 5"/>
          <p:cNvSpPr>
            <a:spLocks noGrp="1"/>
          </p:cNvSpPr>
          <p:nvPr>
            <p:ph type="sldNum" idx="1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F0C2-0AFC-4FB7-BB9D-70FB85F6C0E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7" name="Picture 7" descr="safari.png"/>
          <p:cNvPicPr/>
          <p:nvPr/>
        </p:nvPicPr>
        <p:blipFill>
          <a:blip r:embed="rId2"/>
          <a:stretch/>
        </p:blipFill>
        <p:spPr>
          <a:xfrm>
            <a:off x="179280" y="6453360"/>
            <a:ext cx="1079640" cy="312480"/>
          </a:xfrm>
          <a:prstGeom prst="rect">
            <a:avLst/>
          </a:prstGeom>
          <a:ln w="0">
            <a:noFill/>
          </a:ln>
        </p:spPr>
      </p:pic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160" indent="-3236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0600" indent="-349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8120" indent="-3142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79400" indent="-3380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 type="ftr" idx="1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 type="sldNum" idx="15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EBD6-5279-4FE3-90E8-F31DEC349E5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0" name="Picture 7" descr="safari.png"/>
          <p:cNvPicPr/>
          <p:nvPr/>
        </p:nvPicPr>
        <p:blipFill>
          <a:blip r:embed="rId2"/>
          <a:stretch/>
        </p:blipFill>
        <p:spPr>
          <a:xfrm>
            <a:off x="179280" y="6453360"/>
            <a:ext cx="1079640" cy="312480"/>
          </a:xfrm>
          <a:prstGeom prst="rect">
            <a:avLst/>
          </a:prstGeom>
          <a:ln w="0">
            <a:noFill/>
          </a:ln>
        </p:spPr>
      </p:pic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160" indent="-3236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0600" indent="-349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8120" indent="-3142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79400" indent="-3380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3" name="PlaceHolder 3"/>
          <p:cNvSpPr>
            <a:spLocks noGrp="1"/>
          </p:cNvSpPr>
          <p:nvPr>
            <p:ph type="ftr" idx="15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PlaceHolder 4"/>
          <p:cNvSpPr>
            <a:spLocks noGrp="1"/>
          </p:cNvSpPr>
          <p:nvPr>
            <p:ph type="sldNum" idx="15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877F-1689-495C-8334-B5ADEF77393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3"/>
    <p:sldLayoutId id="2147484612" r:id="rId4"/>
    <p:sldLayoutId id="2147484613" r:id="rId5"/>
    <p:sldLayoutId id="2147484614" r:id="rId6"/>
    <p:sldLayoutId id="2147484615" r:id="rId7"/>
    <p:sldLayoutId id="2147484616" r:id="rId8"/>
    <p:sldLayoutId id="2147484617" r:id="rId9"/>
    <p:sldLayoutId id="2147484618" r:id="rId10"/>
    <p:sldLayoutId id="2147484619" r:id="rId11"/>
    <p:sldLayoutId id="2147484620" r:id="rId12"/>
    <p:sldLayoutId id="2147484621" r:id="rId13"/>
    <p:sldLayoutId id="2147484622" r:id="rId14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3" name="Picture 7" descr="safari.png"/>
          <p:cNvPicPr/>
          <p:nvPr/>
        </p:nvPicPr>
        <p:blipFill>
          <a:blip r:embed="rId2"/>
          <a:stretch/>
        </p:blipFill>
        <p:spPr>
          <a:xfrm>
            <a:off x="179280" y="6453360"/>
            <a:ext cx="1079640" cy="312480"/>
          </a:xfrm>
          <a:prstGeom prst="rect">
            <a:avLst/>
          </a:prstGeom>
          <a:ln w="0">
            <a:noFill/>
          </a:ln>
        </p:spPr>
      </p:pic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160" indent="-3236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0600" indent="-349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8120" indent="-3142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79400" indent="-3380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6" name="PlaceHolder 3"/>
          <p:cNvSpPr>
            <a:spLocks noGrp="1"/>
          </p:cNvSpPr>
          <p:nvPr>
            <p:ph type="ftr" idx="1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PlaceHolder 4"/>
          <p:cNvSpPr>
            <a:spLocks noGrp="1"/>
          </p:cNvSpPr>
          <p:nvPr>
            <p:ph type="sldNum" idx="1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99BC-AD86-4B55-9405-8596EAC9CF0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4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6" name="Picture 7" descr="safari.png"/>
          <p:cNvPicPr/>
          <p:nvPr/>
        </p:nvPicPr>
        <p:blipFill>
          <a:blip r:embed="rId2"/>
          <a:stretch/>
        </p:blipFill>
        <p:spPr>
          <a:xfrm>
            <a:off x="179280" y="6453360"/>
            <a:ext cx="1079640" cy="312480"/>
          </a:xfrm>
          <a:prstGeom prst="rect">
            <a:avLst/>
          </a:prstGeom>
          <a:ln w="0">
            <a:noFill/>
          </a:ln>
        </p:spPr>
      </p:pic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160" indent="-3236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0600" indent="-349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8120" indent="-3142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79400" indent="-3380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 type="sldNum" idx="15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8011-E9A8-4B6F-81E4-CC10A0E8A85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9" name="Picture 7" descr="safari.png"/>
          <p:cNvPicPr/>
          <p:nvPr/>
        </p:nvPicPr>
        <p:blipFill>
          <a:blip r:embed="rId2"/>
          <a:stretch/>
        </p:blipFill>
        <p:spPr>
          <a:xfrm>
            <a:off x="179280" y="6453360"/>
            <a:ext cx="1079640" cy="312480"/>
          </a:xfrm>
          <a:prstGeom prst="rect">
            <a:avLst/>
          </a:prstGeom>
          <a:ln w="0">
            <a:noFill/>
          </a:ln>
        </p:spPr>
      </p:pic>
      <p:sp>
        <p:nvSpPr>
          <p:cNvPr id="33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0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160" indent="-3236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0600" indent="-349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8120" indent="-3142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79400" indent="-3380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2" name="PlaceHolder 3"/>
          <p:cNvSpPr>
            <a:spLocks noGrp="1"/>
          </p:cNvSpPr>
          <p:nvPr>
            <p:ph type="ftr" idx="16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PlaceHolder 4"/>
          <p:cNvSpPr>
            <a:spLocks noGrp="1"/>
          </p:cNvSpPr>
          <p:nvPr>
            <p:ph type="sldNum" idx="16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FBD1-60E3-4678-9411-C0CDD60B713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2" name="Picture 7" descr="safari.png"/>
          <p:cNvPicPr/>
          <p:nvPr/>
        </p:nvPicPr>
        <p:blipFill>
          <a:blip r:embed="rId2"/>
          <a:stretch/>
        </p:blipFill>
        <p:spPr>
          <a:xfrm>
            <a:off x="179280" y="6453360"/>
            <a:ext cx="1079640" cy="312480"/>
          </a:xfrm>
          <a:prstGeom prst="rect">
            <a:avLst/>
          </a:prstGeom>
          <a:ln w="0">
            <a:noFill/>
          </a:ln>
        </p:spPr>
      </p:pic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160" indent="-3236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0600" indent="-349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8120" indent="-3142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79400" indent="-3380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 type="ftr" idx="1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 type="sldNum" idx="1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4BF0-250B-4EB8-9023-9315475D9C3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160" indent="-3236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0600" indent="-349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8120" indent="-3142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79400" indent="-3380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47936A-805D-4801-B964-613B63E09CE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7" descr="safari.png"/>
          <p:cNvPicPr/>
          <p:nvPr/>
        </p:nvPicPr>
        <p:blipFill>
          <a:blip r:embed="rId2"/>
          <a:stretch/>
        </p:blipFill>
        <p:spPr>
          <a:xfrm>
            <a:off x="179280" y="6453360"/>
            <a:ext cx="1079640" cy="31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5" name="Picture 7" descr="safari.png"/>
          <p:cNvPicPr/>
          <p:nvPr/>
        </p:nvPicPr>
        <p:blipFill>
          <a:blip r:embed="rId2"/>
          <a:stretch/>
        </p:blipFill>
        <p:spPr>
          <a:xfrm>
            <a:off x="179280" y="6453360"/>
            <a:ext cx="1079640" cy="312480"/>
          </a:xfrm>
          <a:prstGeom prst="rect">
            <a:avLst/>
          </a:prstGeom>
          <a:ln w="0">
            <a:noFill/>
          </a:ln>
        </p:spPr>
      </p:pic>
      <p:sp>
        <p:nvSpPr>
          <p:cNvPr id="33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7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160" indent="-3236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0600" indent="-349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8120" indent="-3142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79400" indent="-3380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8" name="PlaceHolder 3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PlaceHolder 4"/>
          <p:cNvSpPr>
            <a:spLocks noGrp="1"/>
          </p:cNvSpPr>
          <p:nvPr>
            <p:ph type="sldNum" idx="16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BAFA-8E7A-4EF5-95B3-F1B0D745BA8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8" name="Picture 7" descr="safari.png"/>
          <p:cNvPicPr/>
          <p:nvPr/>
        </p:nvPicPr>
        <p:blipFill>
          <a:blip r:embed="rId2"/>
          <a:stretch/>
        </p:blipFill>
        <p:spPr>
          <a:xfrm>
            <a:off x="179280" y="6453360"/>
            <a:ext cx="1079640" cy="312480"/>
          </a:xfrm>
          <a:prstGeom prst="rect">
            <a:avLst/>
          </a:prstGeom>
          <a:ln w="0">
            <a:noFill/>
          </a:ln>
        </p:spPr>
      </p:pic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160" indent="-3236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0600" indent="-349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8120" indent="-3142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79400" indent="-3380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 type="ftr" idx="16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 type="sldNum" idx="16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C8A5-9AE3-42E7-9866-8EE29876A51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1" name="Picture 7" descr="safari.png"/>
          <p:cNvPicPr/>
          <p:nvPr/>
        </p:nvPicPr>
        <p:blipFill>
          <a:blip r:embed="rId2"/>
          <a:stretch/>
        </p:blipFill>
        <p:spPr>
          <a:xfrm>
            <a:off x="179280" y="6453360"/>
            <a:ext cx="1079640" cy="312480"/>
          </a:xfrm>
          <a:prstGeom prst="rect">
            <a:avLst/>
          </a:prstGeom>
          <a:ln w="0">
            <a:noFill/>
          </a:ln>
        </p:spPr>
      </p:pic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3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160" indent="-3236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0600" indent="-349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8120" indent="-3142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79400" indent="-3380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4" name="PlaceHolder 3"/>
          <p:cNvSpPr>
            <a:spLocks noGrp="1"/>
          </p:cNvSpPr>
          <p:nvPr>
            <p:ph type="ftr" idx="1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PlaceHolder 4"/>
          <p:cNvSpPr>
            <a:spLocks noGrp="1"/>
          </p:cNvSpPr>
          <p:nvPr>
            <p:ph type="sldNum" idx="1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6FEC-3BF7-4325-A721-A551F196CC5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4" name="Picture 7" descr="safari.png"/>
          <p:cNvPicPr/>
          <p:nvPr/>
        </p:nvPicPr>
        <p:blipFill>
          <a:blip r:embed="rId2"/>
          <a:stretch/>
        </p:blipFill>
        <p:spPr>
          <a:xfrm>
            <a:off x="179280" y="6453360"/>
            <a:ext cx="1079640" cy="312480"/>
          </a:xfrm>
          <a:prstGeom prst="rect">
            <a:avLst/>
          </a:prstGeom>
          <a:ln w="0">
            <a:noFill/>
          </a:ln>
        </p:spPr>
      </p:pic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6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160" indent="-3236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0600" indent="-349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8120" indent="-3142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79400" indent="-3380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7" name="PlaceHolder 3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PlaceHolder 4"/>
          <p:cNvSpPr>
            <a:spLocks noGrp="1"/>
          </p:cNvSpPr>
          <p:nvPr>
            <p:ph type="sldNum" idx="17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3EFB-A790-4085-B4D6-90190314A59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3"/>
    <p:sldLayoutId id="2147484716" r:id="rId4"/>
    <p:sldLayoutId id="2147484717" r:id="rId5"/>
    <p:sldLayoutId id="2147484718" r:id="rId6"/>
    <p:sldLayoutId id="2147484719" r:id="rId7"/>
    <p:sldLayoutId id="2147484720" r:id="rId8"/>
    <p:sldLayoutId id="2147484721" r:id="rId9"/>
    <p:sldLayoutId id="2147484722" r:id="rId10"/>
    <p:sldLayoutId id="2147484723" r:id="rId11"/>
    <p:sldLayoutId id="2147484724" r:id="rId12"/>
    <p:sldLayoutId id="2147484725" r:id="rId13"/>
    <p:sldLayoutId id="2147484726" r:id="rId14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Freeform 8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59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0" name="PlaceHolder 3"/>
          <p:cNvSpPr>
            <a:spLocks noGrp="1"/>
          </p:cNvSpPr>
          <p:nvPr>
            <p:ph type="dt" idx="17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PlaceHolder 4"/>
          <p:cNvSpPr>
            <a:spLocks noGrp="1"/>
          </p:cNvSpPr>
          <p:nvPr>
            <p:ph type="ftr" idx="17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PlaceHolder 5"/>
          <p:cNvSpPr>
            <a:spLocks noGrp="1"/>
          </p:cNvSpPr>
          <p:nvPr>
            <p:ph type="sldNum" idx="17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16F9-28C6-4CDB-AB34-C189B751BD4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1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4" name="PlaceHolder 3"/>
          <p:cNvSpPr>
            <a:spLocks noGrp="1"/>
          </p:cNvSpPr>
          <p:nvPr>
            <p:ph type="ftr" idx="175"/>
          </p:nvPr>
        </p:nvSpPr>
        <p:spPr>
          <a:xfrm>
            <a:off x="3124080" y="6248520"/>
            <a:ext cx="289584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PlaceHolder 4"/>
          <p:cNvSpPr>
            <a:spLocks noGrp="1"/>
          </p:cNvSpPr>
          <p:nvPr>
            <p:ph type="sldNum" idx="17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6328-F2E4-41AE-9091-BBF023ED675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3"/>
    <p:sldLayoutId id="2147484742" r:id="rId4"/>
    <p:sldLayoutId id="2147484743" r:id="rId5"/>
    <p:sldLayoutId id="2147484744" r:id="rId6"/>
    <p:sldLayoutId id="2147484745" r:id="rId7"/>
    <p:sldLayoutId id="2147484746" r:id="rId8"/>
    <p:sldLayoutId id="2147484747" r:id="rId9"/>
    <p:sldLayoutId id="2147484748" r:id="rId10"/>
    <p:sldLayoutId id="2147484749" r:id="rId11"/>
    <p:sldLayoutId id="2147484750" r:id="rId12"/>
    <p:sldLayoutId id="2147484751" r:id="rId13"/>
    <p:sldLayoutId id="2147484752" r:id="rId14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4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46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7" name="PlaceHolder 3"/>
          <p:cNvSpPr>
            <a:spLocks noGrp="1"/>
          </p:cNvSpPr>
          <p:nvPr>
            <p:ph type="ftr" idx="1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PlaceHolder 4"/>
          <p:cNvSpPr>
            <a:spLocks noGrp="1"/>
          </p:cNvSpPr>
          <p:nvPr>
            <p:ph type="sldNum" idx="17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9B40-6136-4BF3-A8E0-0EBF8AA98F2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3"/>
    <p:sldLayoutId id="2147484755" r:id="rId4"/>
    <p:sldLayoutId id="2147484756" r:id="rId5"/>
    <p:sldLayoutId id="2147484757" r:id="rId6"/>
    <p:sldLayoutId id="2147484758" r:id="rId7"/>
    <p:sldLayoutId id="2147484759" r:id="rId8"/>
    <p:sldLayoutId id="2147484760" r:id="rId9"/>
    <p:sldLayoutId id="2147484761" r:id="rId10"/>
    <p:sldLayoutId id="2147484762" r:id="rId11"/>
    <p:sldLayoutId id="2147484763" r:id="rId12"/>
    <p:sldLayoutId id="2147484764" r:id="rId13"/>
    <p:sldLayoutId id="2147484765" r:id="rId14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5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7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0" name="PlaceHolder 3"/>
          <p:cNvSpPr>
            <a:spLocks noGrp="1"/>
          </p:cNvSpPr>
          <p:nvPr>
            <p:ph type="ftr" idx="17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PlaceHolder 4"/>
          <p:cNvSpPr>
            <a:spLocks noGrp="1"/>
          </p:cNvSpPr>
          <p:nvPr>
            <p:ph type="sldNum" idx="18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DB3A-3983-490B-9419-6369DFE3DDD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3"/>
    <p:sldLayoutId id="2147484768" r:id="rId4"/>
    <p:sldLayoutId id="2147484769" r:id="rId5"/>
    <p:sldLayoutId id="2147484770" r:id="rId6"/>
    <p:sldLayoutId id="2147484771" r:id="rId7"/>
    <p:sldLayoutId id="2147484772" r:id="rId8"/>
    <p:sldLayoutId id="2147484773" r:id="rId9"/>
    <p:sldLayoutId id="2147484774" r:id="rId10"/>
    <p:sldLayoutId id="2147484775" r:id="rId11"/>
    <p:sldLayoutId id="2147484776" r:id="rId12"/>
    <p:sldLayoutId id="2147484777" r:id="rId13"/>
    <p:sldLayoutId id="2147484778" r:id="rId14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0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 type="ftr" idx="18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PlaceHolder 4"/>
          <p:cNvSpPr>
            <a:spLocks noGrp="1"/>
          </p:cNvSpPr>
          <p:nvPr>
            <p:ph type="sldNum" idx="18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1B67-E851-4B58-9120-AEED1C52B62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3"/>
    <p:sldLayoutId id="2147484781" r:id="rId4"/>
    <p:sldLayoutId id="2147484782" r:id="rId5"/>
    <p:sldLayoutId id="2147484783" r:id="rId6"/>
    <p:sldLayoutId id="2147484784" r:id="rId7"/>
    <p:sldLayoutId id="2147484785" r:id="rId8"/>
    <p:sldLayoutId id="2147484786" r:id="rId9"/>
    <p:sldLayoutId id="2147484787" r:id="rId10"/>
    <p:sldLayoutId id="2147484788" r:id="rId11"/>
    <p:sldLayoutId id="2147484789" r:id="rId12"/>
    <p:sldLayoutId id="2147484790" r:id="rId13"/>
    <p:sldLayoutId id="2147484791" r:id="rId14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3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6" name="PlaceHolder 3"/>
          <p:cNvSpPr>
            <a:spLocks noGrp="1"/>
          </p:cNvSpPr>
          <p:nvPr>
            <p:ph type="ftr" idx="1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PlaceHolder 4"/>
          <p:cNvSpPr>
            <a:spLocks noGrp="1"/>
          </p:cNvSpPr>
          <p:nvPr>
            <p:ph type="sldNum" idx="18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7C36-6752-412A-9B5B-97C651B3BAC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3"/>
    <p:sldLayoutId id="2147484794" r:id="rId4"/>
    <p:sldLayoutId id="2147484795" r:id="rId5"/>
    <p:sldLayoutId id="2147484796" r:id="rId6"/>
    <p:sldLayoutId id="2147484797" r:id="rId7"/>
    <p:sldLayoutId id="2147484798" r:id="rId8"/>
    <p:sldLayoutId id="2147484799" r:id="rId9"/>
    <p:sldLayoutId id="2147484800" r:id="rId10"/>
    <p:sldLayoutId id="2147484801" r:id="rId11"/>
    <p:sldLayoutId id="2147484802" r:id="rId12"/>
    <p:sldLayoutId id="2147484803" r:id="rId13"/>
    <p:sldLayoutId id="2147484804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2791-9DDF-49DD-94FF-7B3AF73FB19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4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6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381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18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9" name="PlaceHolder 3"/>
          <p:cNvSpPr>
            <a:spLocks noGrp="1"/>
          </p:cNvSpPr>
          <p:nvPr>
            <p:ph type="ftr" idx="1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PlaceHolder 4"/>
          <p:cNvSpPr>
            <a:spLocks noGrp="1"/>
          </p:cNvSpPr>
          <p:nvPr>
            <p:ph type="sldNum" idx="18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CE1F-13DE-4E15-98A2-6636623D7E9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3"/>
    <p:sldLayoutId id="2147484807" r:id="rId4"/>
    <p:sldLayoutId id="2147484808" r:id="rId5"/>
    <p:sldLayoutId id="2147484809" r:id="rId6"/>
    <p:sldLayoutId id="2147484810" r:id="rId7"/>
    <p:sldLayoutId id="2147484811" r:id="rId8"/>
    <p:sldLayoutId id="2147484812" r:id="rId9"/>
    <p:sldLayoutId id="2147484813" r:id="rId10"/>
    <p:sldLayoutId id="2147484814" r:id="rId11"/>
    <p:sldLayoutId id="2147484815" r:id="rId12"/>
    <p:sldLayoutId id="2147484816" r:id="rId13"/>
    <p:sldLayoutId id="2147484817" r:id="rId14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9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386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61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2" name="PlaceHolder 3"/>
          <p:cNvSpPr>
            <a:spLocks noGrp="1"/>
          </p:cNvSpPr>
          <p:nvPr>
            <p:ph type="ftr" idx="18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PlaceHolder 4"/>
          <p:cNvSpPr>
            <a:spLocks noGrp="1"/>
          </p:cNvSpPr>
          <p:nvPr>
            <p:ph type="sldNum" idx="18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F51E-41ED-4098-A6F7-F8EE3AB9AE1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3"/>
    <p:sldLayoutId id="2147484820" r:id="rId4"/>
    <p:sldLayoutId id="2147484821" r:id="rId5"/>
    <p:sldLayoutId id="2147484822" r:id="rId6"/>
    <p:sldLayoutId id="2147484823" r:id="rId7"/>
    <p:sldLayoutId id="2147484824" r:id="rId8"/>
    <p:sldLayoutId id="2147484825" r:id="rId9"/>
    <p:sldLayoutId id="2147484826" r:id="rId10"/>
    <p:sldLayoutId id="2147484827" r:id="rId11"/>
    <p:sldLayoutId id="2147484828" r:id="rId12"/>
    <p:sldLayoutId id="2147484829" r:id="rId13"/>
    <p:sldLayoutId id="2147484830" r:id="rId14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2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390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4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5" name="PlaceHolder 3"/>
          <p:cNvSpPr>
            <a:spLocks noGrp="1"/>
          </p:cNvSpPr>
          <p:nvPr>
            <p:ph type="ftr" idx="1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PlaceHolder 4"/>
          <p:cNvSpPr>
            <a:spLocks noGrp="1"/>
          </p:cNvSpPr>
          <p:nvPr>
            <p:ph type="sldNum" idx="19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12A0-6F4E-481D-8BC7-FE761722F7C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3"/>
    <p:sldLayoutId id="2147484833" r:id="rId4"/>
    <p:sldLayoutId id="2147484834" r:id="rId5"/>
    <p:sldLayoutId id="2147484835" r:id="rId6"/>
    <p:sldLayoutId id="2147484836" r:id="rId7"/>
    <p:sldLayoutId id="2147484837" r:id="rId8"/>
    <p:sldLayoutId id="2147484838" r:id="rId9"/>
    <p:sldLayoutId id="2147484839" r:id="rId10"/>
    <p:sldLayoutId id="2147484840" r:id="rId11"/>
    <p:sldLayoutId id="2147484841" r:id="rId12"/>
    <p:sldLayoutId id="2147484842" r:id="rId13"/>
    <p:sldLayoutId id="2147484843" r:id="rId14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5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39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47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8" name="PlaceHolder 3"/>
          <p:cNvSpPr>
            <a:spLocks noGrp="1"/>
          </p:cNvSpPr>
          <p:nvPr>
            <p:ph type="ftr" idx="19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PlaceHolder 4"/>
          <p:cNvSpPr>
            <a:spLocks noGrp="1"/>
          </p:cNvSpPr>
          <p:nvPr>
            <p:ph type="sldNum" idx="19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6123-2CFC-4D2C-9EC7-6A377EE4196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3"/>
    <p:sldLayoutId id="2147484846" r:id="rId4"/>
    <p:sldLayoutId id="2147484847" r:id="rId5"/>
    <p:sldLayoutId id="2147484848" r:id="rId6"/>
    <p:sldLayoutId id="2147484849" r:id="rId7"/>
    <p:sldLayoutId id="2147484850" r:id="rId8"/>
    <p:sldLayoutId id="2147484851" r:id="rId9"/>
    <p:sldLayoutId id="2147484852" r:id="rId10"/>
    <p:sldLayoutId id="2147484853" r:id="rId11"/>
    <p:sldLayoutId id="2147484854" r:id="rId12"/>
    <p:sldLayoutId id="2147484855" r:id="rId13"/>
    <p:sldLayoutId id="2147484856" r:id="rId14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8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398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0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1" name="PlaceHolder 3"/>
          <p:cNvSpPr>
            <a:spLocks noGrp="1"/>
          </p:cNvSpPr>
          <p:nvPr>
            <p:ph type="ftr" idx="19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PlaceHolder 4"/>
          <p:cNvSpPr>
            <a:spLocks noGrp="1"/>
          </p:cNvSpPr>
          <p:nvPr>
            <p:ph type="sldNum" idx="19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641E-EAE7-4B3E-81F0-2DA1DBD48A2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3"/>
    <p:sldLayoutId id="2147484859" r:id="rId4"/>
    <p:sldLayoutId id="2147484860" r:id="rId5"/>
    <p:sldLayoutId id="2147484861" r:id="rId6"/>
    <p:sldLayoutId id="2147484862" r:id="rId7"/>
    <p:sldLayoutId id="2147484863" r:id="rId8"/>
    <p:sldLayoutId id="2147484864" r:id="rId9"/>
    <p:sldLayoutId id="2147484865" r:id="rId10"/>
    <p:sldLayoutId id="2147484866" r:id="rId11"/>
    <p:sldLayoutId id="2147484867" r:id="rId12"/>
    <p:sldLayoutId id="2147484868" r:id="rId13"/>
    <p:sldLayoutId id="2147484869" r:id="rId14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9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1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403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3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4" name="PlaceHolder 3"/>
          <p:cNvSpPr>
            <a:spLocks noGrp="1"/>
          </p:cNvSpPr>
          <p:nvPr>
            <p:ph type="ftr" idx="1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PlaceHolder 4"/>
          <p:cNvSpPr>
            <a:spLocks noGrp="1"/>
          </p:cNvSpPr>
          <p:nvPr>
            <p:ph type="sldNum" idx="19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5925-D1F3-4040-9CF3-3BFE7B8117F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3"/>
    <p:sldLayoutId id="2147484872" r:id="rId4"/>
    <p:sldLayoutId id="2147484873" r:id="rId5"/>
    <p:sldLayoutId id="2147484874" r:id="rId6"/>
    <p:sldLayoutId id="2147484875" r:id="rId7"/>
    <p:sldLayoutId id="2147484876" r:id="rId8"/>
    <p:sldLayoutId id="2147484877" r:id="rId9"/>
    <p:sldLayoutId id="2147484878" r:id="rId10"/>
    <p:sldLayoutId id="2147484879" r:id="rId11"/>
    <p:sldLayoutId id="2147484880" r:id="rId12"/>
    <p:sldLayoutId id="2147484881" r:id="rId13"/>
    <p:sldLayoutId id="2147484882" r:id="rId14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Freeform 8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76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7" name="PlaceHolder 3"/>
          <p:cNvSpPr>
            <a:spLocks noGrp="1"/>
          </p:cNvSpPr>
          <p:nvPr>
            <p:ph type="dt" idx="19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PlaceHolder 4"/>
          <p:cNvSpPr>
            <a:spLocks noGrp="1"/>
          </p:cNvSpPr>
          <p:nvPr>
            <p:ph type="ftr" idx="19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PlaceHolder 5"/>
          <p:cNvSpPr>
            <a:spLocks noGrp="1"/>
          </p:cNvSpPr>
          <p:nvPr>
            <p:ph type="sldNum" idx="19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19FC-017D-407D-8D48-D1853DB94D6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6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8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41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20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1" name="PlaceHolder 3"/>
          <p:cNvSpPr>
            <a:spLocks noGrp="1"/>
          </p:cNvSpPr>
          <p:nvPr>
            <p:ph type="ftr" idx="200"/>
          </p:nvPr>
        </p:nvSpPr>
        <p:spPr>
          <a:xfrm>
            <a:off x="3124080" y="6248520"/>
            <a:ext cx="289584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PlaceHolder 4"/>
          <p:cNvSpPr>
            <a:spLocks noGrp="1"/>
          </p:cNvSpPr>
          <p:nvPr>
            <p:ph type="sldNum" idx="20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19A5-BCD3-4F1F-8EA3-59B0BAF7B16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3"/>
    <p:sldLayoutId id="2147484898" r:id="rId4"/>
    <p:sldLayoutId id="2147484899" r:id="rId5"/>
    <p:sldLayoutId id="2147484900" r:id="rId6"/>
    <p:sldLayoutId id="2147484901" r:id="rId7"/>
    <p:sldLayoutId id="2147484902" r:id="rId8"/>
    <p:sldLayoutId id="2147484903" r:id="rId9"/>
    <p:sldLayoutId id="2147484904" r:id="rId10"/>
    <p:sldLayoutId id="2147484905" r:id="rId11"/>
    <p:sldLayoutId id="2147484906" r:id="rId12"/>
    <p:sldLayoutId id="2147484907" r:id="rId13"/>
    <p:sldLayoutId id="2147484908" r:id="rId14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9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1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416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3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4" name="PlaceHolder 3"/>
          <p:cNvSpPr>
            <a:spLocks noGrp="1"/>
          </p:cNvSpPr>
          <p:nvPr>
            <p:ph type="ftr" idx="20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5" name="PlaceHolder 4"/>
          <p:cNvSpPr>
            <a:spLocks noGrp="1"/>
          </p:cNvSpPr>
          <p:nvPr>
            <p:ph type="sldNum" idx="20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EAC7-3828-4728-996D-DD1999FEC7D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3"/>
    <p:sldLayoutId id="2147484911" r:id="rId4"/>
    <p:sldLayoutId id="2147484912" r:id="rId5"/>
    <p:sldLayoutId id="2147484913" r:id="rId6"/>
    <p:sldLayoutId id="2147484914" r:id="rId7"/>
    <p:sldLayoutId id="2147484915" r:id="rId8"/>
    <p:sldLayoutId id="2147484916" r:id="rId9"/>
    <p:sldLayoutId id="2147484917" r:id="rId10"/>
    <p:sldLayoutId id="2147484918" r:id="rId11"/>
    <p:sldLayoutId id="2147484919" r:id="rId12"/>
    <p:sldLayoutId id="2147484920" r:id="rId13"/>
    <p:sldLayoutId id="2147484921" r:id="rId14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2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4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7" name="PlaceHolder 3"/>
          <p:cNvSpPr>
            <a:spLocks noGrp="1"/>
          </p:cNvSpPr>
          <p:nvPr>
            <p:ph type="ftr" idx="2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PlaceHolder 4"/>
          <p:cNvSpPr>
            <a:spLocks noGrp="1"/>
          </p:cNvSpPr>
          <p:nvPr>
            <p:ph type="sldNum" idx="20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D3B1-3354-4E10-8E62-C10F5D27F57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3"/>
    <p:sldLayoutId id="2147484924" r:id="rId4"/>
    <p:sldLayoutId id="2147484925" r:id="rId5"/>
    <p:sldLayoutId id="2147484926" r:id="rId6"/>
    <p:sldLayoutId id="2147484927" r:id="rId7"/>
    <p:sldLayoutId id="2147484928" r:id="rId8"/>
    <p:sldLayoutId id="2147484929" r:id="rId9"/>
    <p:sldLayoutId id="2147484930" r:id="rId10"/>
    <p:sldLayoutId id="2147484931" r:id="rId11"/>
    <p:sldLayoutId id="2147484932" r:id="rId12"/>
    <p:sldLayoutId id="2147484933" r:id="rId13"/>
    <p:sldLayoutId id="214748493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2uue7izU2c&amp;list=PL5PHm2jkkXmh4cDkC3s1VBB7-njlgiG5d&amp;index=19" TargetMode="External"/><Relationship Id="rId2" Type="http://schemas.openxmlformats.org/officeDocument/2006/relationships/hyperlink" Target="http://www.youtube.com/watch?v=D2uue7izU2c&amp;list=PL5PHm2jkkXmh4cDkC3s1VBB7-njlgiG5d&amp;index=19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9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7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42832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Computer Architecture:</a:t>
            </a:r>
            <a:br>
              <a:rPr sz="4400"/>
            </a:b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Dataflow (Part I)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78" name="PlaceHolder 2"/>
          <p:cNvSpPr>
            <a:spLocks noGrp="1"/>
          </p:cNvSpPr>
          <p:nvPr>
            <p:ph type="subTitle"/>
          </p:nvPr>
        </p:nvSpPr>
        <p:spPr>
          <a:xfrm>
            <a:off x="685800" y="37285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low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0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data flow machine, a program consists of data flow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data flow node fires (fetched and executed) when all its inputs ar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.e. when all inputs have toke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node and its ISA repres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3F71-3714-4FEA-ACE5-87B228DA4563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5" name="Picture 5" descr=""/>
          <p:cNvPicPr/>
          <p:nvPr/>
        </p:nvPicPr>
        <p:blipFill>
          <a:blip r:embed="rId1"/>
          <a:stretch/>
        </p:blipFill>
        <p:spPr>
          <a:xfrm>
            <a:off x="933480" y="4400640"/>
            <a:ext cx="1542960" cy="1600200"/>
          </a:xfrm>
          <a:prstGeom prst="rect">
            <a:avLst/>
          </a:prstGeom>
          <a:ln w="0">
            <a:noFill/>
          </a:ln>
        </p:spPr>
      </p:pic>
      <p:pic>
        <p:nvPicPr>
          <p:cNvPr id="4706" name="Picture 6" descr=""/>
          <p:cNvPicPr/>
          <p:nvPr/>
        </p:nvPicPr>
        <p:blipFill>
          <a:blip r:embed="rId2"/>
          <a:stretch/>
        </p:blipFill>
        <p:spPr>
          <a:xfrm>
            <a:off x="2971800" y="4805280"/>
            <a:ext cx="586728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low Nod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0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2DC5-55F1-4B26-8FA3-FBE748261DCB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9" name="Picture 2" descr=""/>
          <p:cNvPicPr/>
          <p:nvPr/>
        </p:nvPicPr>
        <p:blipFill>
          <a:blip r:embed="rId1"/>
          <a:stretch/>
        </p:blipFill>
        <p:spPr>
          <a:xfrm>
            <a:off x="1508040" y="996840"/>
            <a:ext cx="6051600" cy="51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low Nodes (II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11" name="PlaceHolder 2"/>
          <p:cNvSpPr>
            <a:spLocks noGrp="1"/>
          </p:cNvSpPr>
          <p:nvPr>
            <p:ph/>
          </p:nvPr>
        </p:nvSpPr>
        <p:spPr>
          <a:xfrm>
            <a:off x="836280" y="1428840"/>
            <a:ext cx="732636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mall set of dataflow operators can be used to define a general programming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2" name="Rectangle 4"/>
          <p:cNvSpPr/>
          <p:nvPr/>
        </p:nvSpPr>
        <p:spPr>
          <a:xfrm>
            <a:off x="905760" y="2690640"/>
            <a:ext cx="60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F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Rectangle 5"/>
          <p:cNvSpPr/>
          <p:nvPr/>
        </p:nvSpPr>
        <p:spPr>
          <a:xfrm>
            <a:off x="1964880" y="2690640"/>
            <a:ext cx="1567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Primitive 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4" name="Group 6"/>
          <p:cNvGrpSpPr/>
          <p:nvPr/>
        </p:nvGrpSpPr>
        <p:grpSpPr>
          <a:xfrm>
            <a:off x="2475000" y="3170160"/>
            <a:ext cx="528480" cy="1123920"/>
            <a:chOff x="2475000" y="3170160"/>
            <a:chExt cx="528480" cy="1123920"/>
          </a:xfrm>
        </p:grpSpPr>
        <p:sp>
          <p:nvSpPr>
            <p:cNvPr id="4715" name="Rectangle 7"/>
            <p:cNvSpPr/>
            <p:nvPr/>
          </p:nvSpPr>
          <p:spPr>
            <a:xfrm>
              <a:off x="2475000" y="3514680"/>
              <a:ext cx="528480" cy="453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Line 8"/>
            <p:cNvSpPr/>
            <p:nvPr/>
          </p:nvSpPr>
          <p:spPr>
            <a:xfrm>
              <a:off x="2576520" y="3170160"/>
              <a:ext cx="0" cy="3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Line 9"/>
            <p:cNvSpPr/>
            <p:nvPr/>
          </p:nvSpPr>
          <p:spPr>
            <a:xfrm>
              <a:off x="2917800" y="3170160"/>
              <a:ext cx="0" cy="33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Line 10"/>
            <p:cNvSpPr/>
            <p:nvPr/>
          </p:nvSpPr>
          <p:spPr>
            <a:xfrm>
              <a:off x="2751120" y="3962520"/>
              <a:ext cx="0" cy="33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9" name="Rectangle 11"/>
          <p:cNvSpPr/>
          <p:nvPr/>
        </p:nvSpPr>
        <p:spPr>
          <a:xfrm>
            <a:off x="4375800" y="2690640"/>
            <a:ext cx="825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0" name="Rectangle 12"/>
          <p:cNvSpPr/>
          <p:nvPr/>
        </p:nvSpPr>
        <p:spPr>
          <a:xfrm>
            <a:off x="6867720" y="2690640"/>
            <a:ext cx="828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1" name="Group 13"/>
          <p:cNvGrpSpPr/>
          <p:nvPr/>
        </p:nvGrpSpPr>
        <p:grpSpPr>
          <a:xfrm>
            <a:off x="875880" y="3164040"/>
            <a:ext cx="673560" cy="1126440"/>
            <a:chOff x="875880" y="3164040"/>
            <a:chExt cx="673560" cy="1126440"/>
          </a:xfrm>
        </p:grpSpPr>
        <p:sp>
          <p:nvSpPr>
            <p:cNvPr id="4722" name="Line 14"/>
            <p:cNvSpPr/>
            <p:nvPr/>
          </p:nvSpPr>
          <p:spPr>
            <a:xfrm flipH="1">
              <a:off x="1197000" y="3164040"/>
              <a:ext cx="1440" cy="58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Line 15"/>
            <p:cNvSpPr/>
            <p:nvPr/>
          </p:nvSpPr>
          <p:spPr>
            <a:xfrm flipH="1">
              <a:off x="875880" y="3752640"/>
              <a:ext cx="320760" cy="53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Line 16"/>
            <p:cNvSpPr/>
            <p:nvPr/>
          </p:nvSpPr>
          <p:spPr>
            <a:xfrm>
              <a:off x="1192320" y="3751200"/>
              <a:ext cx="357120" cy="53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5" name="Rectangle 17"/>
          <p:cNvSpPr/>
          <p:nvPr/>
        </p:nvSpPr>
        <p:spPr>
          <a:xfrm>
            <a:off x="760320" y="1695600"/>
            <a:ext cx="7301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Oval 18"/>
          <p:cNvSpPr/>
          <p:nvPr/>
        </p:nvSpPr>
        <p:spPr>
          <a:xfrm>
            <a:off x="1133640" y="3244680"/>
            <a:ext cx="139680" cy="140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7" name="Group 19"/>
          <p:cNvGrpSpPr/>
          <p:nvPr/>
        </p:nvGrpSpPr>
        <p:grpSpPr>
          <a:xfrm>
            <a:off x="6045120" y="3159000"/>
            <a:ext cx="1954440" cy="1135080"/>
            <a:chOff x="6045120" y="3159000"/>
            <a:chExt cx="1954440" cy="1135080"/>
          </a:xfrm>
        </p:grpSpPr>
        <p:sp>
          <p:nvSpPr>
            <p:cNvPr id="4728" name="Oval 20"/>
            <p:cNvSpPr/>
            <p:nvPr/>
          </p:nvSpPr>
          <p:spPr>
            <a:xfrm>
              <a:off x="6573960" y="3530520"/>
              <a:ext cx="1425600" cy="405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Line 21"/>
            <p:cNvSpPr/>
            <p:nvPr/>
          </p:nvSpPr>
          <p:spPr>
            <a:xfrm>
              <a:off x="7518600" y="3159000"/>
              <a:ext cx="0" cy="37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Line 22"/>
            <p:cNvSpPr/>
            <p:nvPr/>
          </p:nvSpPr>
          <p:spPr>
            <a:xfrm>
              <a:off x="7277040" y="392904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Rectangle 23"/>
            <p:cNvSpPr/>
            <p:nvPr/>
          </p:nvSpPr>
          <p:spPr>
            <a:xfrm>
              <a:off x="6917040" y="3557520"/>
              <a:ext cx="22644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Line 24"/>
            <p:cNvSpPr/>
            <p:nvPr/>
          </p:nvSpPr>
          <p:spPr>
            <a:xfrm>
              <a:off x="7037280" y="3168720"/>
              <a:ext cx="0" cy="36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Line 25"/>
            <p:cNvSpPr/>
            <p:nvPr/>
          </p:nvSpPr>
          <p:spPr>
            <a:xfrm>
              <a:off x="6045120" y="3735360"/>
              <a:ext cx="534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Rectangle 26"/>
            <p:cNvSpPr/>
            <p:nvPr/>
          </p:nvSpPr>
          <p:spPr>
            <a:xfrm>
              <a:off x="7400160" y="3557520"/>
              <a:ext cx="22032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5" name="Group 27"/>
          <p:cNvGrpSpPr/>
          <p:nvPr/>
        </p:nvGrpSpPr>
        <p:grpSpPr>
          <a:xfrm>
            <a:off x="3575160" y="3162240"/>
            <a:ext cx="1954080" cy="1131840"/>
            <a:chOff x="3575160" y="3162240"/>
            <a:chExt cx="1954080" cy="1131840"/>
          </a:xfrm>
        </p:grpSpPr>
        <p:sp>
          <p:nvSpPr>
            <p:cNvPr id="4736" name="Oval 28"/>
            <p:cNvSpPr/>
            <p:nvPr/>
          </p:nvSpPr>
          <p:spPr>
            <a:xfrm>
              <a:off x="4103640" y="3535200"/>
              <a:ext cx="1425600" cy="404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Line 29"/>
            <p:cNvSpPr/>
            <p:nvPr/>
          </p:nvSpPr>
          <p:spPr>
            <a:xfrm>
              <a:off x="5048280" y="3919320"/>
              <a:ext cx="0" cy="37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Line 30"/>
            <p:cNvSpPr/>
            <p:nvPr/>
          </p:nvSpPr>
          <p:spPr>
            <a:xfrm>
              <a:off x="4807080" y="316224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Rectangle 31"/>
            <p:cNvSpPr/>
            <p:nvPr/>
          </p:nvSpPr>
          <p:spPr>
            <a:xfrm>
              <a:off x="4447080" y="3708360"/>
              <a:ext cx="22644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Line 32"/>
            <p:cNvSpPr/>
            <p:nvPr/>
          </p:nvSpPr>
          <p:spPr>
            <a:xfrm>
              <a:off x="4567320" y="3929040"/>
              <a:ext cx="0" cy="36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Line 33"/>
            <p:cNvSpPr/>
            <p:nvPr/>
          </p:nvSpPr>
          <p:spPr>
            <a:xfrm>
              <a:off x="3575160" y="3740040"/>
              <a:ext cx="534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Rectangle 34"/>
            <p:cNvSpPr/>
            <p:nvPr/>
          </p:nvSpPr>
          <p:spPr>
            <a:xfrm>
              <a:off x="4930200" y="3708360"/>
              <a:ext cx="22032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3" name="Oval 35"/>
          <p:cNvSpPr/>
          <p:nvPr/>
        </p:nvSpPr>
        <p:spPr>
          <a:xfrm>
            <a:off x="2508120" y="324000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4" name="Oval 37"/>
          <p:cNvSpPr/>
          <p:nvPr/>
        </p:nvSpPr>
        <p:spPr>
          <a:xfrm>
            <a:off x="4737240" y="324000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5" name="Oval 38"/>
          <p:cNvSpPr/>
          <p:nvPr/>
        </p:nvSpPr>
        <p:spPr>
          <a:xfrm>
            <a:off x="6966000" y="323676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6" name="Oval 39"/>
          <p:cNvSpPr/>
          <p:nvPr/>
        </p:nvSpPr>
        <p:spPr>
          <a:xfrm>
            <a:off x="7450200" y="3235320"/>
            <a:ext cx="139680" cy="139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7" name="Oval 40"/>
          <p:cNvSpPr/>
          <p:nvPr/>
        </p:nvSpPr>
        <p:spPr>
          <a:xfrm>
            <a:off x="3722760" y="3670200"/>
            <a:ext cx="139680" cy="139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8" name="Oval 41"/>
          <p:cNvSpPr/>
          <p:nvPr/>
        </p:nvSpPr>
        <p:spPr>
          <a:xfrm>
            <a:off x="6210360" y="3666960"/>
            <a:ext cx="139680" cy="140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9" name="Rectangle 42"/>
          <p:cNvSpPr/>
          <p:nvPr/>
        </p:nvSpPr>
        <p:spPr>
          <a:xfrm>
            <a:off x="3687120" y="3481560"/>
            <a:ext cx="2127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Rectangle 43"/>
          <p:cNvSpPr/>
          <p:nvPr/>
        </p:nvSpPr>
        <p:spPr>
          <a:xfrm>
            <a:off x="6182640" y="3481560"/>
            <a:ext cx="2127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1" name="Group 44"/>
          <p:cNvGrpSpPr/>
          <p:nvPr/>
        </p:nvGrpSpPr>
        <p:grpSpPr>
          <a:xfrm>
            <a:off x="2475000" y="5075280"/>
            <a:ext cx="528480" cy="1123920"/>
            <a:chOff x="2475000" y="5075280"/>
            <a:chExt cx="528480" cy="1123920"/>
          </a:xfrm>
        </p:grpSpPr>
        <p:sp>
          <p:nvSpPr>
            <p:cNvPr id="4752" name="Rectangle 45"/>
            <p:cNvSpPr/>
            <p:nvPr/>
          </p:nvSpPr>
          <p:spPr>
            <a:xfrm>
              <a:off x="2475000" y="5419800"/>
              <a:ext cx="528480" cy="453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Line 46"/>
            <p:cNvSpPr/>
            <p:nvPr/>
          </p:nvSpPr>
          <p:spPr>
            <a:xfrm>
              <a:off x="2576520" y="5075280"/>
              <a:ext cx="0" cy="3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Line 47"/>
            <p:cNvSpPr/>
            <p:nvPr/>
          </p:nvSpPr>
          <p:spPr>
            <a:xfrm>
              <a:off x="2917800" y="5075280"/>
              <a:ext cx="0" cy="33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Line 48"/>
            <p:cNvSpPr/>
            <p:nvPr/>
          </p:nvSpPr>
          <p:spPr>
            <a:xfrm>
              <a:off x="2751120" y="5867640"/>
              <a:ext cx="0" cy="33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6" name="Group 49"/>
          <p:cNvGrpSpPr/>
          <p:nvPr/>
        </p:nvGrpSpPr>
        <p:grpSpPr>
          <a:xfrm>
            <a:off x="875880" y="5068800"/>
            <a:ext cx="673560" cy="1127160"/>
            <a:chOff x="875880" y="5068800"/>
            <a:chExt cx="673560" cy="1127160"/>
          </a:xfrm>
        </p:grpSpPr>
        <p:sp>
          <p:nvSpPr>
            <p:cNvPr id="4757" name="Line 50"/>
            <p:cNvSpPr/>
            <p:nvPr/>
          </p:nvSpPr>
          <p:spPr>
            <a:xfrm flipH="1">
              <a:off x="1197000" y="5068800"/>
              <a:ext cx="1440" cy="58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Line 51"/>
            <p:cNvSpPr/>
            <p:nvPr/>
          </p:nvSpPr>
          <p:spPr>
            <a:xfrm flipH="1">
              <a:off x="875880" y="5657760"/>
              <a:ext cx="320760" cy="53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Line 52"/>
            <p:cNvSpPr/>
            <p:nvPr/>
          </p:nvSpPr>
          <p:spPr>
            <a:xfrm>
              <a:off x="1192320" y="5655600"/>
              <a:ext cx="357120" cy="53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0" name="Oval 53"/>
          <p:cNvSpPr/>
          <p:nvPr/>
        </p:nvSpPr>
        <p:spPr>
          <a:xfrm>
            <a:off x="1341360" y="592308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Oval 54"/>
          <p:cNvSpPr/>
          <p:nvPr/>
        </p:nvSpPr>
        <p:spPr>
          <a:xfrm>
            <a:off x="923760" y="5931000"/>
            <a:ext cx="14004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2" name="Group 55"/>
          <p:cNvGrpSpPr/>
          <p:nvPr/>
        </p:nvGrpSpPr>
        <p:grpSpPr>
          <a:xfrm>
            <a:off x="6045120" y="5064120"/>
            <a:ext cx="1954440" cy="1135080"/>
            <a:chOff x="6045120" y="5064120"/>
            <a:chExt cx="1954440" cy="1135080"/>
          </a:xfrm>
        </p:grpSpPr>
        <p:sp>
          <p:nvSpPr>
            <p:cNvPr id="4763" name="Oval 56"/>
            <p:cNvSpPr/>
            <p:nvPr/>
          </p:nvSpPr>
          <p:spPr>
            <a:xfrm>
              <a:off x="6573960" y="5435640"/>
              <a:ext cx="1425600" cy="405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Line 57"/>
            <p:cNvSpPr/>
            <p:nvPr/>
          </p:nvSpPr>
          <p:spPr>
            <a:xfrm>
              <a:off x="7518600" y="5064120"/>
              <a:ext cx="0" cy="37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Line 58"/>
            <p:cNvSpPr/>
            <p:nvPr/>
          </p:nvSpPr>
          <p:spPr>
            <a:xfrm>
              <a:off x="7277040" y="583416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Rectangle 59"/>
            <p:cNvSpPr/>
            <p:nvPr/>
          </p:nvSpPr>
          <p:spPr>
            <a:xfrm>
              <a:off x="6917040" y="5462640"/>
              <a:ext cx="22644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Line 60"/>
            <p:cNvSpPr/>
            <p:nvPr/>
          </p:nvSpPr>
          <p:spPr>
            <a:xfrm>
              <a:off x="7037280" y="5073840"/>
              <a:ext cx="0" cy="36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Line 61"/>
            <p:cNvSpPr/>
            <p:nvPr/>
          </p:nvSpPr>
          <p:spPr>
            <a:xfrm>
              <a:off x="6045120" y="5640480"/>
              <a:ext cx="534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Rectangle 62"/>
            <p:cNvSpPr/>
            <p:nvPr/>
          </p:nvSpPr>
          <p:spPr>
            <a:xfrm>
              <a:off x="7400160" y="5462640"/>
              <a:ext cx="22032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0" name="Group 63"/>
          <p:cNvGrpSpPr/>
          <p:nvPr/>
        </p:nvGrpSpPr>
        <p:grpSpPr>
          <a:xfrm>
            <a:off x="3575160" y="5067360"/>
            <a:ext cx="1954080" cy="1131840"/>
            <a:chOff x="3575160" y="5067360"/>
            <a:chExt cx="1954080" cy="1131840"/>
          </a:xfrm>
        </p:grpSpPr>
        <p:sp>
          <p:nvSpPr>
            <p:cNvPr id="4771" name="Oval 64"/>
            <p:cNvSpPr/>
            <p:nvPr/>
          </p:nvSpPr>
          <p:spPr>
            <a:xfrm>
              <a:off x="4103640" y="5440320"/>
              <a:ext cx="1425600" cy="404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Line 65"/>
            <p:cNvSpPr/>
            <p:nvPr/>
          </p:nvSpPr>
          <p:spPr>
            <a:xfrm>
              <a:off x="5048280" y="5824440"/>
              <a:ext cx="0" cy="37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Line 66"/>
            <p:cNvSpPr/>
            <p:nvPr/>
          </p:nvSpPr>
          <p:spPr>
            <a:xfrm>
              <a:off x="4807080" y="506736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Rectangle 67"/>
            <p:cNvSpPr/>
            <p:nvPr/>
          </p:nvSpPr>
          <p:spPr>
            <a:xfrm>
              <a:off x="4447080" y="5613480"/>
              <a:ext cx="22644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5" name="Line 68"/>
            <p:cNvSpPr/>
            <p:nvPr/>
          </p:nvSpPr>
          <p:spPr>
            <a:xfrm>
              <a:off x="4567320" y="5834160"/>
              <a:ext cx="0" cy="36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6" name="Line 69"/>
            <p:cNvSpPr/>
            <p:nvPr/>
          </p:nvSpPr>
          <p:spPr>
            <a:xfrm>
              <a:off x="3575160" y="5645160"/>
              <a:ext cx="534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Rectangle 70"/>
            <p:cNvSpPr/>
            <p:nvPr/>
          </p:nvSpPr>
          <p:spPr>
            <a:xfrm>
              <a:off x="4930200" y="5613480"/>
              <a:ext cx="22032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8" name="Oval 71"/>
          <p:cNvSpPr/>
          <p:nvPr/>
        </p:nvSpPr>
        <p:spPr>
          <a:xfrm>
            <a:off x="2681280" y="5929200"/>
            <a:ext cx="139680" cy="1396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Oval 72"/>
          <p:cNvSpPr/>
          <p:nvPr/>
        </p:nvSpPr>
        <p:spPr>
          <a:xfrm>
            <a:off x="4494240" y="592776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Rectangle 73"/>
          <p:cNvSpPr/>
          <p:nvPr/>
        </p:nvSpPr>
        <p:spPr>
          <a:xfrm>
            <a:off x="3687120" y="5386320"/>
            <a:ext cx="2127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Rectangle 74"/>
          <p:cNvSpPr/>
          <p:nvPr/>
        </p:nvSpPr>
        <p:spPr>
          <a:xfrm>
            <a:off x="6182640" y="5386320"/>
            <a:ext cx="2127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Oval 75"/>
          <p:cNvSpPr/>
          <p:nvPr/>
        </p:nvSpPr>
        <p:spPr>
          <a:xfrm>
            <a:off x="7207200" y="593100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Rectangle 76"/>
          <p:cNvSpPr/>
          <p:nvPr/>
        </p:nvSpPr>
        <p:spPr>
          <a:xfrm rot="5400000">
            <a:off x="3939840" y="4385880"/>
            <a:ext cx="452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127a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Oval 77"/>
          <p:cNvSpPr/>
          <p:nvPr/>
        </p:nvSpPr>
        <p:spPr>
          <a:xfrm>
            <a:off x="7450200" y="5178600"/>
            <a:ext cx="139680" cy="139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Oval 78"/>
          <p:cNvSpPr/>
          <p:nvPr/>
        </p:nvSpPr>
        <p:spPr>
          <a:xfrm>
            <a:off x="2840040" y="3247920"/>
            <a:ext cx="139680" cy="139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3941640" cy="1269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flow Graph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87" name="Rectangle 3"/>
          <p:cNvSpPr/>
          <p:nvPr/>
        </p:nvSpPr>
        <p:spPr>
          <a:xfrm>
            <a:off x="1752480" y="1503360"/>
            <a:ext cx="158436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56127a"/>
                </a:solidFill>
                <a:latin typeface="Arial"/>
                <a:ea typeface="Arial"/>
              </a:rPr>
              <a:t>{x = a + b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56127a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56127a"/>
                </a:solidFill>
                <a:latin typeface="Arial"/>
                <a:ea typeface="Arial"/>
              </a:rPr>
              <a:t>y = b *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800" spc="-1" strike="noStrike">
                <a:solidFill>
                  <a:srgbClr val="56127a"/>
                </a:solidFill>
                <a:latin typeface="Arial"/>
                <a:ea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56127a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56127a"/>
                </a:solidFill>
                <a:latin typeface="Arial"/>
                <a:ea typeface="Arial"/>
              </a:rPr>
              <a:t>(x-y) * (x+y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8" name="Group 28"/>
          <p:cNvGrpSpPr/>
          <p:nvPr/>
        </p:nvGrpSpPr>
        <p:grpSpPr>
          <a:xfrm>
            <a:off x="5730120" y="1631880"/>
            <a:ext cx="2792520" cy="4370400"/>
            <a:chOff x="5730120" y="1631880"/>
            <a:chExt cx="2792520" cy="4370400"/>
          </a:xfrm>
        </p:grpSpPr>
        <p:sp>
          <p:nvSpPr>
            <p:cNvPr id="4789" name="Rectangle 29"/>
            <p:cNvSpPr/>
            <p:nvPr/>
          </p:nvSpPr>
          <p:spPr>
            <a:xfrm>
              <a:off x="5951520" y="1643040"/>
              <a:ext cx="3506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56127a"/>
                  </a:solidFill>
                  <a:latin typeface="Arial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0" name="Rectangle 30"/>
            <p:cNvSpPr/>
            <p:nvPr/>
          </p:nvSpPr>
          <p:spPr>
            <a:xfrm>
              <a:off x="8153640" y="1631880"/>
              <a:ext cx="3506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56127a"/>
                  </a:solidFill>
                  <a:latin typeface="Arial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1" name="Rectangle 31"/>
            <p:cNvSpPr/>
            <p:nvPr/>
          </p:nvSpPr>
          <p:spPr>
            <a:xfrm>
              <a:off x="6072120" y="2468520"/>
              <a:ext cx="633600" cy="50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Rectangle 32"/>
            <p:cNvSpPr/>
            <p:nvPr/>
          </p:nvSpPr>
          <p:spPr>
            <a:xfrm>
              <a:off x="7843680" y="2468520"/>
              <a:ext cx="635040" cy="50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Arial"/>
                  <a:ea typeface="Arial"/>
                </a:rPr>
                <a:t>*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3" name="Rectangle 33"/>
            <p:cNvSpPr/>
            <p:nvPr/>
          </p:nvSpPr>
          <p:spPr>
            <a:xfrm>
              <a:off x="6203880" y="3846600"/>
              <a:ext cx="633600" cy="50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Arial"/>
                  <a:ea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4" name="Rectangle 34"/>
            <p:cNvSpPr/>
            <p:nvPr/>
          </p:nvSpPr>
          <p:spPr>
            <a:xfrm>
              <a:off x="7713720" y="3846600"/>
              <a:ext cx="633240" cy="50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Rectangle 35"/>
            <p:cNvSpPr/>
            <p:nvPr/>
          </p:nvSpPr>
          <p:spPr>
            <a:xfrm>
              <a:off x="6991200" y="5094360"/>
              <a:ext cx="633600" cy="50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Arial"/>
                  <a:ea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6" name="Line 36"/>
            <p:cNvSpPr/>
            <p:nvPr/>
          </p:nvSpPr>
          <p:spPr>
            <a:xfrm>
              <a:off x="6257880" y="1866960"/>
              <a:ext cx="0" cy="59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7" name="Line 37"/>
            <p:cNvSpPr/>
            <p:nvPr/>
          </p:nvSpPr>
          <p:spPr>
            <a:xfrm>
              <a:off x="8161200" y="1866960"/>
              <a:ext cx="0" cy="59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Line 38"/>
            <p:cNvSpPr/>
            <p:nvPr/>
          </p:nvSpPr>
          <p:spPr>
            <a:xfrm>
              <a:off x="6389640" y="2982960"/>
              <a:ext cx="0" cy="85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9" name="Freeform 39"/>
            <p:cNvSpPr/>
            <p:nvPr/>
          </p:nvSpPr>
          <p:spPr>
            <a:xfrm>
              <a:off x="6519960" y="2063880"/>
              <a:ext cx="1643040" cy="395280"/>
            </a:xfrm>
            <a:custGeom>
              <a:avLst/>
              <a:gdLst/>
              <a:ahLst/>
              <a:rect l="l" t="t" r="r" b="b"/>
              <a:pathLst>
                <a:path w="1201" h="289">
                  <a:moveTo>
                    <a:pt x="1200" y="0"/>
                  </a:move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0" name="Line 40"/>
            <p:cNvSpPr/>
            <p:nvPr/>
          </p:nvSpPr>
          <p:spPr>
            <a:xfrm>
              <a:off x="8161200" y="2982960"/>
              <a:ext cx="0" cy="85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1" name="Freeform 41"/>
            <p:cNvSpPr/>
            <p:nvPr/>
          </p:nvSpPr>
          <p:spPr>
            <a:xfrm>
              <a:off x="6389640" y="3179880"/>
              <a:ext cx="1511280" cy="657000"/>
            </a:xfrm>
            <a:custGeom>
              <a:avLst/>
              <a:gdLst/>
              <a:ahLst/>
              <a:rect l="l" t="t" r="r" b="b"/>
              <a:pathLst>
                <a:path w="1105" h="481">
                  <a:moveTo>
                    <a:pt x="0" y="0"/>
                  </a:moveTo>
                  <a:lnTo>
                    <a:pt x="1104" y="0"/>
                  </a:lnTo>
                  <a:lnTo>
                    <a:pt x="1104" y="48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2" name="Freeform 42"/>
            <p:cNvSpPr/>
            <p:nvPr/>
          </p:nvSpPr>
          <p:spPr>
            <a:xfrm>
              <a:off x="6651720" y="3443400"/>
              <a:ext cx="1511280" cy="393480"/>
            </a:xfrm>
            <a:custGeom>
              <a:avLst/>
              <a:gdLst/>
              <a:ahLst/>
              <a:rect l="l" t="t" r="r" b="b"/>
              <a:pathLst>
                <a:path w="1105" h="289">
                  <a:moveTo>
                    <a:pt x="1104" y="0"/>
                  </a:move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3" name="Freeform 43"/>
            <p:cNvSpPr/>
            <p:nvPr/>
          </p:nvSpPr>
          <p:spPr>
            <a:xfrm>
              <a:off x="6519960" y="4361040"/>
              <a:ext cx="658800" cy="723600"/>
            </a:xfrm>
            <a:custGeom>
              <a:avLst/>
              <a:gdLst/>
              <a:ahLst/>
              <a:rect l="l" t="t" r="r" b="b"/>
              <a:pathLst>
                <a:path w="481" h="529">
                  <a:moveTo>
                    <a:pt x="0" y="0"/>
                  </a:moveTo>
                  <a:lnTo>
                    <a:pt x="0" y="240"/>
                  </a:lnTo>
                  <a:lnTo>
                    <a:pt x="480" y="240"/>
                  </a:lnTo>
                  <a:lnTo>
                    <a:pt x="480" y="52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Freeform 44"/>
            <p:cNvSpPr/>
            <p:nvPr/>
          </p:nvSpPr>
          <p:spPr>
            <a:xfrm>
              <a:off x="7439040" y="4361040"/>
              <a:ext cx="593640" cy="723600"/>
            </a:xfrm>
            <a:custGeom>
              <a:avLst/>
              <a:gdLst/>
              <a:ahLst/>
              <a:rect l="l" t="t" r="r" b="b"/>
              <a:pathLst>
                <a:path w="433" h="529">
                  <a:moveTo>
                    <a:pt x="432" y="0"/>
                  </a:moveTo>
                  <a:lnTo>
                    <a:pt x="432" y="240"/>
                  </a:lnTo>
                  <a:lnTo>
                    <a:pt x="0" y="240"/>
                  </a:lnTo>
                  <a:lnTo>
                    <a:pt x="0" y="52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Line 45"/>
            <p:cNvSpPr/>
            <p:nvPr/>
          </p:nvSpPr>
          <p:spPr>
            <a:xfrm>
              <a:off x="7307280" y="5608800"/>
              <a:ext cx="0" cy="39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6" name="Oval 46"/>
            <p:cNvSpPr/>
            <p:nvPr/>
          </p:nvSpPr>
          <p:spPr>
            <a:xfrm>
              <a:off x="6356520" y="3146400"/>
              <a:ext cx="648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Oval 47"/>
            <p:cNvSpPr/>
            <p:nvPr/>
          </p:nvSpPr>
          <p:spPr>
            <a:xfrm>
              <a:off x="8128080" y="3409920"/>
              <a:ext cx="65160" cy="63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8" name="Oval 48"/>
            <p:cNvSpPr/>
            <p:nvPr/>
          </p:nvSpPr>
          <p:spPr>
            <a:xfrm>
              <a:off x="8128080" y="203040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9" name="Rectangle 49"/>
            <p:cNvSpPr/>
            <p:nvPr/>
          </p:nvSpPr>
          <p:spPr>
            <a:xfrm>
              <a:off x="8188920" y="3273480"/>
              <a:ext cx="3337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56127a"/>
                  </a:solidFill>
                  <a:latin typeface="Arial"/>
                  <a:ea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Rectangle 50"/>
            <p:cNvSpPr/>
            <p:nvPr/>
          </p:nvSpPr>
          <p:spPr>
            <a:xfrm>
              <a:off x="6088680" y="3076560"/>
              <a:ext cx="3337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56127a"/>
                  </a:solidFill>
                  <a:latin typeface="Arial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1" name="Rectangle 51"/>
            <p:cNvSpPr/>
            <p:nvPr/>
          </p:nvSpPr>
          <p:spPr>
            <a:xfrm>
              <a:off x="5730120" y="2492280"/>
              <a:ext cx="31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2" name="Rectangle 52"/>
            <p:cNvSpPr/>
            <p:nvPr/>
          </p:nvSpPr>
          <p:spPr>
            <a:xfrm>
              <a:off x="7517520" y="2492280"/>
              <a:ext cx="31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Rectangle 53"/>
            <p:cNvSpPr/>
            <p:nvPr/>
          </p:nvSpPr>
          <p:spPr>
            <a:xfrm>
              <a:off x="5882400" y="3886200"/>
              <a:ext cx="31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Rectangle 54"/>
            <p:cNvSpPr/>
            <p:nvPr/>
          </p:nvSpPr>
          <p:spPr>
            <a:xfrm>
              <a:off x="7379640" y="3848040"/>
              <a:ext cx="31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Rectangle 55"/>
            <p:cNvSpPr/>
            <p:nvPr/>
          </p:nvSpPr>
          <p:spPr>
            <a:xfrm>
              <a:off x="6668280" y="5114880"/>
              <a:ext cx="31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6" name="PlaceHolder 2"/>
          <p:cNvSpPr>
            <a:spLocks noGrp="1"/>
          </p:cNvSpPr>
          <p:nvPr>
            <p:ph/>
          </p:nvPr>
        </p:nvSpPr>
        <p:spPr>
          <a:xfrm>
            <a:off x="455760" y="2774520"/>
            <a:ext cx="4456080" cy="28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ues in dataflow graphs are represented as tok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operator executes when all its input tokens are present; copies of the result token are distributed to the destination opera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17" name="Group 68"/>
          <p:cNvGrpSpPr/>
          <p:nvPr/>
        </p:nvGrpSpPr>
        <p:grpSpPr>
          <a:xfrm>
            <a:off x="1057320" y="3602160"/>
            <a:ext cx="3438360" cy="774000"/>
            <a:chOff x="1057320" y="3602160"/>
            <a:chExt cx="3438360" cy="774000"/>
          </a:xfrm>
        </p:grpSpPr>
        <p:sp>
          <p:nvSpPr>
            <p:cNvPr id="4818" name="Rectangle 58"/>
            <p:cNvSpPr/>
            <p:nvPr/>
          </p:nvSpPr>
          <p:spPr>
            <a:xfrm>
              <a:off x="1057320" y="3627360"/>
              <a:ext cx="74160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200" bIns="252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ok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9" name="Group 59"/>
            <p:cNvGrpSpPr/>
            <p:nvPr/>
          </p:nvGrpSpPr>
          <p:grpSpPr>
            <a:xfrm>
              <a:off x="1319040" y="3602160"/>
              <a:ext cx="3176640" cy="774000"/>
              <a:chOff x="1319040" y="3602160"/>
              <a:chExt cx="3176640" cy="774000"/>
            </a:xfrm>
          </p:grpSpPr>
          <p:sp>
            <p:nvSpPr>
              <p:cNvPr id="4820" name="Rectangle 60"/>
              <p:cNvSpPr/>
              <p:nvPr/>
            </p:nvSpPr>
            <p:spPr>
              <a:xfrm>
                <a:off x="2481480" y="3602160"/>
                <a:ext cx="1724760" cy="36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25200" bIns="25200" anchor="t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56127a"/>
                    </a:solidFill>
                    <a:latin typeface="Verdana"/>
                    <a:ea typeface="Arial"/>
                  </a:rPr>
                  <a:t>&lt; ip , p , v &gt;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1" name="Rectangle 61"/>
              <p:cNvSpPr/>
              <p:nvPr/>
            </p:nvSpPr>
            <p:spPr>
              <a:xfrm>
                <a:off x="1319040" y="4133880"/>
                <a:ext cx="1320840" cy="24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25200" bIns="252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56127a"/>
                    </a:solidFill>
                    <a:latin typeface="Verdana"/>
                    <a:ea typeface="Arial"/>
                  </a:rPr>
                  <a:t>instruction pt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Rectangle 62"/>
              <p:cNvSpPr/>
              <p:nvPr/>
            </p:nvSpPr>
            <p:spPr>
              <a:xfrm>
                <a:off x="3279600" y="4121280"/>
                <a:ext cx="482400" cy="24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25200" bIns="252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56127a"/>
                    </a:solidFill>
                    <a:latin typeface="Verdana"/>
                    <a:ea typeface="Arial"/>
                  </a:rPr>
                  <a:t>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Rectangle 63"/>
              <p:cNvSpPr/>
              <p:nvPr/>
            </p:nvSpPr>
            <p:spPr>
              <a:xfrm>
                <a:off x="3993480" y="4121280"/>
                <a:ext cx="502200" cy="24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25200" bIns="252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56127a"/>
                    </a:solidFill>
                    <a:latin typeface="Verdana"/>
                    <a:ea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Line 64"/>
              <p:cNvSpPr/>
              <p:nvPr/>
            </p:nvSpPr>
            <p:spPr>
              <a:xfrm flipV="1">
                <a:off x="2184480" y="3983040"/>
                <a:ext cx="569520" cy="13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5" name="Line 65"/>
              <p:cNvSpPr/>
              <p:nvPr/>
            </p:nvSpPr>
            <p:spPr>
              <a:xfrm>
                <a:off x="3313080" y="4008600"/>
                <a:ext cx="177480" cy="13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6" name="Line 66"/>
              <p:cNvSpPr/>
              <p:nvPr/>
            </p:nvSpPr>
            <p:spPr>
              <a:xfrm>
                <a:off x="3859200" y="3957840"/>
                <a:ext cx="34092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27" name="Group 72"/>
          <p:cNvGrpSpPr/>
          <p:nvPr/>
        </p:nvGrpSpPr>
        <p:grpSpPr>
          <a:xfrm>
            <a:off x="4470480" y="3325680"/>
            <a:ext cx="1981080" cy="716400"/>
            <a:chOff x="4470480" y="3325680"/>
            <a:chExt cx="1981080" cy="716400"/>
          </a:xfrm>
        </p:grpSpPr>
        <p:sp>
          <p:nvSpPr>
            <p:cNvPr id="4828" name="Oval 69"/>
            <p:cNvSpPr/>
            <p:nvPr/>
          </p:nvSpPr>
          <p:spPr>
            <a:xfrm>
              <a:off x="6311880" y="351468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Line 70"/>
            <p:cNvSpPr/>
            <p:nvPr/>
          </p:nvSpPr>
          <p:spPr>
            <a:xfrm flipV="1">
              <a:off x="4470480" y="3619080"/>
              <a:ext cx="170172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Text Box 71"/>
            <p:cNvSpPr/>
            <p:nvPr/>
          </p:nvSpPr>
          <p:spPr>
            <a:xfrm rot="21274200">
              <a:off x="4811760" y="3362400"/>
              <a:ext cx="81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Arial"/>
                  <a:ea typeface="Arial"/>
                </a:rPr>
                <a:t>ip = 3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Arial"/>
                  <a:ea typeface="Arial"/>
                </a:rPr>
                <a:t>p =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1" name="Text Box 73"/>
          <p:cNvSpPr/>
          <p:nvPr/>
        </p:nvSpPr>
        <p:spPr>
          <a:xfrm>
            <a:off x="3367440" y="6019920"/>
            <a:ext cx="2602440" cy="368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separate control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Example Data Flow Program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3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ECB8-033C-49AF-8843-E7769412BE2E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4" name="Picture 2" descr=""/>
          <p:cNvPicPr/>
          <p:nvPr/>
        </p:nvPicPr>
        <p:blipFill>
          <a:blip r:embed="rId1"/>
          <a:stretch/>
        </p:blipFill>
        <p:spPr>
          <a:xfrm>
            <a:off x="2286000" y="996840"/>
            <a:ext cx="4913280" cy="5678640"/>
          </a:xfrm>
          <a:prstGeom prst="rect">
            <a:avLst/>
          </a:prstGeom>
          <a:ln w="0">
            <a:noFill/>
          </a:ln>
        </p:spPr>
      </p:pic>
      <p:sp>
        <p:nvSpPr>
          <p:cNvPr id="4835" name="TextBox 4"/>
          <p:cNvSpPr/>
          <p:nvPr/>
        </p:nvSpPr>
        <p:spPr>
          <a:xfrm>
            <a:off x="2209680" y="541008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ntrol Flow vs. Data Flow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837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483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DC06-136B-4B8D-BAFC-D918C778A84A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9" name="Picture 4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7334280" cy="53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tatic Dataflow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4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only one instance of a node to be enabled for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taflow node is fired only when all of the tokens are available on its input arcs and no tokens exist on any of its its output ar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nis and Misunas, “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 Preliminary Architecture for a Basic Data Flow Process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” ISCA 1974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1D75-8EE4-459A-994B-EDAC38190780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3" name="Rectangle 2"/>
          <p:cNvSpPr/>
          <p:nvPr/>
        </p:nvSpPr>
        <p:spPr>
          <a:xfrm>
            <a:off x="1231920" y="2351160"/>
            <a:ext cx="3373560" cy="20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4" name="Rectangle 3"/>
          <p:cNvSpPr/>
          <p:nvPr/>
        </p:nvSpPr>
        <p:spPr>
          <a:xfrm>
            <a:off x="3851280" y="2355840"/>
            <a:ext cx="152280" cy="203832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5" name="Rectangle 4"/>
          <p:cNvSpPr/>
          <p:nvPr/>
        </p:nvSpPr>
        <p:spPr>
          <a:xfrm>
            <a:off x="3171960" y="2352600"/>
            <a:ext cx="152280" cy="203832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6" name="PlaceHolder 1"/>
          <p:cNvSpPr>
            <a:spLocks noGrp="1"/>
          </p:cNvSpPr>
          <p:nvPr>
            <p:ph type="title"/>
          </p:nvPr>
        </p:nvSpPr>
        <p:spPr>
          <a:xfrm>
            <a:off x="320760" y="336600"/>
            <a:ext cx="5859360" cy="7826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127a"/>
                </a:solidFill>
                <a:latin typeface="Verdana"/>
              </a:rPr>
              <a:t>Static Dataflow Machine:</a:t>
            </a:r>
            <a:br>
              <a:rPr sz="3600"/>
            </a:br>
            <a:r>
              <a:rPr b="0" i="1" lang="en-US" sz="2400" spc="-1" strike="noStrike">
                <a:solidFill>
                  <a:srgbClr val="56127a"/>
                </a:solidFill>
                <a:latin typeface="Verdana"/>
              </a:rPr>
              <a:t>Instruction Templates</a:t>
            </a:r>
            <a:endParaRPr b="0" lang="en-US" sz="2400" spc="-1" strike="noStrike">
              <a:solidFill>
                <a:srgbClr val="56127a"/>
              </a:solidFill>
              <a:latin typeface="Verdana"/>
            </a:endParaRPr>
          </a:p>
        </p:txBody>
      </p:sp>
      <p:sp>
        <p:nvSpPr>
          <p:cNvPr id="4847" name="Rectangle 6"/>
          <p:cNvSpPr/>
          <p:nvPr/>
        </p:nvSpPr>
        <p:spPr>
          <a:xfrm>
            <a:off x="1009800" y="5165640"/>
            <a:ext cx="47466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Each arc in the graph has an operand slot in 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8" name="Rectangle 7"/>
          <p:cNvSpPr/>
          <p:nvPr/>
        </p:nvSpPr>
        <p:spPr>
          <a:xfrm rot="19466400">
            <a:off x="1854360" y="1701360"/>
            <a:ext cx="1446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56127a"/>
                </a:solidFill>
                <a:latin typeface="Verdana"/>
                <a:ea typeface="Arial"/>
              </a:rPr>
              <a:t>Destinatio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9" name="Rectangle 8"/>
          <p:cNvSpPr/>
          <p:nvPr/>
        </p:nvSpPr>
        <p:spPr>
          <a:xfrm rot="19466400">
            <a:off x="2625840" y="1699920"/>
            <a:ext cx="1446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56127a"/>
                </a:solidFill>
                <a:latin typeface="Verdana"/>
                <a:ea typeface="Arial"/>
              </a:rPr>
              <a:t>Destinatio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0" name="Rectangle 9"/>
          <p:cNvSpPr/>
          <p:nvPr/>
        </p:nvSpPr>
        <p:spPr>
          <a:xfrm>
            <a:off x="4217400" y="4468680"/>
            <a:ext cx="17186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56127a"/>
                </a:solidFill>
                <a:latin typeface="Verdana"/>
                <a:ea typeface="Arial"/>
              </a:rPr>
              <a:t>Presenc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1" name="Group 10"/>
          <p:cNvGrpSpPr/>
          <p:nvPr/>
        </p:nvGrpSpPr>
        <p:grpSpPr>
          <a:xfrm>
            <a:off x="868320" y="2354400"/>
            <a:ext cx="349200" cy="2039760"/>
            <a:chOff x="868320" y="2354400"/>
            <a:chExt cx="349200" cy="2039760"/>
          </a:xfrm>
        </p:grpSpPr>
        <p:sp>
          <p:nvSpPr>
            <p:cNvPr id="4852" name="Rectangle 11"/>
            <p:cNvSpPr/>
            <p:nvPr/>
          </p:nvSpPr>
          <p:spPr>
            <a:xfrm>
              <a:off x="868320" y="2354400"/>
              <a:ext cx="34920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2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Rectangle 12"/>
            <p:cNvSpPr/>
            <p:nvPr/>
          </p:nvSpPr>
          <p:spPr>
            <a:xfrm>
              <a:off x="868320" y="2764800"/>
              <a:ext cx="34920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2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Rectangle 13"/>
            <p:cNvSpPr/>
            <p:nvPr/>
          </p:nvSpPr>
          <p:spPr>
            <a:xfrm>
              <a:off x="868320" y="3184920"/>
              <a:ext cx="34920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2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Rectangle 14"/>
            <p:cNvSpPr/>
            <p:nvPr/>
          </p:nvSpPr>
          <p:spPr>
            <a:xfrm>
              <a:off x="868320" y="3593520"/>
              <a:ext cx="34920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2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Rectangle 15"/>
            <p:cNvSpPr/>
            <p:nvPr/>
          </p:nvSpPr>
          <p:spPr>
            <a:xfrm>
              <a:off x="868320" y="4003920"/>
              <a:ext cx="34920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2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7" name="Line 16"/>
          <p:cNvSpPr/>
          <p:nvPr/>
        </p:nvSpPr>
        <p:spPr>
          <a:xfrm>
            <a:off x="1219320" y="2771640"/>
            <a:ext cx="3386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8" name="Line 17"/>
          <p:cNvSpPr/>
          <p:nvPr/>
        </p:nvSpPr>
        <p:spPr>
          <a:xfrm>
            <a:off x="1231920" y="3168720"/>
            <a:ext cx="33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9" name="Line 18"/>
          <p:cNvSpPr/>
          <p:nvPr/>
        </p:nvSpPr>
        <p:spPr>
          <a:xfrm>
            <a:off x="1231920" y="3613320"/>
            <a:ext cx="33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0" name="Line 19"/>
          <p:cNvSpPr/>
          <p:nvPr/>
        </p:nvSpPr>
        <p:spPr>
          <a:xfrm>
            <a:off x="1231920" y="4010040"/>
            <a:ext cx="33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1" name="Line 20"/>
          <p:cNvSpPr/>
          <p:nvPr/>
        </p:nvSpPr>
        <p:spPr>
          <a:xfrm>
            <a:off x="2484360" y="2360520"/>
            <a:ext cx="0" cy="203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2" name="Rectangle 21"/>
          <p:cNvSpPr/>
          <p:nvPr/>
        </p:nvSpPr>
        <p:spPr>
          <a:xfrm>
            <a:off x="1326240" y="2287440"/>
            <a:ext cx="16750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56127a"/>
                </a:solidFill>
                <a:latin typeface="Courier New"/>
                <a:ea typeface="Arial"/>
              </a:rPr>
              <a:t>+ </a:t>
            </a:r>
            <a:r>
              <a:rPr b="1" lang="en-US" sz="2200" spc="-1" strike="noStrike">
                <a:solidFill>
                  <a:srgbClr val="56127a"/>
                </a:solidFill>
                <a:latin typeface="Courier New"/>
                <a:ea typeface="Arial"/>
              </a:rPr>
              <a:t>3L  4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Rectangle 22"/>
          <p:cNvSpPr/>
          <p:nvPr/>
        </p:nvSpPr>
        <p:spPr>
          <a:xfrm>
            <a:off x="1397160" y="2658960"/>
            <a:ext cx="156816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 baseline="-25000">
                <a:solidFill>
                  <a:srgbClr val="56127a"/>
                </a:solidFill>
                <a:latin typeface="Arial"/>
                <a:ea typeface="Arial"/>
              </a:rPr>
              <a:t>*</a:t>
            </a:r>
            <a:r>
              <a:rPr b="1" lang="en-US" sz="1600" spc="-1" strike="noStrike">
                <a:solidFill>
                  <a:srgbClr val="56127a"/>
                </a:solidFill>
                <a:latin typeface="Courier New"/>
                <a:ea typeface="Arial"/>
              </a:rPr>
              <a:t>  </a:t>
            </a:r>
            <a:r>
              <a:rPr b="1" lang="en-US" sz="2200" spc="-1" strike="noStrike">
                <a:solidFill>
                  <a:srgbClr val="56127a"/>
                </a:solidFill>
                <a:latin typeface="Courier New"/>
                <a:ea typeface="Arial"/>
              </a:rPr>
              <a:t>3R  4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Rectangle 23"/>
          <p:cNvSpPr/>
          <p:nvPr/>
        </p:nvSpPr>
        <p:spPr>
          <a:xfrm>
            <a:off x="1321920" y="3117960"/>
            <a:ext cx="10044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56127a"/>
                </a:solidFill>
                <a:latin typeface="Courier New"/>
                <a:ea typeface="Arial"/>
              </a:rPr>
              <a:t>- </a:t>
            </a:r>
            <a:r>
              <a:rPr b="1" lang="en-US" sz="2200" spc="-1" strike="noStrike">
                <a:solidFill>
                  <a:srgbClr val="56127a"/>
                </a:solidFill>
                <a:latin typeface="Courier New"/>
                <a:ea typeface="Arial"/>
              </a:rPr>
              <a:t>5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Rectangle 24"/>
          <p:cNvSpPr/>
          <p:nvPr/>
        </p:nvSpPr>
        <p:spPr>
          <a:xfrm>
            <a:off x="1336680" y="3538440"/>
            <a:ext cx="10044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56127a"/>
                </a:solidFill>
                <a:latin typeface="Courier New"/>
                <a:ea typeface="Arial"/>
              </a:rPr>
              <a:t>+ </a:t>
            </a:r>
            <a:r>
              <a:rPr b="1" lang="en-US" sz="2200" spc="-1" strike="noStrike">
                <a:solidFill>
                  <a:srgbClr val="56127a"/>
                </a:solidFill>
                <a:latin typeface="Courier New"/>
                <a:ea typeface="Arial"/>
              </a:rPr>
              <a:t>5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Rectangle 25"/>
          <p:cNvSpPr/>
          <p:nvPr/>
        </p:nvSpPr>
        <p:spPr>
          <a:xfrm>
            <a:off x="1377720" y="3873600"/>
            <a:ext cx="113976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 baseline="-25000">
                <a:solidFill>
                  <a:srgbClr val="56127a"/>
                </a:solidFill>
                <a:latin typeface="Courier New"/>
                <a:ea typeface="Arial"/>
              </a:rPr>
              <a:t>*</a:t>
            </a:r>
            <a:r>
              <a:rPr b="1" lang="en-US" sz="3200" spc="-1" strike="noStrike">
                <a:solidFill>
                  <a:srgbClr val="56127a"/>
                </a:solidFill>
                <a:latin typeface="Courier New"/>
                <a:ea typeface="Arial"/>
              </a:rPr>
              <a:t> </a:t>
            </a:r>
            <a:r>
              <a:rPr b="1" lang="en-US" sz="2200" spc="-1" strike="noStrike">
                <a:solidFill>
                  <a:srgbClr val="56127a"/>
                </a:solidFill>
                <a:latin typeface="Courier New"/>
                <a:ea typeface="Arial"/>
              </a:rPr>
              <a:t>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7" name="Line 26"/>
          <p:cNvSpPr/>
          <p:nvPr/>
        </p:nvSpPr>
        <p:spPr>
          <a:xfrm>
            <a:off x="1751040" y="2338560"/>
            <a:ext cx="0" cy="205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8" name="Rectangle 27"/>
          <p:cNvSpPr/>
          <p:nvPr/>
        </p:nvSpPr>
        <p:spPr>
          <a:xfrm rot="19457400">
            <a:off x="1294560" y="1873080"/>
            <a:ext cx="923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56127a"/>
                </a:solidFill>
                <a:latin typeface="Verdana"/>
                <a:ea typeface="Arial"/>
              </a:rPr>
              <a:t>Op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9" name="Rectangle 28"/>
          <p:cNvSpPr/>
          <p:nvPr/>
        </p:nvSpPr>
        <p:spPr>
          <a:xfrm rot="19463400">
            <a:off x="3360600" y="1784520"/>
            <a:ext cx="1196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56127a"/>
                </a:solidFill>
                <a:latin typeface="Verdana"/>
                <a:ea typeface="Arial"/>
              </a:rPr>
              <a:t>Opera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0" name="Rectangle 29"/>
          <p:cNvSpPr/>
          <p:nvPr/>
        </p:nvSpPr>
        <p:spPr>
          <a:xfrm rot="19463400">
            <a:off x="4032000" y="1784520"/>
            <a:ext cx="1196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56127a"/>
                </a:solidFill>
                <a:latin typeface="Verdana"/>
                <a:ea typeface="Arial"/>
              </a:rPr>
              <a:t>Operan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1" name="Group 30"/>
          <p:cNvGrpSpPr/>
          <p:nvPr/>
        </p:nvGrpSpPr>
        <p:grpSpPr>
          <a:xfrm>
            <a:off x="5730120" y="1631880"/>
            <a:ext cx="2808000" cy="4370400"/>
            <a:chOff x="5730120" y="1631880"/>
            <a:chExt cx="2808000" cy="4370400"/>
          </a:xfrm>
        </p:grpSpPr>
        <p:sp>
          <p:nvSpPr>
            <p:cNvPr id="4872" name="Rectangle 31"/>
            <p:cNvSpPr/>
            <p:nvPr/>
          </p:nvSpPr>
          <p:spPr>
            <a:xfrm>
              <a:off x="5944680" y="1643040"/>
              <a:ext cx="364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Rectangle 32"/>
            <p:cNvSpPr/>
            <p:nvPr/>
          </p:nvSpPr>
          <p:spPr>
            <a:xfrm>
              <a:off x="8146800" y="1631880"/>
              <a:ext cx="364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Rectangle 33"/>
            <p:cNvSpPr/>
            <p:nvPr/>
          </p:nvSpPr>
          <p:spPr>
            <a:xfrm>
              <a:off x="6072120" y="2468520"/>
              <a:ext cx="633600" cy="50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Rectangle 34"/>
            <p:cNvSpPr/>
            <p:nvPr/>
          </p:nvSpPr>
          <p:spPr>
            <a:xfrm>
              <a:off x="7843680" y="2468520"/>
              <a:ext cx="635040" cy="50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*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Rectangle 35"/>
            <p:cNvSpPr/>
            <p:nvPr/>
          </p:nvSpPr>
          <p:spPr>
            <a:xfrm>
              <a:off x="6203880" y="3846600"/>
              <a:ext cx="633600" cy="50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Rectangle 36"/>
            <p:cNvSpPr/>
            <p:nvPr/>
          </p:nvSpPr>
          <p:spPr>
            <a:xfrm>
              <a:off x="7713720" y="3846600"/>
              <a:ext cx="633240" cy="50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Rectangle 37"/>
            <p:cNvSpPr/>
            <p:nvPr/>
          </p:nvSpPr>
          <p:spPr>
            <a:xfrm>
              <a:off x="6991200" y="5094360"/>
              <a:ext cx="633600" cy="50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Line 38"/>
            <p:cNvSpPr/>
            <p:nvPr/>
          </p:nvSpPr>
          <p:spPr>
            <a:xfrm>
              <a:off x="6257880" y="1866960"/>
              <a:ext cx="0" cy="59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0" name="Line 39"/>
            <p:cNvSpPr/>
            <p:nvPr/>
          </p:nvSpPr>
          <p:spPr>
            <a:xfrm>
              <a:off x="8161200" y="1866960"/>
              <a:ext cx="0" cy="59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Line 40"/>
            <p:cNvSpPr/>
            <p:nvPr/>
          </p:nvSpPr>
          <p:spPr>
            <a:xfrm>
              <a:off x="6389640" y="2982960"/>
              <a:ext cx="0" cy="85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Freeform 41"/>
            <p:cNvSpPr/>
            <p:nvPr/>
          </p:nvSpPr>
          <p:spPr>
            <a:xfrm>
              <a:off x="6519960" y="2063880"/>
              <a:ext cx="1643040" cy="395280"/>
            </a:xfrm>
            <a:custGeom>
              <a:avLst/>
              <a:gdLst/>
              <a:ahLst/>
              <a:rect l="l" t="t" r="r" b="b"/>
              <a:pathLst>
                <a:path w="1201" h="289">
                  <a:moveTo>
                    <a:pt x="1200" y="0"/>
                  </a:move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Line 42"/>
            <p:cNvSpPr/>
            <p:nvPr/>
          </p:nvSpPr>
          <p:spPr>
            <a:xfrm>
              <a:off x="8161200" y="2982960"/>
              <a:ext cx="0" cy="85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Freeform 43"/>
            <p:cNvSpPr/>
            <p:nvPr/>
          </p:nvSpPr>
          <p:spPr>
            <a:xfrm>
              <a:off x="6389640" y="3179880"/>
              <a:ext cx="1511280" cy="657000"/>
            </a:xfrm>
            <a:custGeom>
              <a:avLst/>
              <a:gdLst/>
              <a:ahLst/>
              <a:rect l="l" t="t" r="r" b="b"/>
              <a:pathLst>
                <a:path w="1105" h="481">
                  <a:moveTo>
                    <a:pt x="0" y="0"/>
                  </a:moveTo>
                  <a:lnTo>
                    <a:pt x="1104" y="0"/>
                  </a:lnTo>
                  <a:lnTo>
                    <a:pt x="1104" y="48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5" name="Freeform 44"/>
            <p:cNvSpPr/>
            <p:nvPr/>
          </p:nvSpPr>
          <p:spPr>
            <a:xfrm>
              <a:off x="6651720" y="3443400"/>
              <a:ext cx="1511280" cy="393480"/>
            </a:xfrm>
            <a:custGeom>
              <a:avLst/>
              <a:gdLst/>
              <a:ahLst/>
              <a:rect l="l" t="t" r="r" b="b"/>
              <a:pathLst>
                <a:path w="1105" h="289">
                  <a:moveTo>
                    <a:pt x="1104" y="0"/>
                  </a:move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Freeform 45"/>
            <p:cNvSpPr/>
            <p:nvPr/>
          </p:nvSpPr>
          <p:spPr>
            <a:xfrm>
              <a:off x="6519960" y="4361040"/>
              <a:ext cx="658800" cy="723600"/>
            </a:xfrm>
            <a:custGeom>
              <a:avLst/>
              <a:gdLst/>
              <a:ahLst/>
              <a:rect l="l" t="t" r="r" b="b"/>
              <a:pathLst>
                <a:path w="481" h="529">
                  <a:moveTo>
                    <a:pt x="0" y="0"/>
                  </a:moveTo>
                  <a:lnTo>
                    <a:pt x="0" y="240"/>
                  </a:lnTo>
                  <a:lnTo>
                    <a:pt x="480" y="240"/>
                  </a:lnTo>
                  <a:lnTo>
                    <a:pt x="480" y="52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Freeform 46"/>
            <p:cNvSpPr/>
            <p:nvPr/>
          </p:nvSpPr>
          <p:spPr>
            <a:xfrm>
              <a:off x="7439040" y="4361040"/>
              <a:ext cx="593640" cy="723600"/>
            </a:xfrm>
            <a:custGeom>
              <a:avLst/>
              <a:gdLst/>
              <a:ahLst/>
              <a:rect l="l" t="t" r="r" b="b"/>
              <a:pathLst>
                <a:path w="433" h="529">
                  <a:moveTo>
                    <a:pt x="432" y="0"/>
                  </a:moveTo>
                  <a:lnTo>
                    <a:pt x="432" y="240"/>
                  </a:lnTo>
                  <a:lnTo>
                    <a:pt x="0" y="240"/>
                  </a:lnTo>
                  <a:lnTo>
                    <a:pt x="0" y="52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Line 47"/>
            <p:cNvSpPr/>
            <p:nvPr/>
          </p:nvSpPr>
          <p:spPr>
            <a:xfrm>
              <a:off x="7307280" y="5608800"/>
              <a:ext cx="0" cy="39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Oval 48"/>
            <p:cNvSpPr/>
            <p:nvPr/>
          </p:nvSpPr>
          <p:spPr>
            <a:xfrm>
              <a:off x="6356520" y="3146400"/>
              <a:ext cx="648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Oval 49"/>
            <p:cNvSpPr/>
            <p:nvPr/>
          </p:nvSpPr>
          <p:spPr>
            <a:xfrm>
              <a:off x="8128080" y="3409920"/>
              <a:ext cx="65160" cy="63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Oval 50"/>
            <p:cNvSpPr/>
            <p:nvPr/>
          </p:nvSpPr>
          <p:spPr>
            <a:xfrm>
              <a:off x="8128080" y="203040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Rectangle 51"/>
            <p:cNvSpPr/>
            <p:nvPr/>
          </p:nvSpPr>
          <p:spPr>
            <a:xfrm>
              <a:off x="8173800" y="3273480"/>
              <a:ext cx="364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Rectangle 52"/>
            <p:cNvSpPr/>
            <p:nvPr/>
          </p:nvSpPr>
          <p:spPr>
            <a:xfrm>
              <a:off x="6073560" y="3076560"/>
              <a:ext cx="364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Rectangle 53"/>
            <p:cNvSpPr/>
            <p:nvPr/>
          </p:nvSpPr>
          <p:spPr>
            <a:xfrm>
              <a:off x="5730120" y="2492280"/>
              <a:ext cx="31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Rectangle 54"/>
            <p:cNvSpPr/>
            <p:nvPr/>
          </p:nvSpPr>
          <p:spPr>
            <a:xfrm>
              <a:off x="7517520" y="2492280"/>
              <a:ext cx="31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Rectangle 55"/>
            <p:cNvSpPr/>
            <p:nvPr/>
          </p:nvSpPr>
          <p:spPr>
            <a:xfrm>
              <a:off x="5882400" y="3886200"/>
              <a:ext cx="31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Rectangle 56"/>
            <p:cNvSpPr/>
            <p:nvPr/>
          </p:nvSpPr>
          <p:spPr>
            <a:xfrm>
              <a:off x="7379640" y="3848040"/>
              <a:ext cx="31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Rectangle 57"/>
            <p:cNvSpPr/>
            <p:nvPr/>
          </p:nvSpPr>
          <p:spPr>
            <a:xfrm>
              <a:off x="6668280" y="5114880"/>
              <a:ext cx="31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9" name="Line 58"/>
          <p:cNvSpPr/>
          <p:nvPr/>
        </p:nvSpPr>
        <p:spPr>
          <a:xfrm flipH="1" flipV="1">
            <a:off x="3214800" y="4443480"/>
            <a:ext cx="914400" cy="226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0" name="Line 59"/>
          <p:cNvSpPr/>
          <p:nvPr/>
        </p:nvSpPr>
        <p:spPr>
          <a:xfrm flipH="1" flipV="1">
            <a:off x="3925800" y="4468320"/>
            <a:ext cx="254160" cy="16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1" name="Rectangle 56"/>
          <p:cNvSpPr/>
          <p:nvPr/>
        </p:nvSpPr>
        <p:spPr>
          <a:xfrm>
            <a:off x="1441440" y="1428840"/>
            <a:ext cx="6481800" cy="3921120"/>
          </a:xfrm>
          <a:prstGeom prst="rect">
            <a:avLst/>
          </a:prstGeom>
          <a:solidFill>
            <a:srgbClr val="ffcc66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2" name="Rectangle 33"/>
          <p:cNvSpPr/>
          <p:nvPr/>
        </p:nvSpPr>
        <p:spPr>
          <a:xfrm>
            <a:off x="3706920" y="2201760"/>
            <a:ext cx="4124160" cy="1141560"/>
          </a:xfrm>
          <a:prstGeom prst="rect">
            <a:avLst/>
          </a:prstGeom>
          <a:solidFill>
            <a:srgbClr val="cc99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3" name="PlaceHolder 1"/>
          <p:cNvSpPr>
            <a:spLocks noGrp="1"/>
          </p:cNvSpPr>
          <p:nvPr>
            <p:ph type="title"/>
          </p:nvPr>
        </p:nvSpPr>
        <p:spPr>
          <a:xfrm>
            <a:off x="312840" y="228600"/>
            <a:ext cx="8850240" cy="1147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tatic Dataflow Machine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(Dennis+, ISCA 1974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04" name="Rectangle 3"/>
          <p:cNvSpPr/>
          <p:nvPr/>
        </p:nvSpPr>
        <p:spPr>
          <a:xfrm>
            <a:off x="3369240" y="4937040"/>
            <a:ext cx="2496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&lt;s</a:t>
            </a:r>
            <a:r>
              <a:rPr b="0" lang="en-US" sz="1800" spc="-1" strike="noStrike" baseline="-25000">
                <a:solidFill>
                  <a:srgbClr val="56127a"/>
                </a:solidFill>
                <a:latin typeface="Verdana"/>
                <a:ea typeface="Arial"/>
              </a:rPr>
              <a:t>1</a:t>
            </a: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, p</a:t>
            </a:r>
            <a:r>
              <a:rPr b="0" lang="en-US" sz="1800" spc="-1" strike="noStrike" baseline="-25000">
                <a:solidFill>
                  <a:srgbClr val="56127a"/>
                </a:solidFill>
                <a:latin typeface="Verdana"/>
                <a:ea typeface="Arial"/>
              </a:rPr>
              <a:t>1</a:t>
            </a: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, v</a:t>
            </a:r>
            <a:r>
              <a:rPr b="0" lang="en-US" sz="1800" spc="-1" strike="noStrike" baseline="-25000">
                <a:solidFill>
                  <a:srgbClr val="56127a"/>
                </a:solidFill>
                <a:latin typeface="Verdana"/>
                <a:ea typeface="Arial"/>
              </a:rPr>
              <a:t>1</a:t>
            </a: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&gt;, &lt;s</a:t>
            </a:r>
            <a:r>
              <a:rPr b="0" lang="en-US" sz="1800" spc="-1" strike="noStrike" baseline="-25000">
                <a:solidFill>
                  <a:srgbClr val="56127a"/>
                </a:solidFill>
                <a:latin typeface="Verdana"/>
                <a:ea typeface="Arial"/>
              </a:rPr>
              <a:t>2</a:t>
            </a: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, p</a:t>
            </a:r>
            <a:r>
              <a:rPr b="0" lang="en-US" sz="1800" spc="-1" strike="noStrike" baseline="-25000">
                <a:solidFill>
                  <a:srgbClr val="56127a"/>
                </a:solidFill>
                <a:latin typeface="Verdana"/>
                <a:ea typeface="Arial"/>
              </a:rPr>
              <a:t>2</a:t>
            </a: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, v</a:t>
            </a:r>
            <a:r>
              <a:rPr b="0" lang="en-US" sz="1800" spc="-1" strike="noStrike" baseline="-25000">
                <a:solidFill>
                  <a:srgbClr val="56127a"/>
                </a:solidFill>
                <a:latin typeface="Verdana"/>
                <a:ea typeface="Arial"/>
              </a:rPr>
              <a:t>2</a:t>
            </a: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5" name="Rectangle 4"/>
          <p:cNvSpPr/>
          <p:nvPr/>
        </p:nvSpPr>
        <p:spPr>
          <a:xfrm>
            <a:off x="3827520" y="3900600"/>
            <a:ext cx="682560" cy="617400"/>
          </a:xfrm>
          <a:prstGeom prst="rect">
            <a:avLst/>
          </a:prstGeom>
          <a:solidFill>
            <a:srgbClr val="cc99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6" name="Rectangle 5"/>
          <p:cNvSpPr/>
          <p:nvPr/>
        </p:nvSpPr>
        <p:spPr>
          <a:xfrm>
            <a:off x="4832280" y="3900600"/>
            <a:ext cx="682560" cy="617400"/>
          </a:xfrm>
          <a:prstGeom prst="rect">
            <a:avLst/>
          </a:prstGeom>
          <a:solidFill>
            <a:srgbClr val="cc99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Rectangle 6"/>
          <p:cNvSpPr/>
          <p:nvPr/>
        </p:nvSpPr>
        <p:spPr>
          <a:xfrm>
            <a:off x="5837400" y="3900600"/>
            <a:ext cx="682560" cy="617400"/>
          </a:xfrm>
          <a:prstGeom prst="rect">
            <a:avLst/>
          </a:prstGeom>
          <a:solidFill>
            <a:srgbClr val="cc99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8" name="Rectangle 7"/>
          <p:cNvSpPr/>
          <p:nvPr/>
        </p:nvSpPr>
        <p:spPr>
          <a:xfrm>
            <a:off x="6840360" y="3900600"/>
            <a:ext cx="684360" cy="617400"/>
          </a:xfrm>
          <a:prstGeom prst="rect">
            <a:avLst/>
          </a:prstGeom>
          <a:solidFill>
            <a:srgbClr val="cc99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9" name="Rectangle 8"/>
          <p:cNvSpPr/>
          <p:nvPr/>
        </p:nvSpPr>
        <p:spPr>
          <a:xfrm>
            <a:off x="2900520" y="3900600"/>
            <a:ext cx="682560" cy="617400"/>
          </a:xfrm>
          <a:prstGeom prst="rect">
            <a:avLst/>
          </a:prstGeom>
          <a:solidFill>
            <a:srgbClr val="cc99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0" name="Freeform 9"/>
          <p:cNvSpPr/>
          <p:nvPr/>
        </p:nvSpPr>
        <p:spPr>
          <a:xfrm>
            <a:off x="4179960" y="4551480"/>
            <a:ext cx="1440" cy="442800"/>
          </a:xfrm>
          <a:custGeom>
            <a:avLst/>
            <a:gdLst/>
            <a:ahLst/>
            <a:rect l="l" t="t" r="r" b="b"/>
            <a:pathLst>
              <a:path w="1" h="322">
                <a:moveTo>
                  <a:pt x="0" y="0"/>
                </a:moveTo>
                <a:lnTo>
                  <a:pt x="0" y="32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1" name="Line 10"/>
          <p:cNvSpPr/>
          <p:nvPr/>
        </p:nvSpPr>
        <p:spPr>
          <a:xfrm>
            <a:off x="3992400" y="3668760"/>
            <a:ext cx="3013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2" name="Freeform 11"/>
          <p:cNvSpPr/>
          <p:nvPr/>
        </p:nvSpPr>
        <p:spPr>
          <a:xfrm>
            <a:off x="3252960" y="4540320"/>
            <a:ext cx="1440" cy="442800"/>
          </a:xfrm>
          <a:custGeom>
            <a:avLst/>
            <a:gdLst/>
            <a:ahLst/>
            <a:rect l="l" t="t" r="r" b="b"/>
            <a:pathLst>
              <a:path w="1" h="322">
                <a:moveTo>
                  <a:pt x="0" y="0"/>
                </a:moveTo>
                <a:lnTo>
                  <a:pt x="0" y="32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3" name="Freeform 12"/>
          <p:cNvSpPr/>
          <p:nvPr/>
        </p:nvSpPr>
        <p:spPr>
          <a:xfrm>
            <a:off x="5183280" y="4540320"/>
            <a:ext cx="1440" cy="442800"/>
          </a:xfrm>
          <a:custGeom>
            <a:avLst/>
            <a:gdLst/>
            <a:ahLst/>
            <a:rect l="l" t="t" r="r" b="b"/>
            <a:pathLst>
              <a:path w="1" h="322">
                <a:moveTo>
                  <a:pt x="0" y="0"/>
                </a:moveTo>
                <a:lnTo>
                  <a:pt x="0" y="32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4" name="Freeform 13"/>
          <p:cNvSpPr/>
          <p:nvPr/>
        </p:nvSpPr>
        <p:spPr>
          <a:xfrm>
            <a:off x="6199200" y="4540320"/>
            <a:ext cx="1440" cy="442800"/>
          </a:xfrm>
          <a:custGeom>
            <a:avLst/>
            <a:gdLst/>
            <a:ahLst/>
            <a:rect l="l" t="t" r="r" b="b"/>
            <a:pathLst>
              <a:path w="1" h="322">
                <a:moveTo>
                  <a:pt x="0" y="0"/>
                </a:moveTo>
                <a:lnTo>
                  <a:pt x="0" y="32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5" name="Line 14"/>
          <p:cNvSpPr/>
          <p:nvPr/>
        </p:nvSpPr>
        <p:spPr>
          <a:xfrm>
            <a:off x="4300560" y="3537000"/>
            <a:ext cx="2992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6" name="Line 15"/>
          <p:cNvSpPr/>
          <p:nvPr/>
        </p:nvSpPr>
        <p:spPr>
          <a:xfrm>
            <a:off x="6132600" y="3357720"/>
            <a:ext cx="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7" name="Line 16"/>
          <p:cNvSpPr/>
          <p:nvPr/>
        </p:nvSpPr>
        <p:spPr>
          <a:xfrm>
            <a:off x="7302600" y="3349800"/>
            <a:ext cx="0" cy="17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8" name="Line 17"/>
          <p:cNvSpPr/>
          <p:nvPr/>
        </p:nvSpPr>
        <p:spPr>
          <a:xfrm>
            <a:off x="4002120" y="3668760"/>
            <a:ext cx="0" cy="2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9" name="Line 18"/>
          <p:cNvSpPr/>
          <p:nvPr/>
        </p:nvSpPr>
        <p:spPr>
          <a:xfrm>
            <a:off x="4300560" y="3525840"/>
            <a:ext cx="0" cy="363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0" name="Line 19"/>
          <p:cNvSpPr/>
          <p:nvPr/>
        </p:nvSpPr>
        <p:spPr>
          <a:xfrm>
            <a:off x="5029200" y="3668760"/>
            <a:ext cx="0" cy="2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1" name="Line 20"/>
          <p:cNvSpPr/>
          <p:nvPr/>
        </p:nvSpPr>
        <p:spPr>
          <a:xfrm>
            <a:off x="5327640" y="3525840"/>
            <a:ext cx="0" cy="363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2" name="Line 21"/>
          <p:cNvSpPr/>
          <p:nvPr/>
        </p:nvSpPr>
        <p:spPr>
          <a:xfrm>
            <a:off x="6033960" y="3668760"/>
            <a:ext cx="0" cy="2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3" name="Line 22"/>
          <p:cNvSpPr/>
          <p:nvPr/>
        </p:nvSpPr>
        <p:spPr>
          <a:xfrm>
            <a:off x="6332400" y="3525840"/>
            <a:ext cx="0" cy="363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4" name="Line 23"/>
          <p:cNvSpPr/>
          <p:nvPr/>
        </p:nvSpPr>
        <p:spPr>
          <a:xfrm>
            <a:off x="7005600" y="3668760"/>
            <a:ext cx="0" cy="2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5" name="Line 24"/>
          <p:cNvSpPr/>
          <p:nvPr/>
        </p:nvSpPr>
        <p:spPr>
          <a:xfrm>
            <a:off x="7304040" y="3525840"/>
            <a:ext cx="0" cy="363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6" name="Freeform 25"/>
          <p:cNvSpPr/>
          <p:nvPr/>
        </p:nvSpPr>
        <p:spPr>
          <a:xfrm>
            <a:off x="3164040" y="3668760"/>
            <a:ext cx="828360" cy="233280"/>
          </a:xfrm>
          <a:custGeom>
            <a:avLst/>
            <a:gdLst/>
            <a:ahLst/>
            <a:rect l="l" t="t" r="r" b="b"/>
            <a:pathLst>
              <a:path w="602" h="169">
                <a:moveTo>
                  <a:pt x="601" y="0"/>
                </a:moveTo>
                <a:lnTo>
                  <a:pt x="0" y="0"/>
                </a:lnTo>
                <a:lnTo>
                  <a:pt x="0" y="16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7" name="Freeform 26"/>
          <p:cNvSpPr/>
          <p:nvPr/>
        </p:nvSpPr>
        <p:spPr>
          <a:xfrm>
            <a:off x="3406680" y="3537000"/>
            <a:ext cx="873360" cy="376200"/>
          </a:xfrm>
          <a:custGeom>
            <a:avLst/>
            <a:gdLst/>
            <a:ahLst/>
            <a:rect l="l" t="t" r="r" b="b"/>
            <a:pathLst>
              <a:path w="634" h="273">
                <a:moveTo>
                  <a:pt x="633" y="0"/>
                </a:moveTo>
                <a:lnTo>
                  <a:pt x="0" y="0"/>
                </a:lnTo>
                <a:lnTo>
                  <a:pt x="0" y="27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8" name="Rectangle 27"/>
          <p:cNvSpPr/>
          <p:nvPr/>
        </p:nvSpPr>
        <p:spPr>
          <a:xfrm>
            <a:off x="3050640" y="4044960"/>
            <a:ext cx="434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Verdana"/>
                <a:ea typeface="Arial"/>
              </a:rPr>
              <a:t>F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9" name="Rectangle 28"/>
          <p:cNvSpPr/>
          <p:nvPr/>
        </p:nvSpPr>
        <p:spPr>
          <a:xfrm>
            <a:off x="3999960" y="4056120"/>
            <a:ext cx="434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Verdana"/>
                <a:ea typeface="Arial"/>
              </a:rPr>
              <a:t>F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0" name="Rectangle 29"/>
          <p:cNvSpPr/>
          <p:nvPr/>
        </p:nvSpPr>
        <p:spPr>
          <a:xfrm>
            <a:off x="4993560" y="4056120"/>
            <a:ext cx="434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Verdana"/>
                <a:ea typeface="Arial"/>
              </a:rPr>
              <a:t>F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1" name="Rectangle 30"/>
          <p:cNvSpPr/>
          <p:nvPr/>
        </p:nvSpPr>
        <p:spPr>
          <a:xfrm>
            <a:off x="5985720" y="4067280"/>
            <a:ext cx="434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Verdana"/>
                <a:ea typeface="Arial"/>
              </a:rPr>
              <a:t>F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2" name="Rectangle 31"/>
          <p:cNvSpPr/>
          <p:nvPr/>
        </p:nvSpPr>
        <p:spPr>
          <a:xfrm>
            <a:off x="6990840" y="4076640"/>
            <a:ext cx="434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Verdana"/>
                <a:ea typeface="Arial"/>
              </a:rPr>
              <a:t>F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3" name="Rectangle 32"/>
          <p:cNvSpPr/>
          <p:nvPr/>
        </p:nvSpPr>
        <p:spPr>
          <a:xfrm>
            <a:off x="3949560" y="2122560"/>
            <a:ext cx="3587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Verdana"/>
                <a:ea typeface="Arial"/>
              </a:rPr>
              <a:t>Op   dest1  dest2  p1  src1   p2   src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4" name="Line 34"/>
          <p:cNvSpPr/>
          <p:nvPr/>
        </p:nvSpPr>
        <p:spPr>
          <a:xfrm>
            <a:off x="3703680" y="2411280"/>
            <a:ext cx="4110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5" name="Line 35"/>
          <p:cNvSpPr/>
          <p:nvPr/>
        </p:nvSpPr>
        <p:spPr>
          <a:xfrm>
            <a:off x="3703680" y="2652840"/>
            <a:ext cx="4110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6" name="Line 36"/>
          <p:cNvSpPr/>
          <p:nvPr/>
        </p:nvSpPr>
        <p:spPr>
          <a:xfrm>
            <a:off x="3693960" y="2884320"/>
            <a:ext cx="4110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7" name="Line 37"/>
          <p:cNvSpPr/>
          <p:nvPr/>
        </p:nvSpPr>
        <p:spPr>
          <a:xfrm>
            <a:off x="3703680" y="3105000"/>
            <a:ext cx="4110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8" name="Line 38"/>
          <p:cNvSpPr/>
          <p:nvPr/>
        </p:nvSpPr>
        <p:spPr>
          <a:xfrm>
            <a:off x="4224240" y="2201760"/>
            <a:ext cx="0" cy="113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9" name="Line 39"/>
          <p:cNvSpPr/>
          <p:nvPr/>
        </p:nvSpPr>
        <p:spPr>
          <a:xfrm>
            <a:off x="6773760" y="2192400"/>
            <a:ext cx="0" cy="113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0" name="Line 40"/>
          <p:cNvSpPr/>
          <p:nvPr/>
        </p:nvSpPr>
        <p:spPr>
          <a:xfrm>
            <a:off x="5970600" y="2201760"/>
            <a:ext cx="0" cy="113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1" name="Line 41"/>
          <p:cNvSpPr/>
          <p:nvPr/>
        </p:nvSpPr>
        <p:spPr>
          <a:xfrm>
            <a:off x="7067520" y="2192400"/>
            <a:ext cx="0" cy="11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2" name="Line 42"/>
          <p:cNvSpPr/>
          <p:nvPr/>
        </p:nvSpPr>
        <p:spPr>
          <a:xfrm>
            <a:off x="4964040" y="2201760"/>
            <a:ext cx="0" cy="113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3" name="Line 43"/>
          <p:cNvSpPr/>
          <p:nvPr/>
        </p:nvSpPr>
        <p:spPr>
          <a:xfrm>
            <a:off x="5684760" y="2192400"/>
            <a:ext cx="0" cy="113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4" name="Rectangle 44"/>
          <p:cNvSpPr/>
          <p:nvPr/>
        </p:nvSpPr>
        <p:spPr>
          <a:xfrm>
            <a:off x="3395880" y="2165400"/>
            <a:ext cx="2926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5" name="Line 45"/>
          <p:cNvSpPr/>
          <p:nvPr/>
        </p:nvSpPr>
        <p:spPr>
          <a:xfrm flipH="1">
            <a:off x="2660760" y="4991040"/>
            <a:ext cx="451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6" name="Freeform 46"/>
          <p:cNvSpPr/>
          <p:nvPr/>
        </p:nvSpPr>
        <p:spPr>
          <a:xfrm>
            <a:off x="7180200" y="4551480"/>
            <a:ext cx="1800" cy="442800"/>
          </a:xfrm>
          <a:custGeom>
            <a:avLst/>
            <a:gdLst/>
            <a:ahLst/>
            <a:rect l="l" t="t" r="r" b="b"/>
            <a:pathLst>
              <a:path w="1" h="322">
                <a:moveTo>
                  <a:pt x="0" y="0"/>
                </a:moveTo>
                <a:lnTo>
                  <a:pt x="0" y="32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7" name="Rectangle 47"/>
          <p:cNvSpPr/>
          <p:nvPr/>
        </p:nvSpPr>
        <p:spPr>
          <a:xfrm>
            <a:off x="1778040" y="1555920"/>
            <a:ext cx="882720" cy="428400"/>
          </a:xfrm>
          <a:prstGeom prst="rect">
            <a:avLst/>
          </a:prstGeom>
          <a:solidFill>
            <a:srgbClr val="cc99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8" name="Rectangle 48"/>
          <p:cNvSpPr/>
          <p:nvPr/>
        </p:nvSpPr>
        <p:spPr>
          <a:xfrm>
            <a:off x="1766880" y="4792680"/>
            <a:ext cx="882720" cy="419040"/>
          </a:xfrm>
          <a:prstGeom prst="rect">
            <a:avLst/>
          </a:prstGeom>
          <a:solidFill>
            <a:srgbClr val="cc99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9" name="Line 49"/>
          <p:cNvSpPr/>
          <p:nvPr/>
        </p:nvSpPr>
        <p:spPr>
          <a:xfrm>
            <a:off x="1160640" y="1763640"/>
            <a:ext cx="57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0" name="Line 50"/>
          <p:cNvSpPr/>
          <p:nvPr/>
        </p:nvSpPr>
        <p:spPr>
          <a:xfrm>
            <a:off x="1171440" y="5035680"/>
            <a:ext cx="574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1" name="Group 51"/>
          <p:cNvGrpSpPr/>
          <p:nvPr/>
        </p:nvGrpSpPr>
        <p:grpSpPr>
          <a:xfrm>
            <a:off x="2660760" y="1774440"/>
            <a:ext cx="4286160" cy="430200"/>
            <a:chOff x="2660760" y="1774440"/>
            <a:chExt cx="4286160" cy="430200"/>
          </a:xfrm>
        </p:grpSpPr>
        <p:sp>
          <p:nvSpPr>
            <p:cNvPr id="4952" name="Line 52"/>
            <p:cNvSpPr/>
            <p:nvPr/>
          </p:nvSpPr>
          <p:spPr>
            <a:xfrm>
              <a:off x="5811840" y="1774800"/>
              <a:ext cx="0" cy="427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Line 53"/>
            <p:cNvSpPr/>
            <p:nvPr/>
          </p:nvSpPr>
          <p:spPr>
            <a:xfrm>
              <a:off x="6946920" y="1777320"/>
              <a:ext cx="0" cy="427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Line 54"/>
            <p:cNvSpPr/>
            <p:nvPr/>
          </p:nvSpPr>
          <p:spPr>
            <a:xfrm flipH="1" flipV="1">
              <a:off x="2660760" y="1774440"/>
              <a:ext cx="4286160" cy="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5" name="Line 55"/>
          <p:cNvSpPr/>
          <p:nvPr/>
        </p:nvSpPr>
        <p:spPr>
          <a:xfrm flipV="1">
            <a:off x="2241720" y="2017800"/>
            <a:ext cx="0" cy="2774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6" name="Rectangle 57"/>
          <p:cNvSpPr/>
          <p:nvPr/>
        </p:nvSpPr>
        <p:spPr>
          <a:xfrm>
            <a:off x="3062520" y="1854360"/>
            <a:ext cx="25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Instruction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7" name="PlaceHolder 2"/>
          <p:cNvSpPr>
            <a:spLocks noGrp="1"/>
          </p:cNvSpPr>
          <p:nvPr>
            <p:ph/>
          </p:nvPr>
        </p:nvSpPr>
        <p:spPr>
          <a:xfrm>
            <a:off x="759960" y="5479920"/>
            <a:ext cx="690732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such processors can be connected toge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s can be statically divided among the process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tatic versus Dynamic Dataflow Machin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959" name="Content Placeholder 4" descr=""/>
          <p:cNvPicPr/>
          <p:nvPr/>
        </p:nvPicPr>
        <p:blipFill>
          <a:blip r:embed="rId1"/>
          <a:srcRect l="-27863" t="0" r="-27863" b="0"/>
          <a:stretch/>
        </p:blipFill>
        <p:spPr>
          <a:xfrm>
            <a:off x="-187200" y="914400"/>
            <a:ext cx="9347040" cy="5638680"/>
          </a:xfrm>
          <a:prstGeom prst="rect">
            <a:avLst/>
          </a:prstGeom>
          <a:ln w="0">
            <a:noFill/>
          </a:ln>
        </p:spPr>
      </p:pic>
      <p:sp>
        <p:nvSpPr>
          <p:cNvPr id="496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7572-5F2F-4214-87BD-CC78FB6DF0C5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 Note on This Lectur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80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se slides are from 18-742 Fall 2012, Parallel Computer Architecture, Lecture 22: Dataflow 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Vide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695160" indent="-342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6600"/>
                </a:solidFill>
                <a:uFillTx/>
                <a:latin typeface="Tahoma"/>
                <a:ea typeface="ＭＳ Ｐゴシック"/>
                <a:hlinkClick r:id="rId1"/>
              </a:rPr>
              <a:t>http://www.youtube.com/watch?v=D2uue7izU2c&amp;list=PL5PHm2jkkXmh4cDkC3s1VBB7-njlgiG5d&amp;index=</a:t>
            </a:r>
            <a:r>
              <a:rPr b="0" lang="en-US" sz="2000" spc="-1" strike="noStrike" u="sng">
                <a:solidFill>
                  <a:srgbClr val="996600"/>
                </a:solidFill>
                <a:uFillTx/>
                <a:latin typeface="Tahoma"/>
                <a:ea typeface="ＭＳ Ｐゴシック"/>
                <a:hlinkClick r:id="rId2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695160" indent="-342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F6AE-D9BC-4899-A399-C624EDA70C54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tatic Data Flow Machin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62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smatch between the model and the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odel requir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unbounded FIFO token queu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er arc but the architecture provides storage for one token per ar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rchitectur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oes not ensure FIFO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der in the reuse of an operand sl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tic mode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oes not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entra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Struc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8D85-74C9-457B-8398-024803EE9ABB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roblems with Re-entranc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65" name=""/>
          <p:cNvSpPr txBox="1"/>
          <p:nvPr/>
        </p:nvSpPr>
        <p:spPr>
          <a:xfrm>
            <a:off x="6172200" y="901800"/>
            <a:ext cx="266688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this was in a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in a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operations took variable time to exec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you ensure the tokens that match are of the same invoc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D6FA-0041-45AF-B706-FCA463D3FEA7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7" name="Picture 4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519408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ynamic Dataflow Architectur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6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cate instruction templates, i.e., a frame, dynamically to support each loop iteration and procedure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rmination detection needed to deallocate fra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can be shared if we separate the code and the operand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0" name="Rectangle 5"/>
          <p:cNvSpPr/>
          <p:nvPr/>
        </p:nvSpPr>
        <p:spPr>
          <a:xfrm>
            <a:off x="4338360" y="4621320"/>
            <a:ext cx="27658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56127a"/>
                </a:solidFill>
                <a:latin typeface="Verdana"/>
                <a:ea typeface="Arial"/>
              </a:rPr>
              <a:t>&lt;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fp</a:t>
            </a:r>
            <a:r>
              <a:rPr b="0" lang="en-US" sz="2400" spc="-1" strike="noStrike">
                <a:solidFill>
                  <a:srgbClr val="56127a"/>
                </a:solidFill>
                <a:latin typeface="Verdana"/>
                <a:ea typeface="Arial"/>
              </a:rPr>
              <a:t>, ip, port, data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1" name="Rectangle 6"/>
          <p:cNvSpPr/>
          <p:nvPr/>
        </p:nvSpPr>
        <p:spPr>
          <a:xfrm>
            <a:off x="3196440" y="5483160"/>
            <a:ext cx="117612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fr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2" name="Rectangle 7"/>
          <p:cNvSpPr/>
          <p:nvPr/>
        </p:nvSpPr>
        <p:spPr>
          <a:xfrm>
            <a:off x="4978440" y="5470560"/>
            <a:ext cx="176364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instruction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3" name="Line 8"/>
          <p:cNvSpPr/>
          <p:nvPr/>
        </p:nvSpPr>
        <p:spPr>
          <a:xfrm flipH="1">
            <a:off x="4002120" y="4937040"/>
            <a:ext cx="544320" cy="54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4" name="Line 9"/>
          <p:cNvSpPr/>
          <p:nvPr/>
        </p:nvSpPr>
        <p:spPr>
          <a:xfrm>
            <a:off x="5181480" y="4937040"/>
            <a:ext cx="544680" cy="54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5" name="Rectangle 10"/>
          <p:cNvSpPr/>
          <p:nvPr/>
        </p:nvSpPr>
        <p:spPr>
          <a:xfrm>
            <a:off x="1773720" y="4646520"/>
            <a:ext cx="11959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 t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6" name="PlaceHolder 1"/>
          <p:cNvSpPr>
            <a:spLocks noGrp="1"/>
          </p:cNvSpPr>
          <p:nvPr>
            <p:ph type="title"/>
          </p:nvPr>
        </p:nvSpPr>
        <p:spPr>
          <a:xfrm>
            <a:off x="309600" y="641520"/>
            <a:ext cx="6959520" cy="490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127a"/>
                </a:solidFill>
                <a:latin typeface="Verdana"/>
              </a:rPr>
              <a:t>A Frame in Dynamic Dataflow</a:t>
            </a:r>
            <a:endParaRPr b="0" lang="en-US" sz="3600" spc="-1" strike="noStrike">
              <a:solidFill>
                <a:srgbClr val="56127a"/>
              </a:solidFill>
              <a:latin typeface="Verdana"/>
            </a:endParaRPr>
          </a:p>
        </p:txBody>
      </p:sp>
      <p:grpSp>
        <p:nvGrpSpPr>
          <p:cNvPr id="4977" name="Group 3"/>
          <p:cNvGrpSpPr/>
          <p:nvPr/>
        </p:nvGrpSpPr>
        <p:grpSpPr>
          <a:xfrm>
            <a:off x="205200" y="1392120"/>
            <a:ext cx="341640" cy="2039040"/>
            <a:chOff x="205200" y="1392120"/>
            <a:chExt cx="341640" cy="2039040"/>
          </a:xfrm>
        </p:grpSpPr>
        <p:sp>
          <p:nvSpPr>
            <p:cNvPr id="4978" name="Rectangle 4"/>
            <p:cNvSpPr/>
            <p:nvPr/>
          </p:nvSpPr>
          <p:spPr>
            <a:xfrm>
              <a:off x="205200" y="1392120"/>
              <a:ext cx="3416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Rectangle 5"/>
            <p:cNvSpPr/>
            <p:nvPr/>
          </p:nvSpPr>
          <p:spPr>
            <a:xfrm>
              <a:off x="205200" y="1802160"/>
              <a:ext cx="3416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Rectangle 6"/>
            <p:cNvSpPr/>
            <p:nvPr/>
          </p:nvSpPr>
          <p:spPr>
            <a:xfrm>
              <a:off x="205200" y="2221920"/>
              <a:ext cx="3416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Rectangle 7"/>
            <p:cNvSpPr/>
            <p:nvPr/>
          </p:nvSpPr>
          <p:spPr>
            <a:xfrm>
              <a:off x="205200" y="2630520"/>
              <a:ext cx="3416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Rectangle 8"/>
            <p:cNvSpPr/>
            <p:nvPr/>
          </p:nvSpPr>
          <p:spPr>
            <a:xfrm>
              <a:off x="205200" y="3040920"/>
              <a:ext cx="3416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3" name="Rectangle 9"/>
          <p:cNvSpPr/>
          <p:nvPr/>
        </p:nvSpPr>
        <p:spPr>
          <a:xfrm>
            <a:off x="4027680" y="1414440"/>
            <a:ext cx="133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4" name="Rectangle 10"/>
          <p:cNvSpPr/>
          <p:nvPr/>
        </p:nvSpPr>
        <p:spPr>
          <a:xfrm>
            <a:off x="560520" y="1389240"/>
            <a:ext cx="3373200" cy="2041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5" name="Line 11"/>
          <p:cNvSpPr/>
          <p:nvPr/>
        </p:nvSpPr>
        <p:spPr>
          <a:xfrm>
            <a:off x="547560" y="1808280"/>
            <a:ext cx="3386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6" name="Line 12"/>
          <p:cNvSpPr/>
          <p:nvPr/>
        </p:nvSpPr>
        <p:spPr>
          <a:xfrm>
            <a:off x="560520" y="2206800"/>
            <a:ext cx="33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7" name="Line 13"/>
          <p:cNvSpPr/>
          <p:nvPr/>
        </p:nvSpPr>
        <p:spPr>
          <a:xfrm>
            <a:off x="560520" y="2649600"/>
            <a:ext cx="33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8" name="Line 14"/>
          <p:cNvSpPr/>
          <p:nvPr/>
        </p:nvSpPr>
        <p:spPr>
          <a:xfrm>
            <a:off x="560520" y="3048120"/>
            <a:ext cx="33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9" name="Line 15"/>
          <p:cNvSpPr/>
          <p:nvPr/>
        </p:nvSpPr>
        <p:spPr>
          <a:xfrm>
            <a:off x="1231920" y="1376280"/>
            <a:ext cx="0" cy="2054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0" name="Line 16"/>
          <p:cNvSpPr/>
          <p:nvPr/>
        </p:nvSpPr>
        <p:spPr>
          <a:xfrm>
            <a:off x="1965240" y="1398600"/>
            <a:ext cx="0" cy="20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1" name="Rectangle 17"/>
          <p:cNvSpPr/>
          <p:nvPr/>
        </p:nvSpPr>
        <p:spPr>
          <a:xfrm>
            <a:off x="689760" y="1401840"/>
            <a:ext cx="312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2" name="Rectangle 18"/>
          <p:cNvSpPr/>
          <p:nvPr/>
        </p:nvSpPr>
        <p:spPr>
          <a:xfrm>
            <a:off x="692280" y="191124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3" name="Rectangle 19"/>
          <p:cNvSpPr/>
          <p:nvPr/>
        </p:nvSpPr>
        <p:spPr>
          <a:xfrm>
            <a:off x="719640" y="2270160"/>
            <a:ext cx="254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4" name="Rectangle 20"/>
          <p:cNvSpPr/>
          <p:nvPr/>
        </p:nvSpPr>
        <p:spPr>
          <a:xfrm>
            <a:off x="689760" y="2705040"/>
            <a:ext cx="312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5" name="Rectangle 21"/>
          <p:cNvSpPr/>
          <p:nvPr/>
        </p:nvSpPr>
        <p:spPr>
          <a:xfrm>
            <a:off x="1370160" y="22986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Verdana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6" name="Group 22"/>
          <p:cNvGrpSpPr/>
          <p:nvPr/>
        </p:nvGrpSpPr>
        <p:grpSpPr>
          <a:xfrm>
            <a:off x="1370160" y="1457280"/>
            <a:ext cx="307800" cy="2018160"/>
            <a:chOff x="1370160" y="1457280"/>
            <a:chExt cx="307800" cy="2018160"/>
          </a:xfrm>
        </p:grpSpPr>
        <p:sp>
          <p:nvSpPr>
            <p:cNvPr id="4997" name="Rectangle 23"/>
            <p:cNvSpPr/>
            <p:nvPr/>
          </p:nvSpPr>
          <p:spPr>
            <a:xfrm>
              <a:off x="1370160" y="145728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Rectangle 24"/>
            <p:cNvSpPr/>
            <p:nvPr/>
          </p:nvSpPr>
          <p:spPr>
            <a:xfrm>
              <a:off x="1370160" y="187812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Rectangle 25"/>
            <p:cNvSpPr/>
            <p:nvPr/>
          </p:nvSpPr>
          <p:spPr>
            <a:xfrm>
              <a:off x="1370160" y="271764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Rectangle 26"/>
            <p:cNvSpPr/>
            <p:nvPr/>
          </p:nvSpPr>
          <p:spPr>
            <a:xfrm>
              <a:off x="1370160" y="313992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1" name="Rectangle 27"/>
          <p:cNvSpPr/>
          <p:nvPr/>
        </p:nvSpPr>
        <p:spPr>
          <a:xfrm>
            <a:off x="2208240" y="1457280"/>
            <a:ext cx="80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3L, 4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2" name="Rectangle 28"/>
          <p:cNvSpPr/>
          <p:nvPr/>
        </p:nvSpPr>
        <p:spPr>
          <a:xfrm>
            <a:off x="2231280" y="1889280"/>
            <a:ext cx="847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3R, 4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3" name="Rectangle 29"/>
          <p:cNvSpPr/>
          <p:nvPr/>
        </p:nvSpPr>
        <p:spPr>
          <a:xfrm>
            <a:off x="2501280" y="2287440"/>
            <a:ext cx="433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5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4" name="Rectangle 30"/>
          <p:cNvSpPr/>
          <p:nvPr/>
        </p:nvSpPr>
        <p:spPr>
          <a:xfrm>
            <a:off x="2469960" y="2730600"/>
            <a:ext cx="454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5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5" name="Rectangle 31"/>
          <p:cNvSpPr/>
          <p:nvPr/>
        </p:nvSpPr>
        <p:spPr>
          <a:xfrm>
            <a:off x="2435040" y="3129120"/>
            <a:ext cx="544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6" name="Rectangle 33"/>
          <p:cNvSpPr/>
          <p:nvPr/>
        </p:nvSpPr>
        <p:spPr>
          <a:xfrm>
            <a:off x="692280" y="31399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7" name="Rectangle 35"/>
          <p:cNvSpPr/>
          <p:nvPr/>
        </p:nvSpPr>
        <p:spPr>
          <a:xfrm>
            <a:off x="560520" y="4025880"/>
            <a:ext cx="3373200" cy="2041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8" name="Group 36"/>
          <p:cNvGrpSpPr/>
          <p:nvPr/>
        </p:nvGrpSpPr>
        <p:grpSpPr>
          <a:xfrm>
            <a:off x="182880" y="4025880"/>
            <a:ext cx="3762000" cy="2109600"/>
            <a:chOff x="182880" y="4025880"/>
            <a:chExt cx="3762000" cy="2109600"/>
          </a:xfrm>
        </p:grpSpPr>
        <p:sp>
          <p:nvSpPr>
            <p:cNvPr id="5009" name="Rectangle 37"/>
            <p:cNvSpPr/>
            <p:nvPr/>
          </p:nvSpPr>
          <p:spPr>
            <a:xfrm>
              <a:off x="560520" y="4025880"/>
              <a:ext cx="657000" cy="20415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Line 38"/>
            <p:cNvSpPr/>
            <p:nvPr/>
          </p:nvSpPr>
          <p:spPr>
            <a:xfrm>
              <a:off x="560520" y="4468680"/>
              <a:ext cx="338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Line 39"/>
            <p:cNvSpPr/>
            <p:nvPr/>
          </p:nvSpPr>
          <p:spPr>
            <a:xfrm>
              <a:off x="547560" y="5697360"/>
              <a:ext cx="338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Rectangle 40"/>
            <p:cNvSpPr/>
            <p:nvPr/>
          </p:nvSpPr>
          <p:spPr>
            <a:xfrm>
              <a:off x="182880" y="4084560"/>
              <a:ext cx="3355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Rectangle 41"/>
            <p:cNvSpPr/>
            <p:nvPr/>
          </p:nvSpPr>
          <p:spPr>
            <a:xfrm>
              <a:off x="182880" y="4506840"/>
              <a:ext cx="3355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Rectangle 42"/>
            <p:cNvSpPr/>
            <p:nvPr/>
          </p:nvSpPr>
          <p:spPr>
            <a:xfrm>
              <a:off x="182880" y="5335560"/>
              <a:ext cx="3355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Rectangle 43"/>
            <p:cNvSpPr/>
            <p:nvPr/>
          </p:nvSpPr>
          <p:spPr>
            <a:xfrm>
              <a:off x="182880" y="5745240"/>
              <a:ext cx="3355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6" name="Rectangle 44"/>
          <p:cNvSpPr/>
          <p:nvPr/>
        </p:nvSpPr>
        <p:spPr>
          <a:xfrm>
            <a:off x="2140920" y="4952880"/>
            <a:ext cx="312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7" name="Group 46"/>
          <p:cNvGrpSpPr/>
          <p:nvPr/>
        </p:nvGrpSpPr>
        <p:grpSpPr>
          <a:xfrm>
            <a:off x="5958720" y="1542960"/>
            <a:ext cx="2808000" cy="4370400"/>
            <a:chOff x="5958720" y="1542960"/>
            <a:chExt cx="2808000" cy="4370400"/>
          </a:xfrm>
        </p:grpSpPr>
        <p:sp>
          <p:nvSpPr>
            <p:cNvPr id="5018" name="Rectangle 47"/>
            <p:cNvSpPr/>
            <p:nvPr/>
          </p:nvSpPr>
          <p:spPr>
            <a:xfrm>
              <a:off x="6173280" y="1554120"/>
              <a:ext cx="364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Rectangle 48"/>
            <p:cNvSpPr/>
            <p:nvPr/>
          </p:nvSpPr>
          <p:spPr>
            <a:xfrm>
              <a:off x="8375400" y="1542960"/>
              <a:ext cx="364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Rectangle 49"/>
            <p:cNvSpPr/>
            <p:nvPr/>
          </p:nvSpPr>
          <p:spPr>
            <a:xfrm>
              <a:off x="6300720" y="2379600"/>
              <a:ext cx="633600" cy="50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Rectangle 50"/>
            <p:cNvSpPr/>
            <p:nvPr/>
          </p:nvSpPr>
          <p:spPr>
            <a:xfrm>
              <a:off x="8072280" y="2379600"/>
              <a:ext cx="635040" cy="50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*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Rectangle 51"/>
            <p:cNvSpPr/>
            <p:nvPr/>
          </p:nvSpPr>
          <p:spPr>
            <a:xfrm>
              <a:off x="6432480" y="3757680"/>
              <a:ext cx="633600" cy="50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Rectangle 52"/>
            <p:cNvSpPr/>
            <p:nvPr/>
          </p:nvSpPr>
          <p:spPr>
            <a:xfrm>
              <a:off x="7942320" y="3757680"/>
              <a:ext cx="633240" cy="50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Rectangle 53"/>
            <p:cNvSpPr/>
            <p:nvPr/>
          </p:nvSpPr>
          <p:spPr>
            <a:xfrm>
              <a:off x="7219800" y="5005440"/>
              <a:ext cx="633600" cy="50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Line 54"/>
            <p:cNvSpPr/>
            <p:nvPr/>
          </p:nvSpPr>
          <p:spPr>
            <a:xfrm>
              <a:off x="6486480" y="1778040"/>
              <a:ext cx="0" cy="59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Line 55"/>
            <p:cNvSpPr/>
            <p:nvPr/>
          </p:nvSpPr>
          <p:spPr>
            <a:xfrm>
              <a:off x="8389800" y="1778040"/>
              <a:ext cx="0" cy="59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Line 56"/>
            <p:cNvSpPr/>
            <p:nvPr/>
          </p:nvSpPr>
          <p:spPr>
            <a:xfrm>
              <a:off x="6618240" y="2894040"/>
              <a:ext cx="0" cy="85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Freeform 57"/>
            <p:cNvSpPr/>
            <p:nvPr/>
          </p:nvSpPr>
          <p:spPr>
            <a:xfrm>
              <a:off x="6748560" y="1974960"/>
              <a:ext cx="1643040" cy="395280"/>
            </a:xfrm>
            <a:custGeom>
              <a:avLst/>
              <a:gdLst/>
              <a:ahLst/>
              <a:rect l="l" t="t" r="r" b="b"/>
              <a:pathLst>
                <a:path w="1201" h="289">
                  <a:moveTo>
                    <a:pt x="1200" y="0"/>
                  </a:move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Line 58"/>
            <p:cNvSpPr/>
            <p:nvPr/>
          </p:nvSpPr>
          <p:spPr>
            <a:xfrm>
              <a:off x="8389800" y="2894040"/>
              <a:ext cx="0" cy="85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Freeform 59"/>
            <p:cNvSpPr/>
            <p:nvPr/>
          </p:nvSpPr>
          <p:spPr>
            <a:xfrm>
              <a:off x="6618240" y="3090960"/>
              <a:ext cx="1511280" cy="657000"/>
            </a:xfrm>
            <a:custGeom>
              <a:avLst/>
              <a:gdLst/>
              <a:ahLst/>
              <a:rect l="l" t="t" r="r" b="b"/>
              <a:pathLst>
                <a:path w="1105" h="481">
                  <a:moveTo>
                    <a:pt x="0" y="0"/>
                  </a:moveTo>
                  <a:lnTo>
                    <a:pt x="1104" y="0"/>
                  </a:lnTo>
                  <a:lnTo>
                    <a:pt x="1104" y="48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Freeform 60"/>
            <p:cNvSpPr/>
            <p:nvPr/>
          </p:nvSpPr>
          <p:spPr>
            <a:xfrm>
              <a:off x="6880320" y="3354480"/>
              <a:ext cx="1511280" cy="393480"/>
            </a:xfrm>
            <a:custGeom>
              <a:avLst/>
              <a:gdLst/>
              <a:ahLst/>
              <a:rect l="l" t="t" r="r" b="b"/>
              <a:pathLst>
                <a:path w="1105" h="289">
                  <a:moveTo>
                    <a:pt x="1104" y="0"/>
                  </a:move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Freeform 61"/>
            <p:cNvSpPr/>
            <p:nvPr/>
          </p:nvSpPr>
          <p:spPr>
            <a:xfrm>
              <a:off x="6748560" y="4272120"/>
              <a:ext cx="658800" cy="723600"/>
            </a:xfrm>
            <a:custGeom>
              <a:avLst/>
              <a:gdLst/>
              <a:ahLst/>
              <a:rect l="l" t="t" r="r" b="b"/>
              <a:pathLst>
                <a:path w="481" h="529">
                  <a:moveTo>
                    <a:pt x="0" y="0"/>
                  </a:moveTo>
                  <a:lnTo>
                    <a:pt x="0" y="240"/>
                  </a:lnTo>
                  <a:lnTo>
                    <a:pt x="480" y="240"/>
                  </a:lnTo>
                  <a:lnTo>
                    <a:pt x="480" y="52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Freeform 62"/>
            <p:cNvSpPr/>
            <p:nvPr/>
          </p:nvSpPr>
          <p:spPr>
            <a:xfrm>
              <a:off x="7667640" y="4272120"/>
              <a:ext cx="593640" cy="723600"/>
            </a:xfrm>
            <a:custGeom>
              <a:avLst/>
              <a:gdLst/>
              <a:ahLst/>
              <a:rect l="l" t="t" r="r" b="b"/>
              <a:pathLst>
                <a:path w="433" h="529">
                  <a:moveTo>
                    <a:pt x="432" y="0"/>
                  </a:moveTo>
                  <a:lnTo>
                    <a:pt x="432" y="240"/>
                  </a:lnTo>
                  <a:lnTo>
                    <a:pt x="0" y="240"/>
                  </a:lnTo>
                  <a:lnTo>
                    <a:pt x="0" y="52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Line 63"/>
            <p:cNvSpPr/>
            <p:nvPr/>
          </p:nvSpPr>
          <p:spPr>
            <a:xfrm>
              <a:off x="7535880" y="5519880"/>
              <a:ext cx="0" cy="39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Oval 64"/>
            <p:cNvSpPr/>
            <p:nvPr/>
          </p:nvSpPr>
          <p:spPr>
            <a:xfrm>
              <a:off x="6585120" y="3057480"/>
              <a:ext cx="648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Oval 65"/>
            <p:cNvSpPr/>
            <p:nvPr/>
          </p:nvSpPr>
          <p:spPr>
            <a:xfrm>
              <a:off x="8356680" y="3321000"/>
              <a:ext cx="65160" cy="63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Oval 66"/>
            <p:cNvSpPr/>
            <p:nvPr/>
          </p:nvSpPr>
          <p:spPr>
            <a:xfrm>
              <a:off x="8356680" y="194148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Rectangle 67"/>
            <p:cNvSpPr/>
            <p:nvPr/>
          </p:nvSpPr>
          <p:spPr>
            <a:xfrm>
              <a:off x="8402400" y="3184560"/>
              <a:ext cx="364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Rectangle 68"/>
            <p:cNvSpPr/>
            <p:nvPr/>
          </p:nvSpPr>
          <p:spPr>
            <a:xfrm>
              <a:off x="6302160" y="2987640"/>
              <a:ext cx="364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Rectangle 69"/>
            <p:cNvSpPr/>
            <p:nvPr/>
          </p:nvSpPr>
          <p:spPr>
            <a:xfrm>
              <a:off x="5958720" y="2403360"/>
              <a:ext cx="31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Rectangle 70"/>
            <p:cNvSpPr/>
            <p:nvPr/>
          </p:nvSpPr>
          <p:spPr>
            <a:xfrm>
              <a:off x="7746120" y="2403360"/>
              <a:ext cx="31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Rectangle 71"/>
            <p:cNvSpPr/>
            <p:nvPr/>
          </p:nvSpPr>
          <p:spPr>
            <a:xfrm>
              <a:off x="6111000" y="3797280"/>
              <a:ext cx="31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Rectangle 72"/>
            <p:cNvSpPr/>
            <p:nvPr/>
          </p:nvSpPr>
          <p:spPr>
            <a:xfrm>
              <a:off x="7608240" y="3759120"/>
              <a:ext cx="31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Rectangle 73"/>
            <p:cNvSpPr/>
            <p:nvPr/>
          </p:nvSpPr>
          <p:spPr>
            <a:xfrm>
              <a:off x="6896880" y="5025960"/>
              <a:ext cx="31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5" name="Group 92"/>
          <p:cNvGrpSpPr/>
          <p:nvPr/>
        </p:nvGrpSpPr>
        <p:grpSpPr>
          <a:xfrm>
            <a:off x="1063080" y="2075040"/>
            <a:ext cx="7679160" cy="4574160"/>
            <a:chOff x="1063080" y="2075040"/>
            <a:chExt cx="7679160" cy="4574160"/>
          </a:xfrm>
        </p:grpSpPr>
        <p:sp>
          <p:nvSpPr>
            <p:cNvPr id="5046" name="Rectangle 45"/>
            <p:cNvSpPr/>
            <p:nvPr/>
          </p:nvSpPr>
          <p:spPr>
            <a:xfrm>
              <a:off x="1063080" y="6192720"/>
              <a:ext cx="7614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200" bIns="25200" anchor="t">
              <a:sp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Need to provide storage for only one operand/opera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7" name="Group 74"/>
            <p:cNvGrpSpPr/>
            <p:nvPr/>
          </p:nvGrpSpPr>
          <p:grpSpPr>
            <a:xfrm>
              <a:off x="6270480" y="2075040"/>
              <a:ext cx="2471760" cy="2776320"/>
              <a:chOff x="6270480" y="2075040"/>
              <a:chExt cx="2471760" cy="2776320"/>
            </a:xfrm>
          </p:grpSpPr>
          <p:sp>
            <p:nvSpPr>
              <p:cNvPr id="5048" name="Rectangle 75"/>
              <p:cNvSpPr/>
              <p:nvPr/>
            </p:nvSpPr>
            <p:spPr>
              <a:xfrm>
                <a:off x="8035920" y="2075040"/>
                <a:ext cx="706320" cy="1220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Rectangle 76"/>
              <p:cNvSpPr/>
              <p:nvPr/>
            </p:nvSpPr>
            <p:spPr>
              <a:xfrm>
                <a:off x="6270480" y="2075040"/>
                <a:ext cx="706680" cy="1220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Rectangle 77"/>
              <p:cNvSpPr/>
              <p:nvPr/>
            </p:nvSpPr>
            <p:spPr>
              <a:xfrm>
                <a:off x="6359400" y="3497400"/>
                <a:ext cx="706680" cy="1220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Rectangle 78"/>
              <p:cNvSpPr/>
              <p:nvPr/>
            </p:nvSpPr>
            <p:spPr>
              <a:xfrm>
                <a:off x="7172280" y="4729320"/>
                <a:ext cx="706320" cy="1220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Rectangle 79"/>
              <p:cNvSpPr/>
              <p:nvPr/>
            </p:nvSpPr>
            <p:spPr>
              <a:xfrm>
                <a:off x="7870680" y="3510000"/>
                <a:ext cx="706680" cy="1220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53" name="Rectangle 81"/>
          <p:cNvSpPr/>
          <p:nvPr/>
        </p:nvSpPr>
        <p:spPr>
          <a:xfrm>
            <a:off x="4276440" y="3255840"/>
            <a:ext cx="169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fp, ip, p , 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4" name="Freeform 82"/>
          <p:cNvSpPr/>
          <p:nvPr/>
        </p:nvSpPr>
        <p:spPr>
          <a:xfrm>
            <a:off x="3949560" y="2438280"/>
            <a:ext cx="85104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344" y="512"/>
                </a:moveTo>
                <a:cubicBezTo>
                  <a:pt x="324" y="362"/>
                  <a:pt x="305" y="213"/>
                  <a:pt x="248" y="128"/>
                </a:cubicBezTo>
                <a:cubicBezTo>
                  <a:pt x="191" y="43"/>
                  <a:pt x="95" y="21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5" name="Freeform 83"/>
          <p:cNvSpPr/>
          <p:nvPr/>
        </p:nvSpPr>
        <p:spPr>
          <a:xfrm flipV="1">
            <a:off x="3949560" y="3606840"/>
            <a:ext cx="546120" cy="45720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344" y="512"/>
                </a:moveTo>
                <a:cubicBezTo>
                  <a:pt x="324" y="362"/>
                  <a:pt x="305" y="213"/>
                  <a:pt x="248" y="128"/>
                </a:cubicBezTo>
                <a:cubicBezTo>
                  <a:pt x="191" y="43"/>
                  <a:pt x="95" y="21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6" name="Oval 84"/>
          <p:cNvSpPr/>
          <p:nvPr/>
        </p:nvSpPr>
        <p:spPr>
          <a:xfrm>
            <a:off x="6543720" y="329580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7" name="Line 85"/>
          <p:cNvSpPr/>
          <p:nvPr/>
        </p:nvSpPr>
        <p:spPr>
          <a:xfrm flipV="1">
            <a:off x="5918040" y="3403080"/>
            <a:ext cx="54612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8" name="Line 86"/>
          <p:cNvSpPr/>
          <p:nvPr/>
        </p:nvSpPr>
        <p:spPr>
          <a:xfrm flipV="1">
            <a:off x="3962520" y="3571560"/>
            <a:ext cx="2359080" cy="1492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9" name="Group 87"/>
          <p:cNvGrpSpPr/>
          <p:nvPr/>
        </p:nvGrpSpPr>
        <p:grpSpPr>
          <a:xfrm>
            <a:off x="182880" y="4854600"/>
            <a:ext cx="3750840" cy="450720"/>
            <a:chOff x="182880" y="4854600"/>
            <a:chExt cx="3750840" cy="450720"/>
          </a:xfrm>
        </p:grpSpPr>
        <p:sp>
          <p:nvSpPr>
            <p:cNvPr id="5060" name="Rectangle 88"/>
            <p:cNvSpPr/>
            <p:nvPr/>
          </p:nvSpPr>
          <p:spPr>
            <a:xfrm>
              <a:off x="182880" y="4915080"/>
              <a:ext cx="3355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Rectangle 89"/>
            <p:cNvSpPr/>
            <p:nvPr/>
          </p:nvSpPr>
          <p:spPr>
            <a:xfrm>
              <a:off x="560520" y="4854600"/>
              <a:ext cx="657000" cy="4413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Rectangle 90"/>
            <p:cNvSpPr/>
            <p:nvPr/>
          </p:nvSpPr>
          <p:spPr>
            <a:xfrm>
              <a:off x="560520" y="4859280"/>
              <a:ext cx="3373200" cy="436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3" name="Rectangle 93"/>
          <p:cNvSpPr/>
          <p:nvPr/>
        </p:nvSpPr>
        <p:spPr>
          <a:xfrm>
            <a:off x="558720" y="4013280"/>
            <a:ext cx="3365640" cy="2044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4" name="Rectangle 94"/>
          <p:cNvSpPr/>
          <p:nvPr/>
        </p:nvSpPr>
        <p:spPr>
          <a:xfrm>
            <a:off x="4162680" y="548640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5" name="Text Box 95"/>
          <p:cNvSpPr/>
          <p:nvPr/>
        </p:nvSpPr>
        <p:spPr>
          <a:xfrm>
            <a:off x="763920" y="48769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4.19981E-006 L 0.00174 0.03145 E">
                                      <p:cBhvr>
                                        <p:cTn id="49" dur="2000" fill="hold"/>
                                        <p:tgtEl>
                                          <p:spTgt spid="50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2000"/>
                                        <p:tgtEl>
                                          <p:spTgt spid="5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2000"/>
                                        <p:tgtEl>
                                          <p:spTgt spid="5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6" name="PlaceHolder 1"/>
          <p:cNvSpPr>
            <a:spLocks noGrp="1"/>
          </p:cNvSpPr>
          <p:nvPr>
            <p:ph type="title"/>
          </p:nvPr>
        </p:nvSpPr>
        <p:spPr>
          <a:xfrm>
            <a:off x="326880" y="533160"/>
            <a:ext cx="7902720" cy="1038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127a"/>
                </a:solidFill>
                <a:latin typeface="Verdana"/>
              </a:rPr>
              <a:t>Monsoon Processor (ISCA 1990) </a:t>
            </a:r>
            <a:br>
              <a:rPr sz="3600"/>
            </a:br>
            <a:endParaRPr b="0" lang="en-US" sz="3600" spc="-1" strike="noStrike">
              <a:solidFill>
                <a:srgbClr val="56127a"/>
              </a:solidFill>
              <a:latin typeface="Verdana"/>
            </a:endParaRPr>
          </a:p>
        </p:txBody>
      </p:sp>
      <p:sp>
        <p:nvSpPr>
          <p:cNvPr id="5067" name="Freeform 3"/>
          <p:cNvSpPr/>
          <p:nvPr/>
        </p:nvSpPr>
        <p:spPr>
          <a:xfrm>
            <a:off x="5178600" y="1268280"/>
            <a:ext cx="133200" cy="162000"/>
          </a:xfrm>
          <a:custGeom>
            <a:avLst/>
            <a:gdLst/>
            <a:ahLst/>
            <a:rect l="l" t="t" r="r" b="b"/>
            <a:pathLst>
              <a:path w="11" h="14">
                <a:moveTo>
                  <a:pt x="0" y="14"/>
                </a:moveTo>
                <a:cubicBezTo>
                  <a:pt x="2" y="14"/>
                  <a:pt x="4" y="14"/>
                  <a:pt x="6" y="14"/>
                </a:cubicBezTo>
                <a:cubicBezTo>
                  <a:pt x="7" y="14"/>
                  <a:pt x="9" y="14"/>
                  <a:pt x="11" y="14"/>
                </a:cubicBezTo>
                <a:lnTo>
                  <a:pt x="6" y="0"/>
                </a:lnTo>
                <a:lnTo>
                  <a:pt x="0" y="1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8" name="Rectangle 5"/>
          <p:cNvSpPr/>
          <p:nvPr/>
        </p:nvSpPr>
        <p:spPr>
          <a:xfrm>
            <a:off x="2919240" y="1833480"/>
            <a:ext cx="1897200" cy="808200"/>
          </a:xfrm>
          <a:prstGeom prst="rect">
            <a:avLst/>
          </a:prstGeom>
          <a:solidFill>
            <a:srgbClr val="91a67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Instruction</a:t>
            </a:r>
            <a:br>
              <a:rPr sz="1800"/>
            </a:b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9" name="Rectangle 6"/>
          <p:cNvSpPr/>
          <p:nvPr/>
        </p:nvSpPr>
        <p:spPr>
          <a:xfrm>
            <a:off x="2919240" y="2989440"/>
            <a:ext cx="1895760" cy="807840"/>
          </a:xfrm>
          <a:prstGeom prst="rect">
            <a:avLst/>
          </a:prstGeom>
          <a:solidFill>
            <a:srgbClr val="91a67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Operand</a:t>
            </a:r>
            <a:br>
              <a:rPr sz="1800"/>
            </a:b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0" name="Freeform 10"/>
          <p:cNvSpPr/>
          <p:nvPr/>
        </p:nvSpPr>
        <p:spPr>
          <a:xfrm>
            <a:off x="3867120" y="4191120"/>
            <a:ext cx="3371760" cy="1914480"/>
          </a:xfrm>
          <a:custGeom>
            <a:avLst/>
            <a:gdLst/>
            <a:ahLst/>
            <a:rect l="l" t="t" r="r" b="b"/>
            <a:pathLst>
              <a:path w="2124" h="1206">
                <a:moveTo>
                  <a:pt x="0" y="1206"/>
                </a:moveTo>
                <a:lnTo>
                  <a:pt x="2116" y="1200"/>
                </a:lnTo>
                <a:lnTo>
                  <a:pt x="2124" y="0"/>
                </a:lnTo>
              </a:path>
            </a:pathLst>
          </a:custGeom>
          <a:solidFill>
            <a:srgbClr val="ffffff"/>
          </a:solidFill>
          <a:ln w="237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1" name="Line 11"/>
          <p:cNvSpPr/>
          <p:nvPr/>
        </p:nvSpPr>
        <p:spPr>
          <a:xfrm flipH="1">
            <a:off x="5297040" y="1533600"/>
            <a:ext cx="3240" cy="45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2" name="Rectangle 12"/>
          <p:cNvSpPr/>
          <p:nvPr/>
        </p:nvSpPr>
        <p:spPr>
          <a:xfrm>
            <a:off x="2445840" y="2103480"/>
            <a:ext cx="177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3" name="Rectangle 13"/>
          <p:cNvSpPr/>
          <p:nvPr/>
        </p:nvSpPr>
        <p:spPr>
          <a:xfrm>
            <a:off x="2328840" y="310824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fp+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4" name="Rectangle 15"/>
          <p:cNvSpPr/>
          <p:nvPr/>
        </p:nvSpPr>
        <p:spPr>
          <a:xfrm>
            <a:off x="3952800" y="6284880"/>
            <a:ext cx="81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5" name="Rectangle 16"/>
          <p:cNvSpPr/>
          <p:nvPr/>
        </p:nvSpPr>
        <p:spPr>
          <a:xfrm>
            <a:off x="7796160" y="6305400"/>
            <a:ext cx="81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6" name="Line 20"/>
          <p:cNvSpPr/>
          <p:nvPr/>
        </p:nvSpPr>
        <p:spPr>
          <a:xfrm flipV="1">
            <a:off x="2165400" y="3389040"/>
            <a:ext cx="753840" cy="3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7" name="Line 21"/>
          <p:cNvSpPr/>
          <p:nvPr/>
        </p:nvSpPr>
        <p:spPr>
          <a:xfrm flipV="1">
            <a:off x="2152800" y="2367000"/>
            <a:ext cx="763560" cy="6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8" name="Line 27"/>
          <p:cNvSpPr/>
          <p:nvPr/>
        </p:nvSpPr>
        <p:spPr>
          <a:xfrm flipH="1">
            <a:off x="3859200" y="5830920"/>
            <a:ext cx="7920" cy="55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9" name="Rectangle 28"/>
          <p:cNvSpPr/>
          <p:nvPr/>
        </p:nvSpPr>
        <p:spPr>
          <a:xfrm>
            <a:off x="885960" y="2867040"/>
            <a:ext cx="1285920" cy="923760"/>
          </a:xfrm>
          <a:prstGeom prst="rect">
            <a:avLst/>
          </a:prstGeom>
          <a:solidFill>
            <a:srgbClr val="cfbdc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0" name="Rectangle 29"/>
          <p:cNvSpPr/>
          <p:nvPr/>
        </p:nvSpPr>
        <p:spPr>
          <a:xfrm>
            <a:off x="1320840" y="2933640"/>
            <a:ext cx="774720" cy="39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1" name="Rectangle 30"/>
          <p:cNvSpPr/>
          <p:nvPr/>
        </p:nvSpPr>
        <p:spPr>
          <a:xfrm>
            <a:off x="1254240" y="3024360"/>
            <a:ext cx="774720" cy="39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2" name="Rectangle 31"/>
          <p:cNvSpPr/>
          <p:nvPr/>
        </p:nvSpPr>
        <p:spPr>
          <a:xfrm>
            <a:off x="1189080" y="3154320"/>
            <a:ext cx="774720" cy="39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3" name="Rectangle 32"/>
          <p:cNvSpPr/>
          <p:nvPr/>
        </p:nvSpPr>
        <p:spPr>
          <a:xfrm>
            <a:off x="1189080" y="3324240"/>
            <a:ext cx="774720" cy="12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4" name="Rectangle 33"/>
          <p:cNvSpPr/>
          <p:nvPr/>
        </p:nvSpPr>
        <p:spPr>
          <a:xfrm>
            <a:off x="1189080" y="3324240"/>
            <a:ext cx="166680" cy="12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5" name="Rectangle 34"/>
          <p:cNvSpPr/>
          <p:nvPr/>
        </p:nvSpPr>
        <p:spPr>
          <a:xfrm>
            <a:off x="1041480" y="3529080"/>
            <a:ext cx="704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Fr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6" name="Group 35"/>
          <p:cNvGrpSpPr/>
          <p:nvPr/>
        </p:nvGrpSpPr>
        <p:grpSpPr>
          <a:xfrm>
            <a:off x="884160" y="1830240"/>
            <a:ext cx="1271520" cy="922320"/>
            <a:chOff x="884160" y="1830240"/>
            <a:chExt cx="1271520" cy="922320"/>
          </a:xfrm>
        </p:grpSpPr>
        <p:sp>
          <p:nvSpPr>
            <p:cNvPr id="5087" name="Rectangle 36"/>
            <p:cNvSpPr/>
            <p:nvPr/>
          </p:nvSpPr>
          <p:spPr>
            <a:xfrm>
              <a:off x="885600" y="1838160"/>
              <a:ext cx="1266480" cy="914400"/>
            </a:xfrm>
            <a:prstGeom prst="rect">
              <a:avLst/>
            </a:prstGeom>
            <a:solidFill>
              <a:srgbClr val="cfbdc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Line 37"/>
            <p:cNvSpPr/>
            <p:nvPr/>
          </p:nvSpPr>
          <p:spPr>
            <a:xfrm>
              <a:off x="884160" y="2082600"/>
              <a:ext cx="1271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9" name="Rectangle 38"/>
            <p:cNvSpPr/>
            <p:nvPr/>
          </p:nvSpPr>
          <p:spPr>
            <a:xfrm>
              <a:off x="1015560" y="184428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Rectangle 39"/>
            <p:cNvSpPr/>
            <p:nvPr/>
          </p:nvSpPr>
          <p:spPr>
            <a:xfrm>
              <a:off x="1394640" y="184608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Rectangle 40"/>
            <p:cNvSpPr/>
            <p:nvPr/>
          </p:nvSpPr>
          <p:spPr>
            <a:xfrm>
              <a:off x="1613880" y="1846080"/>
              <a:ext cx="471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1,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Line 41"/>
            <p:cNvSpPr/>
            <p:nvPr/>
          </p:nvSpPr>
          <p:spPr>
            <a:xfrm>
              <a:off x="1293480" y="1830240"/>
              <a:ext cx="1440" cy="25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Line 42"/>
            <p:cNvSpPr/>
            <p:nvPr/>
          </p:nvSpPr>
          <p:spPr>
            <a:xfrm>
              <a:off x="1547640" y="1833480"/>
              <a:ext cx="1080" cy="24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4" name="Rectangle 43"/>
            <p:cNvSpPr/>
            <p:nvPr/>
          </p:nvSpPr>
          <p:spPr>
            <a:xfrm>
              <a:off x="1126800" y="2452320"/>
              <a:ext cx="48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5" name="Rectangle 44"/>
          <p:cNvSpPr/>
          <p:nvPr/>
        </p:nvSpPr>
        <p:spPr>
          <a:xfrm>
            <a:off x="2932200" y="5014800"/>
            <a:ext cx="1895400" cy="808200"/>
          </a:xfrm>
          <a:prstGeom prst="rect">
            <a:avLst/>
          </a:prstGeom>
          <a:solidFill>
            <a:srgbClr val="91a67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Form</a:t>
            </a:r>
            <a:br>
              <a:rPr sz="1800"/>
            </a:b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6" name="Freeform 45"/>
          <p:cNvSpPr/>
          <p:nvPr/>
        </p:nvSpPr>
        <p:spPr>
          <a:xfrm>
            <a:off x="3265560" y="4089240"/>
            <a:ext cx="1230120" cy="571680"/>
          </a:xfrm>
          <a:custGeom>
            <a:avLst/>
            <a:gdLst/>
            <a:ahLst/>
            <a:rect l="l" t="t" r="r" b="b"/>
            <a:pathLst>
              <a:path w="775" h="360">
                <a:moveTo>
                  <a:pt x="0" y="0"/>
                </a:moveTo>
                <a:lnTo>
                  <a:pt x="321" y="0"/>
                </a:lnTo>
                <a:lnTo>
                  <a:pt x="396" y="85"/>
                </a:lnTo>
                <a:lnTo>
                  <a:pt x="463" y="4"/>
                </a:lnTo>
                <a:lnTo>
                  <a:pt x="775" y="4"/>
                </a:lnTo>
                <a:lnTo>
                  <a:pt x="562" y="360"/>
                </a:lnTo>
                <a:lnTo>
                  <a:pt x="220" y="360"/>
                </a:lnTo>
                <a:lnTo>
                  <a:pt x="0" y="0"/>
                </a:lnTo>
                <a:close/>
              </a:path>
            </a:pathLst>
          </a:custGeom>
          <a:solidFill>
            <a:srgbClr val="91a67c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7" name="Rectangle 46"/>
          <p:cNvSpPr/>
          <p:nvPr/>
        </p:nvSpPr>
        <p:spPr>
          <a:xfrm>
            <a:off x="3546360" y="4297320"/>
            <a:ext cx="674640" cy="213480"/>
          </a:xfrm>
          <a:prstGeom prst="rect">
            <a:avLst/>
          </a:prstGeom>
          <a:solidFill>
            <a:srgbClr val="91a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Verdana"/>
                <a:ea typeface="Arial"/>
              </a:rPr>
              <a:t>A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8" name="Line 47"/>
          <p:cNvSpPr/>
          <p:nvPr/>
        </p:nvSpPr>
        <p:spPr>
          <a:xfrm flipH="1">
            <a:off x="3648240" y="3801960"/>
            <a:ext cx="7920" cy="28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9" name="Line 48"/>
          <p:cNvSpPr/>
          <p:nvPr/>
        </p:nvSpPr>
        <p:spPr>
          <a:xfrm flipH="1">
            <a:off x="4114800" y="3808440"/>
            <a:ext cx="7920" cy="28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0" name="Line 49"/>
          <p:cNvSpPr/>
          <p:nvPr/>
        </p:nvSpPr>
        <p:spPr>
          <a:xfrm flipH="1">
            <a:off x="3772080" y="4659480"/>
            <a:ext cx="1440" cy="349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1" name="Line 50"/>
          <p:cNvSpPr/>
          <p:nvPr/>
        </p:nvSpPr>
        <p:spPr>
          <a:xfrm flipH="1">
            <a:off x="3971520" y="4665600"/>
            <a:ext cx="4680" cy="349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2" name="Rectangle 51"/>
          <p:cNvSpPr/>
          <p:nvPr/>
        </p:nvSpPr>
        <p:spPr>
          <a:xfrm>
            <a:off x="6972480" y="2809800"/>
            <a:ext cx="1095120" cy="1390680"/>
          </a:xfrm>
          <a:prstGeom prst="rect">
            <a:avLst/>
          </a:prstGeom>
          <a:solidFill>
            <a:srgbClr val="cfbdc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3" name="Rectangle 52"/>
          <p:cNvSpPr/>
          <p:nvPr/>
        </p:nvSpPr>
        <p:spPr>
          <a:xfrm>
            <a:off x="7171920" y="3174840"/>
            <a:ext cx="721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4" name="Freeform 53"/>
          <p:cNvSpPr/>
          <p:nvPr/>
        </p:nvSpPr>
        <p:spPr>
          <a:xfrm>
            <a:off x="3914640" y="1542960"/>
            <a:ext cx="3515040" cy="1263600"/>
          </a:xfrm>
          <a:custGeom>
            <a:avLst/>
            <a:gdLst/>
            <a:ahLst/>
            <a:rect l="l" t="t" r="r" b="b"/>
            <a:pathLst>
              <a:path w="2214" h="796">
                <a:moveTo>
                  <a:pt x="2214" y="796"/>
                </a:moveTo>
                <a:lnTo>
                  <a:pt x="2214" y="6"/>
                </a:lnTo>
                <a:lnTo>
                  <a:pt x="0" y="0"/>
                </a:lnTo>
                <a:lnTo>
                  <a:pt x="0" y="18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5" name="Line 54"/>
          <p:cNvSpPr/>
          <p:nvPr/>
        </p:nvSpPr>
        <p:spPr>
          <a:xfrm flipH="1" flipV="1">
            <a:off x="7706880" y="4211640"/>
            <a:ext cx="3240" cy="22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6" name="Line 55"/>
          <p:cNvSpPr/>
          <p:nvPr/>
        </p:nvSpPr>
        <p:spPr>
          <a:xfrm flipH="1">
            <a:off x="3886200" y="2666880"/>
            <a:ext cx="7920" cy="33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7" name="Group 60"/>
          <p:cNvGrpSpPr/>
          <p:nvPr/>
        </p:nvGrpSpPr>
        <p:grpSpPr>
          <a:xfrm>
            <a:off x="4524480" y="1268280"/>
            <a:ext cx="156960" cy="346320"/>
            <a:chOff x="4524480" y="1268280"/>
            <a:chExt cx="156960" cy="346320"/>
          </a:xfrm>
        </p:grpSpPr>
        <p:sp>
          <p:nvSpPr>
            <p:cNvPr id="5108" name="Rectangle 4"/>
            <p:cNvSpPr/>
            <p:nvPr/>
          </p:nvSpPr>
          <p:spPr>
            <a:xfrm>
              <a:off x="4678200" y="1268280"/>
              <a:ext cx="1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9" name="Oval 56"/>
            <p:cNvSpPr/>
            <p:nvPr/>
          </p:nvSpPr>
          <p:spPr>
            <a:xfrm>
              <a:off x="4524480" y="1484280"/>
              <a:ext cx="156960" cy="13032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0" name="Group 64"/>
          <p:cNvGrpSpPr/>
          <p:nvPr/>
        </p:nvGrpSpPr>
        <p:grpSpPr>
          <a:xfrm>
            <a:off x="4495680" y="1295280"/>
            <a:ext cx="156960" cy="346320"/>
            <a:chOff x="4495680" y="1295280"/>
            <a:chExt cx="156960" cy="346320"/>
          </a:xfrm>
        </p:grpSpPr>
        <p:sp>
          <p:nvSpPr>
            <p:cNvPr id="5111" name="Rectangle 65"/>
            <p:cNvSpPr/>
            <p:nvPr/>
          </p:nvSpPr>
          <p:spPr>
            <a:xfrm>
              <a:off x="4649400" y="1295280"/>
              <a:ext cx="1800" cy="304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Oval 66"/>
            <p:cNvSpPr/>
            <p:nvPr/>
          </p:nvSpPr>
          <p:spPr>
            <a:xfrm>
              <a:off x="4495680" y="1511280"/>
              <a:ext cx="156960" cy="130320"/>
            </a:xfrm>
            <a:prstGeom prst="ellipse">
              <a:avLst/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3" name="Oval 68"/>
          <p:cNvSpPr/>
          <p:nvPr/>
        </p:nvSpPr>
        <p:spPr>
          <a:xfrm>
            <a:off x="3657600" y="4495680"/>
            <a:ext cx="157320" cy="130320"/>
          </a:xfrm>
          <a:prstGeom prst="ellipse">
            <a:avLst/>
          </a:prstGeom>
          <a:solidFill>
            <a:srgbClr val="00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4" name="Oval 69"/>
          <p:cNvSpPr/>
          <p:nvPr/>
        </p:nvSpPr>
        <p:spPr>
          <a:xfrm>
            <a:off x="3957480" y="4441680"/>
            <a:ext cx="157320" cy="130320"/>
          </a:xfrm>
          <a:prstGeom prst="ellipse">
            <a:avLst/>
          </a:prstGeom>
          <a:solidFill>
            <a:srgbClr val="00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19653E-006 L -0.0783 -0.00208 L -0.0783 0.11838 E">
                                      <p:cBhvr>
                                        <p:cTn id="65" dur="2000" fill="hold"/>
                                        <p:tgtEl>
                                          <p:spTgt spid="5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3 0.11838 L -0.27517 0.11861 E">
                                      <p:cBhvr>
                                        <p:cTn id="68" dur="2000" fill="hold"/>
                                        <p:tgtEl>
                                          <p:spTgt spid="5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674 0.1163 L -0.0783 0.1163 L -0.0783 0.26428 L -0.32275 0.26636 E">
                                      <p:cBhvr>
                                        <p:cTn id="72" dur="3000" fill="hold"/>
                                        <p:tgtEl>
                                          <p:spTgt spid="5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2000" fill="hold"/>
                                        <p:tgtEl>
                                          <p:spTgt spid="50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6" dur="2000" fill="hold"/>
                                        <p:tgtEl>
                                          <p:spTgt spid="50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19653E-006 L -0.0783 -0.00208 L -0.0783 0.11838 E">
                                      <p:cBhvr>
                                        <p:cTn id="85" dur="2000" fill="hold"/>
                                        <p:tgtEl>
                                          <p:spTgt spid="5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3 0.11838 L -0.27517 0.11861 E">
                                      <p:cBhvr>
                                        <p:cTn id="88" dur="2000" fill="hold"/>
                                        <p:tgtEl>
                                          <p:spTgt spid="5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674 0.1163 L -0.0783 0.1163 L -0.0783 0.26428 L -0.32275 0.26636 E">
                                      <p:cBhvr>
                                        <p:cTn id="92" dur="3000" fill="hold"/>
                                        <p:tgtEl>
                                          <p:spTgt spid="5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75 0.26636 L -0.10677 0.26636 L -0.10677 0.38474 E">
                                      <p:cBhvr>
                                        <p:cTn id="96" dur="2000" fill="hold"/>
                                        <p:tgtEl>
                                          <p:spTgt spid="5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961 0.26243 L -0.04982 0.25827 L -0.04982 0.3852 E">
                                      <p:cBhvr>
                                        <p:cTn id="98" dur="2000" fill="hold"/>
                                        <p:tgtEl>
                                          <p:spTgt spid="5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50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" dur="2000" fill="hold"/>
                                        <p:tgtEl>
                                          <p:spTgt spid="50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5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5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5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27168E-006 L -0.01111 0.21572 L 0.27292 0.21572 E">
                                      <p:cBhvr>
                                        <p:cTn id="123" dur="2000" fill="hold"/>
                                        <p:tgtEl>
                                          <p:spTgt spid="5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 0.01641 L 0.01371 0.22566 L 0.17083 0.22358 L 0.16927 0.04601 E">
                                      <p:cBhvr>
                                        <p:cTn id="125" dur="2000" fill="hold"/>
                                        <p:tgtEl>
                                          <p:spTgt spid="5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ncept of Tagg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16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invocation receives a separate 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468F-DC05-4E04-B86E-A83EC222B774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8" name="Picture 4" descr=""/>
          <p:cNvPicPr/>
          <p:nvPr/>
        </p:nvPicPr>
        <p:blipFill>
          <a:blip r:embed="rId1"/>
          <a:stretch/>
        </p:blipFill>
        <p:spPr>
          <a:xfrm>
            <a:off x="914400" y="1506600"/>
            <a:ext cx="7238880" cy="48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9" name="PlaceHolder 1"/>
          <p:cNvSpPr>
            <a:spLocks noGrp="1"/>
          </p:cNvSpPr>
          <p:nvPr>
            <p:ph type="title"/>
          </p:nvPr>
        </p:nvSpPr>
        <p:spPr>
          <a:xfrm>
            <a:off x="321840" y="565200"/>
            <a:ext cx="6797880" cy="490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127a"/>
                </a:solidFill>
                <a:latin typeface="Verdana"/>
              </a:rPr>
              <a:t>Procedure Linkage Operators</a:t>
            </a:r>
            <a:endParaRPr b="0" lang="en-US" sz="3600" spc="-1" strike="noStrike">
              <a:solidFill>
                <a:srgbClr val="56127a"/>
              </a:solidFill>
              <a:latin typeface="Verdana"/>
            </a:endParaRPr>
          </a:p>
        </p:txBody>
      </p:sp>
      <p:sp>
        <p:nvSpPr>
          <p:cNvPr id="5120" name="Line 3"/>
          <p:cNvSpPr/>
          <p:nvPr/>
        </p:nvSpPr>
        <p:spPr>
          <a:xfrm flipH="1">
            <a:off x="1612800" y="1297080"/>
            <a:ext cx="5040" cy="76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1" name="Rectangle 4"/>
          <p:cNvSpPr/>
          <p:nvPr/>
        </p:nvSpPr>
        <p:spPr>
          <a:xfrm>
            <a:off x="1338840" y="1373040"/>
            <a:ext cx="2066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2" name="Rectangle 5"/>
          <p:cNvSpPr/>
          <p:nvPr/>
        </p:nvSpPr>
        <p:spPr>
          <a:xfrm>
            <a:off x="1236600" y="2063880"/>
            <a:ext cx="1433520" cy="366480"/>
          </a:xfrm>
          <a:prstGeom prst="rect">
            <a:avLst/>
          </a:prstGeom>
          <a:solidFill>
            <a:srgbClr val="cfbdc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get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Rectangle 6"/>
          <p:cNvSpPr/>
          <p:nvPr/>
        </p:nvSpPr>
        <p:spPr>
          <a:xfrm>
            <a:off x="3535560" y="2127240"/>
            <a:ext cx="1284120" cy="283680"/>
          </a:xfrm>
          <a:prstGeom prst="rect">
            <a:avLst/>
          </a:prstGeom>
          <a:solidFill>
            <a:srgbClr val="91a67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extract 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4" name="Rectangle 7"/>
          <p:cNvSpPr/>
          <p:nvPr/>
        </p:nvSpPr>
        <p:spPr>
          <a:xfrm>
            <a:off x="1831320" y="3241800"/>
            <a:ext cx="1563120" cy="283680"/>
          </a:xfrm>
          <a:prstGeom prst="rect">
            <a:avLst/>
          </a:prstGeom>
          <a:solidFill>
            <a:srgbClr val="91a67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change Tag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5" name="Line 8"/>
          <p:cNvSpPr/>
          <p:nvPr/>
        </p:nvSpPr>
        <p:spPr>
          <a:xfrm>
            <a:off x="2301840" y="2468520"/>
            <a:ext cx="0" cy="75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6" name="Line 9"/>
          <p:cNvSpPr/>
          <p:nvPr/>
        </p:nvSpPr>
        <p:spPr>
          <a:xfrm flipH="1">
            <a:off x="2733840" y="2425680"/>
            <a:ext cx="1419120" cy="798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7" name="Line 10"/>
          <p:cNvSpPr/>
          <p:nvPr/>
        </p:nvSpPr>
        <p:spPr>
          <a:xfrm>
            <a:off x="2309760" y="2697120"/>
            <a:ext cx="4856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8" name="Line 11"/>
          <p:cNvSpPr/>
          <p:nvPr/>
        </p:nvSpPr>
        <p:spPr>
          <a:xfrm>
            <a:off x="4902120" y="5321160"/>
            <a:ext cx="0" cy="49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Rectangle 12"/>
          <p:cNvSpPr/>
          <p:nvPr/>
        </p:nvSpPr>
        <p:spPr>
          <a:xfrm>
            <a:off x="3405240" y="5727600"/>
            <a:ext cx="1774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0" name="Rectangle 13"/>
          <p:cNvSpPr/>
          <p:nvPr/>
        </p:nvSpPr>
        <p:spPr>
          <a:xfrm>
            <a:off x="3709440" y="5815080"/>
            <a:ext cx="1563120" cy="283680"/>
          </a:xfrm>
          <a:prstGeom prst="rect">
            <a:avLst/>
          </a:prstGeom>
          <a:solidFill>
            <a:srgbClr val="91a67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change Tag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1" name="Rectangle 14"/>
          <p:cNvSpPr/>
          <p:nvPr/>
        </p:nvSpPr>
        <p:spPr>
          <a:xfrm>
            <a:off x="5662440" y="4815000"/>
            <a:ext cx="13086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Graph for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2" name="AutoShape 15"/>
          <p:cNvSpPr/>
          <p:nvPr/>
        </p:nvSpPr>
        <p:spPr>
          <a:xfrm>
            <a:off x="4140360" y="4016520"/>
            <a:ext cx="4249440" cy="129204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3" name="Rectangle 16"/>
          <p:cNvSpPr/>
          <p:nvPr/>
        </p:nvSpPr>
        <p:spPr>
          <a:xfrm>
            <a:off x="4127040" y="3267000"/>
            <a:ext cx="1563120" cy="283680"/>
          </a:xfrm>
          <a:prstGeom prst="rect">
            <a:avLst/>
          </a:prstGeom>
          <a:solidFill>
            <a:srgbClr val="91a67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change Tag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4" name="Line 17"/>
          <p:cNvSpPr/>
          <p:nvPr/>
        </p:nvSpPr>
        <p:spPr>
          <a:xfrm>
            <a:off x="4559400" y="2684520"/>
            <a:ext cx="468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5" name="Line 18"/>
          <p:cNvSpPr/>
          <p:nvPr/>
        </p:nvSpPr>
        <p:spPr>
          <a:xfrm>
            <a:off x="5294160" y="1312920"/>
            <a:ext cx="0" cy="1955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6" name="Rectangle 19"/>
          <p:cNvSpPr/>
          <p:nvPr/>
        </p:nvSpPr>
        <p:spPr>
          <a:xfrm>
            <a:off x="4938840" y="1373040"/>
            <a:ext cx="3866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7" name="Rectangle 20"/>
          <p:cNvSpPr/>
          <p:nvPr/>
        </p:nvSpPr>
        <p:spPr>
          <a:xfrm>
            <a:off x="4155840" y="4332240"/>
            <a:ext cx="319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8" name="Line 21"/>
          <p:cNvSpPr/>
          <p:nvPr/>
        </p:nvSpPr>
        <p:spPr>
          <a:xfrm>
            <a:off x="4910040" y="3557520"/>
            <a:ext cx="0" cy="77472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9" name="Line 22"/>
          <p:cNvSpPr/>
          <p:nvPr/>
        </p:nvSpPr>
        <p:spPr>
          <a:xfrm>
            <a:off x="4489560" y="6107040"/>
            <a:ext cx="0" cy="44460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0" name="Rectangle 23"/>
          <p:cNvSpPr/>
          <p:nvPr/>
        </p:nvSpPr>
        <p:spPr>
          <a:xfrm>
            <a:off x="2676600" y="3921120"/>
            <a:ext cx="6073560" cy="230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1" name="Rectangle 24"/>
          <p:cNvSpPr/>
          <p:nvPr/>
        </p:nvSpPr>
        <p:spPr>
          <a:xfrm>
            <a:off x="6733800" y="3254400"/>
            <a:ext cx="1573560" cy="283680"/>
          </a:xfrm>
          <a:prstGeom prst="rect">
            <a:avLst/>
          </a:prstGeom>
          <a:solidFill>
            <a:srgbClr val="91a67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change Tag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2" name="Line 25"/>
          <p:cNvSpPr/>
          <p:nvPr/>
        </p:nvSpPr>
        <p:spPr>
          <a:xfrm>
            <a:off x="7159680" y="2697120"/>
            <a:ext cx="0" cy="542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3" name="Line 26"/>
          <p:cNvSpPr/>
          <p:nvPr/>
        </p:nvSpPr>
        <p:spPr>
          <a:xfrm flipH="1">
            <a:off x="7907040" y="1300320"/>
            <a:ext cx="19080" cy="1941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4" name="Rectangle 27"/>
          <p:cNvSpPr/>
          <p:nvPr/>
        </p:nvSpPr>
        <p:spPr>
          <a:xfrm>
            <a:off x="7544520" y="1360440"/>
            <a:ext cx="3970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5" name="Rectangle 28"/>
          <p:cNvSpPr/>
          <p:nvPr/>
        </p:nvSpPr>
        <p:spPr>
          <a:xfrm>
            <a:off x="6635880" y="4319640"/>
            <a:ext cx="330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6" name="Line 29"/>
          <p:cNvSpPr/>
          <p:nvPr/>
        </p:nvSpPr>
        <p:spPr>
          <a:xfrm>
            <a:off x="7413480" y="3554280"/>
            <a:ext cx="0" cy="76356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7" name="Rectangle 30"/>
          <p:cNvSpPr/>
          <p:nvPr/>
        </p:nvSpPr>
        <p:spPr>
          <a:xfrm>
            <a:off x="6159600" y="1455840"/>
            <a:ext cx="428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56127a"/>
                </a:solidFill>
                <a:latin typeface="Verdana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8" name="Rectangle 31"/>
          <p:cNvSpPr/>
          <p:nvPr/>
        </p:nvSpPr>
        <p:spPr>
          <a:xfrm>
            <a:off x="6828840" y="5802480"/>
            <a:ext cx="1563120" cy="283680"/>
          </a:xfrm>
          <a:prstGeom prst="rect">
            <a:avLst/>
          </a:prstGeom>
          <a:solidFill>
            <a:srgbClr val="91a67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change Tag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9" name="Rectangle 32"/>
          <p:cNvSpPr/>
          <p:nvPr/>
        </p:nvSpPr>
        <p:spPr>
          <a:xfrm>
            <a:off x="4470480" y="4344840"/>
            <a:ext cx="887400" cy="304920"/>
          </a:xfrm>
          <a:prstGeom prst="rect">
            <a:avLst/>
          </a:prstGeom>
          <a:solidFill>
            <a:srgbClr val="91a67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0" name="Rectangle 33"/>
          <p:cNvSpPr/>
          <p:nvPr/>
        </p:nvSpPr>
        <p:spPr>
          <a:xfrm>
            <a:off x="7007400" y="4332240"/>
            <a:ext cx="887400" cy="304920"/>
          </a:xfrm>
          <a:prstGeom prst="rect">
            <a:avLst/>
          </a:prstGeom>
          <a:solidFill>
            <a:srgbClr val="91a67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1" name="Line 34"/>
          <p:cNvSpPr/>
          <p:nvPr/>
        </p:nvSpPr>
        <p:spPr>
          <a:xfrm>
            <a:off x="7881840" y="5332320"/>
            <a:ext cx="0" cy="4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2" name="Line 35"/>
          <p:cNvSpPr/>
          <p:nvPr/>
        </p:nvSpPr>
        <p:spPr>
          <a:xfrm>
            <a:off x="4102200" y="5475240"/>
            <a:ext cx="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3" name="Line 36"/>
          <p:cNvSpPr/>
          <p:nvPr/>
        </p:nvSpPr>
        <p:spPr>
          <a:xfrm flipH="1">
            <a:off x="7119720" y="5478480"/>
            <a:ext cx="468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4" name="Line 37"/>
          <p:cNvSpPr/>
          <p:nvPr/>
        </p:nvSpPr>
        <p:spPr>
          <a:xfrm>
            <a:off x="3355920" y="5486400"/>
            <a:ext cx="3778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5" name="Line 38"/>
          <p:cNvSpPr/>
          <p:nvPr/>
        </p:nvSpPr>
        <p:spPr>
          <a:xfrm>
            <a:off x="3365640" y="5106960"/>
            <a:ext cx="0" cy="379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6" name="Rectangle 39"/>
          <p:cNvSpPr/>
          <p:nvPr/>
        </p:nvSpPr>
        <p:spPr>
          <a:xfrm>
            <a:off x="3039120" y="4761000"/>
            <a:ext cx="655560" cy="335520"/>
          </a:xfrm>
          <a:prstGeom prst="rect">
            <a:avLst/>
          </a:prstGeom>
          <a:solidFill>
            <a:srgbClr val="91a67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F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7" name="Line 40"/>
          <p:cNvSpPr/>
          <p:nvPr/>
        </p:nvSpPr>
        <p:spPr>
          <a:xfrm>
            <a:off x="7618320" y="6107040"/>
            <a:ext cx="0" cy="44460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8" name="Freeform 41"/>
          <p:cNvSpPr/>
          <p:nvPr/>
        </p:nvSpPr>
        <p:spPr>
          <a:xfrm>
            <a:off x="1619280" y="1595520"/>
            <a:ext cx="2548080" cy="538200"/>
          </a:xfrm>
          <a:custGeom>
            <a:avLst/>
            <a:gdLst/>
            <a:ahLst/>
            <a:rect l="l" t="t" r="r" b="b"/>
            <a:pathLst>
              <a:path w="1560" h="429">
                <a:moveTo>
                  <a:pt x="0" y="0"/>
                </a:moveTo>
                <a:lnTo>
                  <a:pt x="1560" y="0"/>
                </a:lnTo>
                <a:lnTo>
                  <a:pt x="1560" y="42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9" name="Freeform 42"/>
          <p:cNvSpPr/>
          <p:nvPr/>
        </p:nvSpPr>
        <p:spPr>
          <a:xfrm>
            <a:off x="2576520" y="3543480"/>
            <a:ext cx="781200" cy="1199880"/>
          </a:xfrm>
          <a:custGeom>
            <a:avLst/>
            <a:gdLst/>
            <a:ahLst/>
            <a:rect l="l" t="t" r="r" b="b"/>
            <a:pathLst>
              <a:path w="471" h="756">
                <a:moveTo>
                  <a:pt x="0" y="0"/>
                </a:moveTo>
                <a:lnTo>
                  <a:pt x="0" y="150"/>
                </a:lnTo>
                <a:lnTo>
                  <a:pt x="471" y="150"/>
                </a:lnTo>
                <a:lnTo>
                  <a:pt x="471" y="756"/>
                </a:lnTo>
              </a:path>
            </a:pathLst>
          </a:custGeom>
          <a:noFill/>
          <a:ln w="1908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0" name="Group 43"/>
          <p:cNvGrpSpPr/>
          <p:nvPr/>
        </p:nvGrpSpPr>
        <p:grpSpPr>
          <a:xfrm>
            <a:off x="1542960" y="1724040"/>
            <a:ext cx="2687760" cy="139680"/>
            <a:chOff x="1542960" y="1724040"/>
            <a:chExt cx="2687760" cy="139680"/>
          </a:xfrm>
        </p:grpSpPr>
        <p:sp>
          <p:nvSpPr>
            <p:cNvPr id="5161" name="Oval 44"/>
            <p:cNvSpPr/>
            <p:nvPr/>
          </p:nvSpPr>
          <p:spPr>
            <a:xfrm>
              <a:off x="1542960" y="17240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Oval 45"/>
            <p:cNvSpPr/>
            <p:nvPr/>
          </p:nvSpPr>
          <p:spPr>
            <a:xfrm>
              <a:off x="4091040" y="17240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3" name="Oval 46"/>
          <p:cNvSpPr/>
          <p:nvPr/>
        </p:nvSpPr>
        <p:spPr>
          <a:xfrm>
            <a:off x="5219640" y="2905200"/>
            <a:ext cx="139680" cy="139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4" name="Oval 47"/>
          <p:cNvSpPr/>
          <p:nvPr/>
        </p:nvSpPr>
        <p:spPr>
          <a:xfrm>
            <a:off x="7843680" y="2905200"/>
            <a:ext cx="139680" cy="139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5" name="Group 48"/>
          <p:cNvGrpSpPr/>
          <p:nvPr/>
        </p:nvGrpSpPr>
        <p:grpSpPr>
          <a:xfrm>
            <a:off x="2224080" y="2905200"/>
            <a:ext cx="5002200" cy="139680"/>
            <a:chOff x="2224080" y="2905200"/>
            <a:chExt cx="5002200" cy="139680"/>
          </a:xfrm>
        </p:grpSpPr>
        <p:sp>
          <p:nvSpPr>
            <p:cNvPr id="5166" name="Oval 49"/>
            <p:cNvSpPr/>
            <p:nvPr/>
          </p:nvSpPr>
          <p:spPr>
            <a:xfrm>
              <a:off x="2224080" y="29052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Oval 50"/>
            <p:cNvSpPr/>
            <p:nvPr/>
          </p:nvSpPr>
          <p:spPr>
            <a:xfrm>
              <a:off x="3124080" y="29052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Oval 51"/>
            <p:cNvSpPr/>
            <p:nvPr/>
          </p:nvSpPr>
          <p:spPr>
            <a:xfrm>
              <a:off x="4491000" y="29052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Oval 52"/>
            <p:cNvSpPr/>
            <p:nvPr/>
          </p:nvSpPr>
          <p:spPr>
            <a:xfrm>
              <a:off x="7086600" y="29052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0" name="Oval 53"/>
          <p:cNvSpPr/>
          <p:nvPr/>
        </p:nvSpPr>
        <p:spPr>
          <a:xfrm>
            <a:off x="4834080" y="406728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1" name="Oval 54"/>
          <p:cNvSpPr/>
          <p:nvPr/>
        </p:nvSpPr>
        <p:spPr>
          <a:xfrm>
            <a:off x="3281400" y="406728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2" name="Oval 55"/>
          <p:cNvSpPr/>
          <p:nvPr/>
        </p:nvSpPr>
        <p:spPr>
          <a:xfrm>
            <a:off x="7343640" y="406728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3" name="Oval 56"/>
          <p:cNvSpPr/>
          <p:nvPr/>
        </p:nvSpPr>
        <p:spPr>
          <a:xfrm>
            <a:off x="4834080" y="554364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4" name="Oval 57"/>
          <p:cNvSpPr/>
          <p:nvPr/>
        </p:nvSpPr>
        <p:spPr>
          <a:xfrm>
            <a:off x="7810560" y="554364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5" name="Group 58"/>
          <p:cNvGrpSpPr/>
          <p:nvPr/>
        </p:nvGrpSpPr>
        <p:grpSpPr>
          <a:xfrm>
            <a:off x="4033800" y="5543640"/>
            <a:ext cx="3159000" cy="139680"/>
            <a:chOff x="4033800" y="5543640"/>
            <a:chExt cx="3159000" cy="139680"/>
          </a:xfrm>
        </p:grpSpPr>
        <p:sp>
          <p:nvSpPr>
            <p:cNvPr id="5176" name="Oval 59"/>
            <p:cNvSpPr/>
            <p:nvPr/>
          </p:nvSpPr>
          <p:spPr>
            <a:xfrm>
              <a:off x="4033800" y="554364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Oval 60"/>
            <p:cNvSpPr/>
            <p:nvPr/>
          </p:nvSpPr>
          <p:spPr>
            <a:xfrm>
              <a:off x="7053120" y="554364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8" name="Oval 61"/>
          <p:cNvSpPr/>
          <p:nvPr/>
        </p:nvSpPr>
        <p:spPr>
          <a:xfrm>
            <a:off x="4414680" y="6276960"/>
            <a:ext cx="139680" cy="139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9" name="Oval 62"/>
          <p:cNvSpPr/>
          <p:nvPr/>
        </p:nvSpPr>
        <p:spPr>
          <a:xfrm>
            <a:off x="7548480" y="6276960"/>
            <a:ext cx="139680" cy="139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0" name="Group 63"/>
          <p:cNvGrpSpPr/>
          <p:nvPr/>
        </p:nvGrpSpPr>
        <p:grpSpPr>
          <a:xfrm>
            <a:off x="200160" y="5724360"/>
            <a:ext cx="2057400" cy="533520"/>
            <a:chOff x="200160" y="5724360"/>
            <a:chExt cx="2057400" cy="533520"/>
          </a:xfrm>
        </p:grpSpPr>
        <p:sp>
          <p:nvSpPr>
            <p:cNvPr id="5181" name="Rectangle 64"/>
            <p:cNvSpPr/>
            <p:nvPr/>
          </p:nvSpPr>
          <p:spPr>
            <a:xfrm>
              <a:off x="528480" y="5735520"/>
              <a:ext cx="169416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200" bIns="252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oken in frame 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Oval 65"/>
            <p:cNvSpPr/>
            <p:nvPr/>
          </p:nvSpPr>
          <p:spPr>
            <a:xfrm>
              <a:off x="295200" y="57942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Rectangle 66"/>
            <p:cNvSpPr/>
            <p:nvPr/>
          </p:nvSpPr>
          <p:spPr>
            <a:xfrm>
              <a:off x="528480" y="5983200"/>
              <a:ext cx="169416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200" bIns="252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oken in frame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Oval 67"/>
            <p:cNvSpPr/>
            <p:nvPr/>
          </p:nvSpPr>
          <p:spPr>
            <a:xfrm>
              <a:off x="295200" y="604188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Rectangle 68"/>
            <p:cNvSpPr/>
            <p:nvPr/>
          </p:nvSpPr>
          <p:spPr>
            <a:xfrm>
              <a:off x="200160" y="5724360"/>
              <a:ext cx="2057400" cy="5335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6" name="Oval 69"/>
          <p:cNvSpPr/>
          <p:nvPr/>
        </p:nvSpPr>
        <p:spPr>
          <a:xfrm>
            <a:off x="7089840" y="2905200"/>
            <a:ext cx="139680" cy="139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7" name="Oval 70"/>
          <p:cNvSpPr/>
          <p:nvPr/>
        </p:nvSpPr>
        <p:spPr>
          <a:xfrm>
            <a:off x="7058160" y="554364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8" name="Text Box 71"/>
          <p:cNvSpPr/>
          <p:nvPr/>
        </p:nvSpPr>
        <p:spPr>
          <a:xfrm>
            <a:off x="152280" y="3657600"/>
            <a:ext cx="2362320" cy="1923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Like standard call/return but caller &amp; callee can be active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1" dur="500"/>
                                        <p:tgtEl>
                                          <p:spTgt spid="5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5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5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5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5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5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" dur="500"/>
                                        <p:tgtEl>
                                          <p:spTgt spid="5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5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5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5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5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8" dur="500"/>
                                        <p:tgtEl>
                                          <p:spTgt spid="5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1" dur="500"/>
                                        <p:tgtEl>
                                          <p:spTgt spid="5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5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5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5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5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8" dur="500"/>
                                        <p:tgtEl>
                                          <p:spTgt spid="5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1" dur="500"/>
                                        <p:tgtEl>
                                          <p:spTgt spid="5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5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5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5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5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8" dur="500"/>
                                        <p:tgtEl>
                                          <p:spTgt spid="5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5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5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unction Call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9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mechanism to direct the output token of the function to the proper calling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done by sending special token containing the return node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C605-A6EE-450D-880C-F3E7D64094F6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Loops and Function Calls Summar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19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519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CDB2-8EE6-4AE7-95B6-ED7FE49DE4C1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5" name="Picture 4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3581280" cy="5837400"/>
          </a:xfrm>
          <a:prstGeom prst="rect">
            <a:avLst/>
          </a:prstGeom>
          <a:ln w="0">
            <a:noFill/>
          </a:ln>
        </p:spPr>
      </p:pic>
      <p:pic>
        <p:nvPicPr>
          <p:cNvPr id="5196" name="Picture 5" descr=""/>
          <p:cNvPicPr/>
          <p:nvPr/>
        </p:nvPicPr>
        <p:blipFill>
          <a:blip r:embed="rId3"/>
          <a:stretch/>
        </p:blipFill>
        <p:spPr>
          <a:xfrm>
            <a:off x="4343400" y="1089000"/>
            <a:ext cx="4191120" cy="57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ntrol of Parallelism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98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Many loop iterations can be present in the machine at any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00K iterations on a 256 processor machine can swamp the machine (thrashing in token matching unit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enough bits to represent frame id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 Throttle loops. Control how many loop iterations can be in the machine at the same tim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quires changes to loop dataflow graph to inhibit token generation when number of iterations is greater than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083F-4105-4F7A-B1DD-5791B6FF7282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ome Required Dataflow Reading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83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flow at the ISA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nnis and Misunas, 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A Preliminary Architecture for a Basic Data Flow Process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ISCA 1974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vind and Nikhil, 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Executing a Program on the MIT Tagged-Token Dataflow Architectu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IEEE TC 199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ricted Data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att et al., 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HPS, a new microarchitecture: rationale and introdu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,” MICRO 198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att et al., 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Critical issues regarding HPS, a high performance microarchitectu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,” MICRO 198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BE0A-B3B6-4BA8-815E-82139552845D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Structur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0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flow by nature has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write-once seman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arc (token) represents a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c (token) gets transformed by a dataflow node into a new arc (token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persistent state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s as we know of them (in imperative languages) are structures with persistent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 we want persistent stat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re natural representation for some tasks? (bank accounts, databases, …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exploit locality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3967-AEBC-4E9A-9B4B-8572B7C5C582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12040" cy="1269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Structures in Dataflow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204" name="Group 25"/>
          <p:cNvGrpSpPr/>
          <p:nvPr/>
        </p:nvGrpSpPr>
        <p:grpSpPr>
          <a:xfrm>
            <a:off x="6224760" y="1452600"/>
            <a:ext cx="2831760" cy="1150920"/>
            <a:chOff x="6224760" y="1452600"/>
            <a:chExt cx="2831760" cy="1150920"/>
          </a:xfrm>
        </p:grpSpPr>
        <p:sp>
          <p:nvSpPr>
            <p:cNvPr id="5205" name="Rectangle 3"/>
            <p:cNvSpPr/>
            <p:nvPr/>
          </p:nvSpPr>
          <p:spPr>
            <a:xfrm>
              <a:off x="6224760" y="2101680"/>
              <a:ext cx="529920" cy="501840"/>
            </a:xfrm>
            <a:prstGeom prst="rect">
              <a:avLst/>
            </a:prstGeom>
            <a:solidFill>
              <a:srgbClr val="cc99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Rectangle 4"/>
            <p:cNvSpPr/>
            <p:nvPr/>
          </p:nvSpPr>
          <p:spPr>
            <a:xfrm>
              <a:off x="8526600" y="2101680"/>
              <a:ext cx="529920" cy="501840"/>
            </a:xfrm>
            <a:prstGeom prst="rect">
              <a:avLst/>
            </a:prstGeom>
            <a:solidFill>
              <a:srgbClr val="cc99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7" name="Rectangle 5"/>
            <p:cNvSpPr/>
            <p:nvPr/>
          </p:nvSpPr>
          <p:spPr>
            <a:xfrm>
              <a:off x="7301160" y="2152800"/>
              <a:ext cx="747000" cy="4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. . 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Rectangle 6"/>
            <p:cNvSpPr/>
            <p:nvPr/>
          </p:nvSpPr>
          <p:spPr>
            <a:xfrm>
              <a:off x="8604000" y="2184480"/>
              <a:ext cx="358200" cy="4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300" spc="-1" strike="noStrike">
                  <a:solidFill>
                    <a:srgbClr val="ffcc66"/>
                  </a:solidFill>
                  <a:latin typeface="Verdana"/>
                  <a:ea typeface="Arial"/>
                </a:rPr>
                <a:t>P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Rectangle 7"/>
            <p:cNvSpPr/>
            <p:nvPr/>
          </p:nvSpPr>
          <p:spPr>
            <a:xfrm>
              <a:off x="6302160" y="2197080"/>
              <a:ext cx="358200" cy="4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300" spc="-1" strike="noStrike">
                  <a:solidFill>
                    <a:srgbClr val="ffcc66"/>
                  </a:solidFill>
                  <a:latin typeface="Verdana"/>
                  <a:ea typeface="Arial"/>
                </a:rPr>
                <a:t>P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0" name="Rectangle 9"/>
            <p:cNvSpPr/>
            <p:nvPr/>
          </p:nvSpPr>
          <p:spPr>
            <a:xfrm>
              <a:off x="6262560" y="1452600"/>
              <a:ext cx="2740320" cy="557280"/>
            </a:xfrm>
            <a:prstGeom prst="rect">
              <a:avLst/>
            </a:prstGeom>
            <a:solidFill>
              <a:srgbClr val="cc99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300" spc="-1" strike="noStrike">
                  <a:solidFill>
                    <a:srgbClr val="ffcc66"/>
                  </a:solidFill>
                  <a:latin typeface="Verdana"/>
                  <a:ea typeface="Arial"/>
                </a:rPr>
                <a:t>Memor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7672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s reside in a structure st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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kens carry point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-structures: Write-once, Read multiple tim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cate, write, read, ..., read, deallocate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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problem if a reader arrives before the writer at the memory location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12" name="Group 24"/>
          <p:cNvGrpSpPr/>
          <p:nvPr/>
        </p:nvGrpSpPr>
        <p:grpSpPr>
          <a:xfrm>
            <a:off x="7035840" y="2771640"/>
            <a:ext cx="1280880" cy="1982520"/>
            <a:chOff x="7035840" y="2771640"/>
            <a:chExt cx="1280880" cy="1982520"/>
          </a:xfrm>
        </p:grpSpPr>
        <p:sp>
          <p:nvSpPr>
            <p:cNvPr id="5213" name="Rectangle 12"/>
            <p:cNvSpPr/>
            <p:nvPr/>
          </p:nvSpPr>
          <p:spPr>
            <a:xfrm>
              <a:off x="7035840" y="3431880"/>
              <a:ext cx="1280880" cy="658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Rectangle 14"/>
            <p:cNvSpPr/>
            <p:nvPr/>
          </p:nvSpPr>
          <p:spPr>
            <a:xfrm>
              <a:off x="7227720" y="3570120"/>
              <a:ext cx="105084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200" bIns="252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I-fet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Rectangle 16"/>
            <p:cNvSpPr/>
            <p:nvPr/>
          </p:nvSpPr>
          <p:spPr>
            <a:xfrm>
              <a:off x="7787520" y="2771640"/>
              <a:ext cx="30132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200" bIns="252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i="1" lang="en-US" sz="24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Line 17"/>
            <p:cNvSpPr/>
            <p:nvPr/>
          </p:nvSpPr>
          <p:spPr>
            <a:xfrm>
              <a:off x="7694640" y="2771640"/>
              <a:ext cx="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Line 18"/>
            <p:cNvSpPr/>
            <p:nvPr/>
          </p:nvSpPr>
          <p:spPr>
            <a:xfrm>
              <a:off x="7669080" y="4108320"/>
              <a:ext cx="0" cy="64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8" name="Group 23"/>
          <p:cNvGrpSpPr/>
          <p:nvPr/>
        </p:nvGrpSpPr>
        <p:grpSpPr>
          <a:xfrm>
            <a:off x="7059600" y="4930920"/>
            <a:ext cx="1230120" cy="1369440"/>
            <a:chOff x="7059600" y="4930920"/>
            <a:chExt cx="1230120" cy="1369440"/>
          </a:xfrm>
        </p:grpSpPr>
        <p:sp>
          <p:nvSpPr>
            <p:cNvPr id="5219" name="Rectangle 13"/>
            <p:cNvSpPr/>
            <p:nvPr/>
          </p:nvSpPr>
          <p:spPr>
            <a:xfrm>
              <a:off x="7059600" y="5654520"/>
              <a:ext cx="1230120" cy="645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Rectangle 15"/>
            <p:cNvSpPr/>
            <p:nvPr/>
          </p:nvSpPr>
          <p:spPr>
            <a:xfrm>
              <a:off x="7212240" y="5792760"/>
              <a:ext cx="106776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200" bIns="252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I-st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1" name="Line 19"/>
            <p:cNvSpPr/>
            <p:nvPr/>
          </p:nvSpPr>
          <p:spPr>
            <a:xfrm>
              <a:off x="7478640" y="4994280"/>
              <a:ext cx="0" cy="64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2" name="Line 20"/>
            <p:cNvSpPr/>
            <p:nvPr/>
          </p:nvSpPr>
          <p:spPr>
            <a:xfrm>
              <a:off x="7910280" y="4994280"/>
              <a:ext cx="0" cy="64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Rectangle 21"/>
            <p:cNvSpPr/>
            <p:nvPr/>
          </p:nvSpPr>
          <p:spPr>
            <a:xfrm>
              <a:off x="7063560" y="4981320"/>
              <a:ext cx="30132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200" bIns="252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i="1" lang="en-US" sz="24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4" name="Rectangle 22"/>
            <p:cNvSpPr/>
            <p:nvPr/>
          </p:nvSpPr>
          <p:spPr>
            <a:xfrm>
              <a:off x="7992360" y="4930920"/>
              <a:ext cx="2692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200" bIns="252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i="1" lang="en-US" sz="24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-Structur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226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522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FA3D-A988-48DE-801A-5FD9D4956753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8" name="Picture 4" descr=""/>
          <p:cNvPicPr/>
          <p:nvPr/>
        </p:nvPicPr>
        <p:blipFill>
          <a:blip r:embed="rId2"/>
          <a:stretch/>
        </p:blipFill>
        <p:spPr>
          <a:xfrm>
            <a:off x="343080" y="1155600"/>
            <a:ext cx="845820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ynamic Data Structur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3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-multiple-times data stru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you support them in a dataflow mach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n you implement a linked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ordering semantics for writes and read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erative vs. functional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ide effects and mutable stat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vs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o side effects and no mutable st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4C84-8B89-4092-8CC2-3B138BF827F7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MIT Tagged Token Data Flow Architectur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3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r Nod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sible for Function allocation (allocation of context/frame identifiers), Heap allocation, etc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5B52-6B62-47D5-B87E-2AE80FF81163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5" name="Picture 4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14664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MIT Tagged Token Data Flow Architectur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37" name=""/>
          <p:cNvSpPr txBox="1"/>
          <p:nvPr/>
        </p:nvSpPr>
        <p:spPr>
          <a:xfrm>
            <a:off x="5943600" y="996480"/>
            <a:ext cx="3200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−Match Unit: try to match incoming token and context id and a waiting token with same instruction addres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ccess: Both tokens forward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ail: Incoming token −−&gt; Waiting Token Mem, bubble (no-op forwarde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C4B8-BEC4-44B4-9F9E-1D8B721FC6AE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9" name="Picture 4" descr=""/>
          <p:cNvPicPr/>
          <p:nvPr/>
        </p:nvPicPr>
        <p:blipFill>
          <a:blip r:embed="rId1"/>
          <a:stretch/>
        </p:blipFill>
        <p:spPr>
          <a:xfrm>
            <a:off x="-76320" y="1143000"/>
            <a:ext cx="6019920" cy="50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TTDA Data Flow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241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524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5CE0-9109-4AE4-AF4A-708685DBF5BF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3" name="Picture 4" descr=""/>
          <p:cNvPicPr/>
          <p:nvPr/>
        </p:nvPicPr>
        <p:blipFill>
          <a:blip r:embed="rId2"/>
          <a:stretch/>
        </p:blipFill>
        <p:spPr>
          <a:xfrm>
            <a:off x="0" y="914400"/>
            <a:ext cx="5232240" cy="4572000"/>
          </a:xfrm>
          <a:prstGeom prst="rect">
            <a:avLst/>
          </a:prstGeom>
          <a:ln w="0">
            <a:noFill/>
          </a:ln>
        </p:spPr>
      </p:pic>
      <p:pic>
        <p:nvPicPr>
          <p:cNvPr id="5244" name="Picture 5" descr=""/>
          <p:cNvPicPr/>
          <p:nvPr/>
        </p:nvPicPr>
        <p:blipFill>
          <a:blip r:embed="rId3"/>
          <a:stretch/>
        </p:blipFill>
        <p:spPr>
          <a:xfrm>
            <a:off x="4876920" y="2286000"/>
            <a:ext cx="4267080" cy="18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TTDA Data Flow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246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524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5CAA-7066-482A-BFE3-A5F5343985D1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8" name="Picture 4" descr=""/>
          <p:cNvPicPr/>
          <p:nvPr/>
        </p:nvPicPr>
        <p:blipFill>
          <a:blip r:embed="rId2"/>
          <a:stretch/>
        </p:blipFill>
        <p:spPr>
          <a:xfrm>
            <a:off x="1295280" y="1066680"/>
            <a:ext cx="5931000" cy="51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TTDA Data Flow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250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525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95E6-1B19-41BE-B77A-EE02D69B216C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2" name="Picture 4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3791160" cy="4878360"/>
          </a:xfrm>
          <a:prstGeom prst="rect">
            <a:avLst/>
          </a:prstGeom>
          <a:ln w="0">
            <a:noFill/>
          </a:ln>
        </p:spPr>
      </p:pic>
      <p:pic>
        <p:nvPicPr>
          <p:cNvPr id="5253" name="Picture 5" descr=""/>
          <p:cNvPicPr/>
          <p:nvPr/>
        </p:nvPicPr>
        <p:blipFill>
          <a:blip r:embed="rId3"/>
          <a:stretch/>
        </p:blipFill>
        <p:spPr>
          <a:xfrm>
            <a:off x="4343400" y="914400"/>
            <a:ext cx="4800600" cy="54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TTDA Synchroniz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55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p memory locations have FULL/EMPTY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heap location is EMPTY,  heap memory module queues request at that location When "I−Fetch" request arrives (instead of "Fetch"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r, when "I−Store" arrives, pending requests are dischar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busy wa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tra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EC50-D177-4FAA-9E3A-1A2743515C93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7" name="Picture 4" descr=""/>
          <p:cNvPicPr/>
          <p:nvPr/>
        </p:nvPicPr>
        <p:blipFill>
          <a:blip r:embed="rId1"/>
          <a:stretch/>
        </p:blipFill>
        <p:spPr>
          <a:xfrm>
            <a:off x="4038480" y="3200400"/>
            <a:ext cx="4496040" cy="29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Other Related Recommended Reading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86" name=""/>
          <p:cNvSpPr txBox="1"/>
          <p:nvPr/>
        </p:nvSpPr>
        <p:spPr>
          <a:xfrm>
            <a:off x="228600" y="901800"/>
            <a:ext cx="87631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695160" indent="-3427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urd et al., 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The Manchester prototype dataflow compu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CACM 198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695160" indent="-3427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ee and Hurson, 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Dataflow Architectures and Multithread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,” IEEE Computer 1994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ricted Data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ankaralingam et al., 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Exploiting ILP, TLP and DLP with the Polymorphous TRIPS Architectu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ISCA 2003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urger et al., 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Scaling to the End of Silicon with EDGE Architectur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IEEE Computer 2004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9014-9231-4167-849D-18162772BBB9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anchester Data Flow Mach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259" name="Picture 2" descr=""/>
          <p:cNvPicPr/>
          <p:nvPr/>
        </p:nvPicPr>
        <p:blipFill>
          <a:blip r:embed="rId1"/>
          <a:srcRect l="0" t="-2040" r="0" b="-2040"/>
          <a:stretch/>
        </p:blipFill>
        <p:spPr>
          <a:xfrm>
            <a:off x="228600" y="1371600"/>
            <a:ext cx="4229280" cy="4876920"/>
          </a:xfrm>
          <a:prstGeom prst="rect">
            <a:avLst/>
          </a:prstGeom>
          <a:ln w="0">
            <a:noFill/>
          </a:ln>
        </p:spPr>
      </p:pic>
      <p:sp>
        <p:nvSpPr>
          <p:cNvPr id="5260" name=""/>
          <p:cNvSpPr txBox="1"/>
          <p:nvPr/>
        </p:nvSpPr>
        <p:spPr>
          <a:xfrm>
            <a:off x="460980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ching Store: Pairs together tokens destined for the same instr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data se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verflow in overflow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ired tokens fetch the appropriate instruction from the node st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8C35-60E7-4956-B2FF-638504E768B4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low Summar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6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ility of data determines order of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ta flow node fires when its sources ar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represented as data flow graphs (of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at the ISA level has not been (as) success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mplementations under the hood (while preserving sequential ISA semantics) have been success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 of order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wu and Patt, 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HPSm, a high performance restricted data flow architecture having minimal functiona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ISCA 1986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6866-C313-4BAE-9AF8-9E55F8E54719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low Characteristic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66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-driven execution of instruction-level graphical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des are operat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cs are data (I/O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opposed to control-driven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real dependencies constrain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equential I-stre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program coun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s execute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 triggered by the presenc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ssignment languages and functional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.g., SISAL in Manchester Data Flow Compu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o mutable st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7074-4B23-488E-99C0-00961AE9F955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low Advantages/Disadvantag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69" name=""/>
          <p:cNvSpPr txBox="1"/>
          <p:nvPr/>
        </p:nvSpPr>
        <p:spPr>
          <a:xfrm>
            <a:off x="228600" y="837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good at exploiting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irregular parallelis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real dependencies constrain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bugging difficult (no precise stat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91440" indent="-340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/exception handling is difficult (what is precise state semantics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ing dynamic data structures difficult in pure data flow mode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o much parallelism? (Parallelism control neede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gh bookkeeping overhead (tag matching, data storag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ruction cycle is inefficient (delay between dependent instructions), memory locality is not exploi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2826-96DE-49B9-9065-931011C645A5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mbining Data Flow and Control Flow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72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get the best of both world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possi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el 1: Keep control flow at the ISA level, do dataflow underneath, preserving sequential semantic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el 2: Keep dataflow model, but incorporate control flow at the ISA level to improve efficiency, exploit locality, and ease resource manag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orporate threads into dataflow: statically ordered instructions; when the first instruction is fired, the remaining instructions execute without interru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66FA-CA62-4D56-9C4F-5056BCB00D3F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Toda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8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Dataflo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BE8E-4D14-4A8A-93F1-BD679342FA32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1" name="PlaceHolder 1"/>
          <p:cNvSpPr>
            <a:spLocks noGrp="1"/>
          </p:cNvSpPr>
          <p:nvPr>
            <p:ph type="title"/>
          </p:nvPr>
        </p:nvSpPr>
        <p:spPr>
          <a:xfrm>
            <a:off x="366480" y="1828800"/>
            <a:ext cx="842796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low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92" name="PlaceHolder 2"/>
          <p:cNvSpPr>
            <a:spLocks noGrp="1"/>
          </p:cNvSpPr>
          <p:nvPr>
            <p:ph type="subTitle"/>
          </p:nvPr>
        </p:nvSpPr>
        <p:spPr>
          <a:xfrm>
            <a:off x="304560" y="3580920"/>
            <a:ext cx="845820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adings: Data Flow (I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94" name=""/>
          <p:cNvSpPr txBox="1"/>
          <p:nvPr/>
        </p:nvSpPr>
        <p:spPr>
          <a:xfrm>
            <a:off x="228600" y="91404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nis and Misunas, “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 Preliminary Architecture for a Basic Data Flow Process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” ISCA 1974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leaven et al., “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ata-Driven and Demand-Driven Computer Architec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” ACM Computing Surveys 198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en, “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ataflow Machine Architec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” ACM Computing Surveys 198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rd et al., “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e Manchester prototype dataflow compu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” CACM 198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vind and Nikhil, “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Executing a Program on the MIT Tagged-Token Dataflow Architec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” IEEE TC 199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t et al., “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PS, a new microarchitecture: rationale and introdu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” MICRO 198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e and Hurson, “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ataflow Architectures and Multithrea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” IEEE Computer 1994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480" indent="-295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480" indent="-295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EBD8-6334-4B65-B9BD-51637B9F74B1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adings: Data Flow (II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9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nkaralingam et al., “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Exploiting ILP, TLP and DLP with the Polymorphous TRIPS Architec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” ISCA 200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ger et al., “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caling to the End of Silicon with EDGE Architectur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” IEEE Computer 2004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C1A3-000F-466B-AA4C-1D52929EF92B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low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0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odels we have examined in 447/740 all assu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ructions are fetched and retired in sequential, control flow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part of the Von-Neumann model of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gle program coun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quential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Control flow determines fetch, execution, commit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bout out-of-order exec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chitecture level: Obeys the control-flow mod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arch level: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A window of instructions executed in data-flow order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xecute an instruction when its operands become avail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CAB9-C37D-4999-894B-996898D167AD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5:22:34Z</dcterms:created>
  <dc:creator>Onur Mutlu</dc:creator>
  <dc:description/>
  <dc:language>en-US</dc:language>
  <cp:lastModifiedBy>Onur Mutlu</cp:lastModifiedBy>
  <cp:lastPrinted>2010-01-20T20:33:06Z</cp:lastPrinted>
  <dcterms:modified xsi:type="dcterms:W3CDTF">2013-10-31T18:15:52Z</dcterms:modified>
  <cp:revision>326</cp:revision>
  <dc:subject/>
  <dc:title>18-741  Advanced Computer Architecture Lecture 1: Intro and Basics</dc:title>
</cp:coreProperties>
</file>